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724-DF01-4947-B7C6-73CE250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FD1-A58D-4697-A8E2-070AD808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B8B-C400-4C19-952E-9083740C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554-992A-424A-81AB-0638D3CF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31B-B62D-4BD1-89B1-0B600B2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B4A-50C1-4A4E-8FCA-E18F26E0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B52-534D-4E66-80D4-9FD3EAF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D0B-3321-44A5-9B2A-89CC7347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F8C-28E3-40B2-83A9-F496590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EDF-CBE4-4B1F-94AE-6106EDD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9CD-6D79-4CFD-902E-E57A953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6AC-42B3-4A28-A7B7-1474B1F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753D-9631-49FC-A889-5CF74AB9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15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udio música maya “Keet Kew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5335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mplo de la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14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la Plaz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s estudiosos estiman que en su máximo apogeo, tuvo una población de 100.000 a 150.000 habita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85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osperó principalmente durante el período clásico maya, aproximadamente de 200 a 850, después del cual no se construyeron monumentos mayores, algunos palacios de la élite fueron quemados, y la población gradualmente decayó hasta que el sitio fue abandonado a finales del siglo X.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470520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3c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243000"/>
            <a:ext cx="4762800" cy="637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520" y="600120"/>
            <a:ext cx="9048960" cy="5657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79200">
            <a:solidFill>
              <a:srgbClr val="ffffff"/>
            </a:solidFill>
            <a:miter/>
          </a:ln>
        </p:spPr>
      </p:pic>
    </p:spTree>
  </p:cSld>
  <p:transition>
    <p:cover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77800"/>
            <a:ext cx="9144000" cy="5702400"/>
          </a:xfrm>
          <a:prstGeom prst="rect">
            <a:avLst/>
          </a:prstGeom>
          <a:ln w="82440">
            <a:solidFill>
              <a:srgbClr val="000000"/>
            </a:solidFill>
            <a:miter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515304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572000" cy="6095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572000" cy="6095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362320" y="6400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 templo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4572000" cy="609624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1066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mplo El Gran Jagu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4e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703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Tikal fue uno de los principales centros culturales y poblacionales de la civilización maya. La tumba del posible fundador de la dinastía Yax Ehb' Xook data del año 60, aunque muestra ocupación desde 600 a. C. según hallazgos en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Mundo Perdid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la parte más antigua de la ciudad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162920" y="5638680"/>
            <a:ext cx="8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057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211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z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0:27:35Z</dcterms:created>
  <dc:creator>Eliza Torres</dc:creator>
  <dc:description/>
  <dc:language>en-US</dc:language>
  <cp:lastModifiedBy>Oswaldo</cp:lastModifiedBy>
  <dcterms:modified xsi:type="dcterms:W3CDTF">2010-01-06T00:13:29Z</dcterms:modified>
  <cp:revision>13</cp:revision>
  <dc:subject/>
  <dc:title>Presentación de PowerPoint</dc:title>
</cp:coreProperties>
</file>