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EE5E-2E8D-4681-9601-B7AD60CE4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5B8B-0428-495C-9592-BAD6EB57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13F6-7BD0-49A3-A108-E431E2A7A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6844-9DD7-4112-8B5F-ED2949934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EFCD-0DB9-4BDE-BB37-6C268C61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3EF1-5125-4C5F-96D6-90612332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1BD1-E2BF-4AF4-A487-AD044664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8A87-5BCE-4FB4-B276-681EF123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15F6-046F-42C7-9ADD-87B2B3A1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C8FA-5669-4957-AA5E-B7C7A2FF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DB04-69E6-4EFB-88DD-CAE4E109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9B43-B47F-4A4D-AA55-31875C71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B830-7D23-408B-AC68-72B9881D4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304920"/>
            <a:ext cx="9753840" cy="715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90720" y="5638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Audio música maya “Keet Kewe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781200"/>
            <a:ext cx="9144000" cy="60768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19520" y="5335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mplo de la L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1143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 la Plaza 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44280">
            <a:solidFill>
              <a:srgbClr val="ffffff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40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51055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s estudiosos estiman que en su máximo apogeo, tuvo una población de 100.000 a 150.000 habita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8580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Prosperó principalmente durante el período clásico maya, aproximadamente de 200 a 850, después del cual no se construyeron monumentos mayores, algunos palacios de la élite fueron quemados, y la población gradualmente decayó hasta que el sitio fue abandonado a finales del siglo X.</a:t>
            </a: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076400"/>
            <a:ext cx="9144000" cy="4705200"/>
          </a:xfrm>
          <a:prstGeom prst="rect">
            <a:avLst/>
          </a:prstGeom>
          <a:ln w="44280">
            <a:solidFill>
              <a:srgbClr val="ffffff"/>
            </a:solidFill>
            <a:miter/>
          </a:ln>
        </p:spPr>
      </p:pic>
    </p:spTree>
  </p:cSld>
  <p:transition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3c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47520">
            <a:solidFill>
              <a:srgbClr val="ffffff"/>
            </a:solidFill>
            <a:miter/>
          </a:ln>
        </p:spPr>
      </p:pic>
    </p:spTree>
  </p:cSld>
  <p:transition>
    <p:push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664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90600" y="243000"/>
            <a:ext cx="4762800" cy="637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40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7520" y="600120"/>
            <a:ext cx="9048960" cy="565776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40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79200">
            <a:solidFill>
              <a:srgbClr val="ffffff"/>
            </a:solidFill>
            <a:miter/>
          </a:ln>
        </p:spPr>
      </p:pic>
    </p:spTree>
  </p:cSld>
  <p:transition>
    <p:cover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577800"/>
            <a:ext cx="9144000" cy="5702400"/>
          </a:xfrm>
          <a:prstGeom prst="rect">
            <a:avLst/>
          </a:prstGeom>
          <a:ln w="82440">
            <a:solidFill>
              <a:srgbClr val="000000"/>
            </a:solidFill>
            <a:miter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40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40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p:transition>
    <p:push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852480"/>
            <a:ext cx="9144000" cy="5153040"/>
          </a:xfrm>
          <a:prstGeom prst="rect">
            <a:avLst/>
          </a:prstGeom>
          <a:ln w="88920">
            <a:solidFill>
              <a:srgbClr val="000000"/>
            </a:solidFill>
            <a:miter/>
          </a:ln>
        </p:spPr>
      </p:pic>
    </p:spTree>
  </p:cSld>
  <p:transition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0" y="304920"/>
            <a:ext cx="4572000" cy="609588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4572000" cy="609588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2362320" y="64008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l templo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343400" y="380880"/>
            <a:ext cx="4572000" cy="6096240"/>
          </a:xfrm>
          <a:prstGeom prst="rect">
            <a:avLst/>
          </a:prstGeom>
          <a:ln w="442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648320" y="10666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mplo El Gran Jagu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4e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47032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Tikal fue uno de los principales centros culturales y poblacionales de la civilización maya. La tumba del posible fundador de la dinastía Yax Ehb' Xook data del año 60, aunque muestra ocupación desde 600 a. C. según hallazgos en </a:t>
            </a: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Mundo Perdido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, la parte más antigua de la ciudad.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7162920" y="5638680"/>
            <a:ext cx="8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liz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90576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9982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12114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laza 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533520" y="0"/>
            <a:ext cx="967752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20:27:35Z</dcterms:created>
  <dc:creator>Eliza Torres</dc:creator>
  <dc:description/>
  <dc:language>en-US</dc:language>
  <cp:lastModifiedBy>Oswaldo</cp:lastModifiedBy>
  <dcterms:modified xsi:type="dcterms:W3CDTF">2010-01-06T00:13:29Z</dcterms:modified>
  <cp:revision>13</cp:revision>
  <dc:subject/>
  <dc:title>Presentación de PowerPoint</dc:title>
</cp:coreProperties>
</file>