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10%20No%20Bravery.pps.wav" ContentType="audio/x-wav"/>
  <Override PartName="/ppt/media/image56.jpeg" ContentType="image/jpeg"/>
  <Override PartName="/ppt/media/image4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0.jpeg" ContentType="image/jpeg"/>
  <Override PartName="/ppt/media/image13.jpeg" ContentType="image/jpeg"/>
  <Override PartName="/ppt/media/image41.jpeg" ContentType="image/jpeg"/>
  <Override PartName="/ppt/media/image61.gif" ContentType="image/gif"/>
  <Override PartName="/ppt/media/image14.jpeg" ContentType="image/jpeg"/>
  <Override PartName="/ppt/media/image20.jpeg" ContentType="image/jpeg"/>
  <Override PartName="/ppt/media/image15.jpeg" ContentType="image/jpeg"/>
  <Override PartName="/ppt/media/image60.png" ContentType="image/png"/>
  <Override PartName="/ppt/media/image6.jpeg" ContentType="image/jpeg"/>
  <Override PartName="/ppt/media/image45.jpeg" ContentType="image/jpeg"/>
  <Override PartName="/ppt/media/image62.gif" ContentType="image/gif"/>
  <Override PartName="/ppt/media/image21.jpeg" ContentType="image/jpeg"/>
  <Override PartName="/ppt/media/image16.jpeg" ContentType="image/jpeg"/>
  <Override PartName="/ppt/media/image19.jpeg" ContentType="image/jpeg"/>
  <Override PartName="/ppt/media/image5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50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7565-DF0A-4A43-9BAE-FA34F5A40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C921-9BF7-4BE8-9100-FA5B2FB7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F98F-C1EB-4CF5-98F3-D5AF6706F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BB67-1C6A-4D16-974A-978C54DC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E99F-1FD0-4BB0-8618-EE19F30E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C96F-9AEA-4950-BA7E-5030EA02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7C02-2399-4FDF-BDBE-62A3D987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48E6-A977-4883-BAD5-DADAD2A0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AD52-03FA-404E-A561-CA561A71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D2EC-9D73-4E88-B298-5A2973B5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01B5-9939-4C1B-A51F-CB37BDBD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DB2D-4B75-4FCF-84E8-EB5C9531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93FF-675A-42DE-98EE-56AB006F5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10%20No%20Bravery.pp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png"/><Relationship Id="rId3" Type="http://schemas.openxmlformats.org/officeDocument/2006/relationships/image" Target="../media/image61.gif"/><Relationship Id="rId4" Type="http://schemas.openxmlformats.org/officeDocument/2006/relationships/image" Target="../media/image61.gif"/><Relationship Id="rId5" Type="http://schemas.openxmlformats.org/officeDocument/2006/relationships/image" Target="../media/image62.gif"/><Relationship Id="rId6" Type="http://schemas.openxmlformats.org/officeDocument/2006/relationships/image" Target="../media/image62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cj\Bureau\Australie\ausztralia-0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9280" y="1197000"/>
            <a:ext cx="8736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800" spc="-1" strike="noStrike">
                <a:solidFill>
                  <a:srgbClr val="ffffff"/>
                </a:solidFill>
                <a:latin typeface="Harrington"/>
              </a:rPr>
              <a:t>Tour d ’Australi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10%20No%20Bravery.pp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cj\Bureau\Australie\Koal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197840" y="142920"/>
            <a:ext cx="1803240" cy="1625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304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Chutes Beauchamp - Vic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Documents and Settings\cj\Bureau\Australie\premiere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4920" y="62434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Melbourne - Vic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197840" y="142920"/>
            <a:ext cx="1803240" cy="162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Documents and Settings\cj\Bureau\Australie\Dove_Lake_és_a_Cradle_Mountain-Tasmán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197840" y="5110200"/>
            <a:ext cx="1803240" cy="1625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4920" y="3049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Dove Lake - Tasm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4920" y="304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Harrington"/>
              </a:rPr>
              <a:t>Cradle Mountains - Tasm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Documents and Settings\cj\Bureau\Australie\Tasmán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4920" y="624348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Côte de Tasm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04920" y="3049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Maria Island - Tasm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197840" y="142920"/>
            <a:ext cx="1803240" cy="162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cj\Bureau\Australie\Sydne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105520" y="30492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Sydney - New South W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803240" cy="162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4920" y="3049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Toits de l ’Opéra de Syd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cj\Bureau\Australie\Mészkooszlopok-Pinnacles-sivatag-Nambung_Nemzeti_Par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624348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Pinnacles - Western 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197840" y="142920"/>
            <a:ext cx="1803240" cy="162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Documents and Settings\cj\Bureau\Australie\Sydney_Operahá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920" y="62434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Opéra de Sydney et Harbour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12880" y="-533520"/>
            <a:ext cx="5715000" cy="7620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876920" y="3049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Sydney T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Documents and Settings\cj\Bureau\Australie\Sydney_kikötoj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920" y="3049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Harbour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Documents and Settings\cj\Bureau\Australie\Coffs_Harbour_Ausztralia_móló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4920" y="3049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Coffs Harbour - New South W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197840" y="142920"/>
            <a:ext cx="1803240" cy="162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Documents and Settings\cj\Bureau\Australie\Brisbane-Queensla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624348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Brisbane - Queens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803240" cy="162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Documents and Settings\cj\Bureau\Australie\Noosa_Nemzeti_Park-Queensla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105520" y="62434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Noosa Heads - Queens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197840" y="142920"/>
            <a:ext cx="1803240" cy="162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:\Documents and Settings\cj\Bureau\Australie\Vörös_óriáskengur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04920" y="3049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Grande Barrière de corail - Queens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197840" y="142920"/>
            <a:ext cx="1803240" cy="162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920" y="30492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Mc Laren Vale - South 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2920" y="5110200"/>
            <a:ext cx="1803240" cy="162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4920" y="624348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Heart Reef - Grande Barrière de corail - Queens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Documents and Settings\cj\Bureau\Australie\Port_Douglas_közelébe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4920" y="30492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Port Douglas - Queens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197840" y="142920"/>
            <a:ext cx="1803240" cy="162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04920" y="3049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Rainbow lorik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Documents and Settings\cj\Bureau\Australie\Ayers_Rock-Uluru-Kata_Tjuta_Nemzeti_Par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04920" y="3049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Uluru - Northern Territ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197840" y="142920"/>
            <a:ext cx="1803240" cy="162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04920" y="624348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Les Olgas - Northern terr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197840" y="5110200"/>
            <a:ext cx="1803240" cy="162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04920" y="3049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Diable cornu - Northern Terr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04920" y="30492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Harrington"/>
              </a:rPr>
              <a:t>Spinifex - végétation de l ’Out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cj\Bureau\Australie\A_Tizenkét_Apostol-Port_Campbell_Nemzeti_Park-Viktór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197840" y="5110200"/>
            <a:ext cx="180324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304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Les 12 Apôtres - Vic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4920" y="304920"/>
            <a:ext cx="48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Devil ’s Marble - Northern Terr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197840" y="142920"/>
            <a:ext cx="1803240" cy="162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51080" y="0"/>
            <a:ext cx="46404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243480" y="30492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Jim Jim Falls - Kakadu NP - Northern Terr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42920" y="5110200"/>
            <a:ext cx="1803240" cy="162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grpSp>
        <p:nvGrpSpPr>
          <p:cNvPr id="136" name=""/>
          <p:cNvGrpSpPr/>
          <p:nvPr/>
        </p:nvGrpSpPr>
        <p:grpSpPr>
          <a:xfrm>
            <a:off x="1403280" y="5921280"/>
            <a:ext cx="6337440" cy="936720"/>
            <a:chOff x="1403280" y="5921280"/>
            <a:chExt cx="6337440" cy="936720"/>
          </a:xfrm>
        </p:grpSpPr>
        <p:sp>
          <p:nvSpPr>
            <p:cNvPr id="137" name=""/>
            <p:cNvSpPr/>
            <p:nvPr/>
          </p:nvSpPr>
          <p:spPr>
            <a:xfrm>
              <a:off x="1403280" y="5921280"/>
              <a:ext cx="6337440" cy="936720"/>
            </a:xfrm>
            <a:prstGeom prst="octagon">
              <a:avLst>
                <a:gd name="adj" fmla="val 29287"/>
              </a:avLst>
            </a:prstGeom>
            <a:blipFill rotWithShape="0">
              <a:blip r:embed="rId2">
                <a:alphaModFix amt="48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2556000" y="6308640"/>
              <a:ext cx="4533840" cy="343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latin typeface="Poor Richard"/>
                </a:rPr>
                <a:t>www.free-powerpoints.goedbegin.be</a:t>
              </a:r>
              <a:endPara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  <a:ea typeface="Poor Richard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1692360" y="6093000"/>
              <a:ext cx="5952960" cy="199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latin typeface="Bookman Old Style"/>
                </a:rPr>
                <a:t>voor meer dan 2500 Powerpoints, click op onderstaande hyperlink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  <a:ea typeface="Bookman Old Style"/>
              </a:endParaRPr>
            </a:p>
          </p:txBody>
        </p:sp>
      </p:grp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cj\Bureau\Australie\Viktória_állam_partvidék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343400" y="3049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12 Apôtres et Razorback - Vic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30492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Harrington"/>
              </a:rPr>
              <a:t>Les 12 Apôtres - Vic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cj\Bureau\Australie\ausztralia-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920" y="3049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Fougères arborescentes - Vic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197840" y="5110200"/>
            <a:ext cx="1803240" cy="162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4920" y="3049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Fairy Cove - Vic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197840" y="142920"/>
            <a:ext cx="1803240" cy="162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4920" y="3049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Hopetoun falls - Vic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197840" y="142920"/>
            <a:ext cx="1803240" cy="162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07:52Z</dcterms:created>
  <dc:creator>SMJ</dc:creator>
  <dc:description/>
  <dc:language>en-US</dc:language>
  <cp:lastModifiedBy>Smets</cp:lastModifiedBy>
  <dcterms:modified xsi:type="dcterms:W3CDTF">2011-12-27T03:24:42Z</dcterms:modified>
  <cp:revision>24</cp:revision>
  <dc:subject/>
  <dc:title>Aucun titre de diapositive</dc:title>
</cp:coreProperties>
</file>