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10%20No%20Bravery.pps.wav" ContentType="audio/x-wav"/>
  <Override PartName="/ppt/media/image5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61.gif" ContentType="image/gif"/>
  <Override PartName="/ppt/media/image14.jpeg" ContentType="image/jpeg"/>
  <Override PartName="/ppt/media/image20.jpeg" ContentType="image/jpeg"/>
  <Override PartName="/ppt/media/image15.jpeg" ContentType="image/jpeg"/>
  <Override PartName="/ppt/media/image60.png" ContentType="image/png"/>
  <Override PartName="/ppt/media/image6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189-4603-40BF-9DD6-11639534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DD6-7F6B-47DF-A505-11D3E8A4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FFE-473E-44ED-85F9-B0B2B098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997-F91E-49CF-9A04-08B7C3EC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99F-651C-4CBC-BA96-8D8C4320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4F5-A5C0-41D5-ABBA-3C8E1C52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46F-5FFE-4E35-820F-9CBEF3F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CA9-03E9-4199-B90A-1C7F7794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29A-BA7D-4A6F-943B-9FFA1840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030-9B48-45D2-923B-9E2A131F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0BA-EC5D-41CA-9860-086721B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977-174E-4FB5-83B4-57E0397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112D-4C35-431F-AF16-AA4178772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0%20No%20Bravery.pp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gif"/><Relationship Id="rId4" Type="http://schemas.openxmlformats.org/officeDocument/2006/relationships/image" Target="../media/image61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j\Bureau\Australie\ausztralia-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1197000"/>
            <a:ext cx="873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ffffff"/>
                </a:solidFill>
                <a:latin typeface="Harrington"/>
              </a:rPr>
              <a:t>Tour d ’Australi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10%20No%20Bravery.pp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cj\Bureau\Australie\Koa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Chutes Beauchamp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cj\Bureau\Australie\premier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62434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Melbourne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cj\Bureau\Australie\Dove_Lake_és_a_Cradle_Mountain-Tasmá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197840" y="5110200"/>
            <a:ext cx="1803240" cy="1625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04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Dove Lake - Tas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Harrington"/>
              </a:rPr>
              <a:t>Cradle Mountains - Tasm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cj\Bureau\Australie\Tasmá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6243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Côte de Tasm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304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Maria Island - Tasm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cj\Bureau\Australie\Sydn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05520" y="30492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Sydney - New South W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304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Toits de l ’Opéra de Sy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j\Bureau\Australie\Mészkooszlopok-Pinnacles-sivatag-Nambung_Nemzeti_Par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62434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Pinnacles - Western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cj\Bureau\Australie\Sydney_Operahá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6243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Opéra de Sydney et Harbour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12880" y="-533520"/>
            <a:ext cx="5715000" cy="7620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876920" y="304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Sydney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cj\Bureau\Australie\Sydney_kikötoj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304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Harbour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cj\Bureau\Australie\Coffs_Harbour_Ausztralia_mól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3049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Coffs Harbour - New South W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cj\Bureau\Australie\Brisbane-Queen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62434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Brisbane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cj\Bureau\Australie\Noosa_Nemzeti_Park-Queen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05520" y="6243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Noosa Heads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cj\Bureau\Australie\Vörös_óriáskengur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304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Grande Barrière de corail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3049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Mc Laren Vale - South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2920" y="511020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243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Heart Reef - Grande Barrière de corail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cj\Bureau\Australie\Port_Douglas_közeléb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3049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Port Douglas - Queen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304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Rainbow lorik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cj\Bureau\Australie\Ayers_Rock-Uluru-Kata_Tjuta_Nemzeti_Par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304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Uluru - Northern Terri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20" y="62434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Les Olgas - Northern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197840" y="511020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3049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Diable cornu - Northern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3049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Harrington"/>
              </a:rPr>
              <a:t>Spinifex - végétation de l ’Out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cj\Bureau\Australie\A_Tizenkét_Apostol-Port_Campbell_Nemzeti_Park-Viktór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97840" y="5110200"/>
            <a:ext cx="180324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304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Les 12 Apôtres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304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Devil ’s Marble - Northern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51080" y="0"/>
            <a:ext cx="46404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243480" y="3049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Jim Jim Falls - Kakadu NP - Northern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2920" y="511020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137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cj\Bureau\Australie\Viktória_állam_partvidé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34340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12 Apôtres et Razorback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3049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Harrington"/>
              </a:rPr>
              <a:t>Les 12 Apôtres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cj\Bureau\Australie\ausztralia-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Fougères arborescentes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97840" y="511020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Fairy Cove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049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arrington"/>
              </a:rPr>
              <a:t>Hopetoun falls - Vi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97840" y="142920"/>
            <a:ext cx="180324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07:52Z</dcterms:created>
  <dc:creator>SMJ</dc:creator>
  <dc:description/>
  <dc:language>en-US</dc:language>
  <cp:lastModifiedBy>Smets</cp:lastModifiedBy>
  <dcterms:modified xsi:type="dcterms:W3CDTF">2011-12-27T03:24:42Z</dcterms:modified>
  <cp:revision>24</cp:revision>
  <dc:subject/>
  <dc:title>Aucun titre de diapositive</dc:title>
</cp:coreProperties>
</file>