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E44-5B41-4B71-BF25-BB245BD5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BAC-3333-4A9F-8A7E-E9D0385B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871-F621-4D0E-B3B4-099440A0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B8C-391B-4156-859E-6F7AF564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CD0-8598-4A24-942E-62DA5E22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8D5-1CAE-4206-80BF-CAEACC22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D9D-C6EE-4B4E-82EB-485C453F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BEB-79E2-467E-B3C9-B3B5CC8B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51E-6A8A-4EBF-928E-23DD5179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4D8-8B1D-48DE-9A14-3924585D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D48-DCF3-4D87-BF71-1629737C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98A-EDBC-45BA-ADF9-E666DB3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B013-D651-40D3-A006-E67DEA99A9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5:15:46Z</dcterms:modified>
  <cp:revision>25</cp:revision>
  <dc:subject/>
  <dc:title>슬라이드 1</dc:title>
</cp:coreProperties>
</file>