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CA34-F834-4873-8478-7922AF3F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DF06-E2B9-48E1-934D-5A120D4D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CDA9-B511-436D-8568-3E9583FE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91A8-767C-40D2-A49B-A1AF3448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7068-0DFB-4521-870E-8B2F3CFC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EBE6-6BB0-4186-9A89-9EBF73FE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F4D2-30C4-4FE8-87D7-962B0599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CECC-4E97-443D-BB2A-15AA081F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78F4-238D-4724-A238-C9516CFF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F200-CBAF-4D0D-A84A-82558349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04AF-943E-4780-B3EF-F9D1B2BF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1D81-2C8D-49D8-B1D3-8A97A34F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2BA3-5F84-43D5-9F45-A13CDA75391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그림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1-03-09T05:15:46Z</dcterms:modified>
  <cp:revision>25</cp:revision>
  <dc:subject/>
  <dc:title>슬라이드 1</dc:title>
</cp:coreProperties>
</file>