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E3B-6428-41EE-83AA-F3B20309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431-353D-4D4A-BC17-6778E28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99E-7D7F-49CD-8E81-25D140B4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679-0FD8-4643-806E-0AC0F4F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5B0-3375-4AFB-9192-E88BEC67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D37-3591-4A0F-AF3B-96A432D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B0C-567C-44C2-B0EF-EB5EB2C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640-3366-4CEC-90C7-68A52F4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67B-1811-4A32-B46C-20534FF0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1AC-5A87-46BB-92E2-632023C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9CD-5799-4CE1-BAD1-CBA169B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E51-A329-4FD7-A8BF-F8D7C7C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7370F-E25F-47B4-BE00-24459B6910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E6B6C-08DB-4335-833F-650C9FB1EC9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8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9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8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9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8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9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6:23:07Z</dcterms:created>
  <dc:creator>최봉수</dc:creator>
  <dc:description/>
  <dc:language>en-US</dc:language>
  <cp:lastModifiedBy>맛있다 군만두</cp:lastModifiedBy>
  <dcterms:modified xsi:type="dcterms:W3CDTF">2024-09-24T08:29:45Z</dcterms:modified>
  <cp:revision>6</cp:revision>
  <dc:subject/>
  <dc:title>슬라이드 1</dc:title>
</cp:coreProperties>
</file>