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573-A40D-4399-B347-D897DBAC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DC3-9767-4831-B70F-6D780AA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61C-662D-4E57-BC6A-044A77F3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09A-CF50-428B-B6E7-5CCF7961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FF9-6FE7-4978-B0CC-465C052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FF6-D94D-4C61-89DE-2ED420F7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61A-8F08-472B-8D48-3151865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8BD-36A1-4F77-8840-5B600CE7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B43-1E5D-4623-803A-BC4EC3A6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1AD-9B48-4759-A503-FE771F9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A95-2648-4B07-8C83-F7F92B3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FB9-2C63-4185-917A-6304F0A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3778C-5B29-4E72-945D-D2C04EB582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59192-D870-49CE-9005-D2B81D7EA4B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8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9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8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9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6:23:07Z</dcterms:created>
  <dc:creator>최봉수</dc:creator>
  <dc:description/>
  <dc:language>en-US</dc:language>
  <cp:lastModifiedBy>맛있다 군만두</cp:lastModifiedBy>
  <dcterms:modified xsi:type="dcterms:W3CDTF">2024-09-24T08:29:45Z</dcterms:modified>
  <cp:revision>6</cp:revision>
  <dc:subject/>
  <dc:title>슬라이드 1</dc:title>
</cp:coreProperties>
</file>