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28CC-1F2E-4242-BC4B-B435F53A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5431-D681-4F88-8DF3-C62EFDDD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A7A1-CF8D-49D1-A90E-EF03F5CB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F662-A7A4-4214-A61E-F19D8506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E2E1-92BD-4F3E-A197-C96B1290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1014-B5D1-42E7-BFDD-A5E634FA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453E-3D26-4423-B40F-A41338BB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8F64-3518-4E41-B196-91B54DF4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C5EE-6CEF-4C70-90FD-01EDBD32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9753-BC35-4FA5-BD31-492B45C8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0653-779A-490F-94D5-92EB020E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9F1-A7AF-43EE-BF92-AB4AAF9F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1FD1E0-FC55-4DF6-B2B1-A90748AE850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121247-08CB-4378-9FAA-91C5F6ACFB39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" Target="slide7.xml"/><Relationship Id="rId13" Type="http://schemas.openxmlformats.org/officeDocument/2006/relationships/image" Target="../media/image3.png"/><Relationship Id="rId14" Type="http://schemas.openxmlformats.org/officeDocument/2006/relationships/slide" Target="slide9.xm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5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88" name="Picture 6" descr=""/>
            <p:cNvPicPr/>
            <p:nvPr/>
          </p:nvPicPr>
          <p:blipFill>
            <a:blip r:embed="rId2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91" name="Picture 9" descr=""/>
            <p:cNvPicPr/>
            <p:nvPr/>
          </p:nvPicPr>
          <p:blipFill>
            <a:blip r:embed="rId3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0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94" name="Picture 12" descr=""/>
            <p:cNvPicPr/>
            <p:nvPr/>
          </p:nvPicPr>
          <p:blipFill>
            <a:blip r:embed="rId4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13"/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97" name="Picture 15" descr=""/>
            <p:cNvPicPr/>
            <p:nvPr/>
          </p:nvPicPr>
          <p:blipFill>
            <a:blip r:embed="rId5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6"/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00" name="Picture 18" descr=""/>
            <p:cNvPicPr/>
            <p:nvPr/>
          </p:nvPicPr>
          <p:blipFill>
            <a:blip r:embed="rId6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19"/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6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6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6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69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7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7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7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8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8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8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9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9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9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01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04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0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1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1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20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2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2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3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33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3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4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4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4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49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5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5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5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6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6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6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7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7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0">
              <a:hlinkClick r:id="rId6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7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3">
              <a:hlinkClick r:id="rId9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81" name="Picture 15" descr=""/>
            <p:cNvPicPr/>
            <p:nvPr/>
          </p:nvPicPr>
          <p:blipFill>
            <a:blip r:embed="rId10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6">
              <a:hlinkClick r:id="rId11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84" name="Picture 18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9">
              <a:hlinkClick r:id="rId14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6:49:39Z</dcterms:created>
  <dc:creator>최봉수</dc:creator>
  <dc:description/>
  <dc:language>en-US</dc:language>
  <cp:lastModifiedBy>맛있다 군만두</cp:lastModifiedBy>
  <dcterms:modified xsi:type="dcterms:W3CDTF">2023-07-13T07:49:47Z</dcterms:modified>
  <cp:revision>3</cp:revision>
  <dc:subject/>
  <dc:title>슬라이드 1</dc:title>
</cp:coreProperties>
</file>