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75F-80DF-4F1D-A84B-BE17F987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228-B8F7-4E89-AE3F-63DCD432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CEC-DC86-4F87-A5C4-F3AE2770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85C-40A0-4E57-9BB0-8E85F0DB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28A-0CF9-495E-846F-6B5AB16E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699-9E93-4148-A9F2-EAE1422E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B72B-FABB-425E-91A0-F0FBD0A8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3F9-DA8E-4EAB-A7AA-6885E50B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AE2-8E2F-4BC6-9A11-86327A1F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1F5-55CF-41E3-93AD-B077E508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48D-0814-4F64-8648-0381C637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12A-5942-4FD7-B7B7-ED236C7B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0E3F4-6CE2-4481-A33C-F91B8250E9F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3771D-D97E-44CC-B168-BDFA9C05BA4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" Target="slide7.xml"/><Relationship Id="rId13" Type="http://schemas.openxmlformats.org/officeDocument/2006/relationships/image" Target="../media/image3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8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9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9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9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00" name="Picture 18" descr=""/>
            <p:cNvPicPr/>
            <p:nvPr/>
          </p:nvPicPr>
          <p:blipFill>
            <a:blip r:embed="rId6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3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3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3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4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4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4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4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5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6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6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7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7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0">
              <a:hlinkClick r:id="rId6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7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3">
              <a:hlinkClick r:id="rId9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81" name="Picture 15" descr=""/>
            <p:cNvPicPr/>
            <p:nvPr/>
          </p:nvPicPr>
          <p:blipFill>
            <a:blip r:embed="rId10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6">
              <a:hlinkClick r:id="rId11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84" name="Picture 1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>
              <a:hlinkClick r:id="rId14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6:49:39Z</dcterms:created>
  <dc:creator>최봉수</dc:creator>
  <dc:description/>
  <dc:language>en-US</dc:language>
  <cp:lastModifiedBy>맛있다 군만두</cp:lastModifiedBy>
  <dcterms:modified xsi:type="dcterms:W3CDTF">2023-07-13T07:49:47Z</dcterms:modified>
  <cp:revision>3</cp:revision>
  <dc:subject/>
  <dc:title>슬라이드 1</dc:title>
</cp:coreProperties>
</file>