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F85-195B-42E8-B94E-5B403F02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67A-C45D-428A-8A19-B6C7E9A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BFA-1DD4-4CE1-A8DC-EAB0E0FF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C0B-5BF8-445D-8020-40528322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24FF-1295-412F-84CD-8ADA0443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65F-E0BC-4679-B3FE-A4CDB76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4275-C166-4CBF-A2A3-71F5C602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41A-8A93-4F54-A060-2B935D8F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E6E-7E91-4C39-8613-8E42BA6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22A5-C55B-4C3F-AC40-2FEEDA05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BA9-8C83-405A-A3CD-327DA7F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14D-5ACC-4799-9DED-FBE13CF5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2E5A-9411-4386-A4A7-98828F5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A48-A16C-4DCB-A068-1831D65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052E-E85E-4243-91DB-2A88E82D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7AA6-94FE-46E5-96D3-4BE1787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26B-A314-4625-8670-E0701C90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CDE-DC79-40CA-AF79-23889F7D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BFA-22B2-467B-B357-D0B4C758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6FA-C907-444F-9A47-61E63D31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634-CB47-4AD4-9B10-825FC60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A7E-9986-44C1-8490-4BC4BB2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001-91CF-46A6-AAC3-15F38AC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C48-0276-4578-B58F-47C9CAD4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F690-50E8-4A4D-9204-1BD7543335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3FB-FFB7-49A4-8BCA-BD50671354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Rockwell Extra Bold"/>
              </a:rPr>
              <a:t>Belgian versus French Nightclub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Can you tell the differe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069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14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France: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Quelque part dans le Nor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096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Belgique:</a:t>
            </a:r>
            <a:br>
              <a:rPr sz="6600"/>
            </a:b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Fuse, </a:t>
            </a: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Brussel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Rockwell Extra Bold"/>
              </a:rPr>
              <a:t>Where do you want to go tonight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79640" y="551664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0:11Z</dcterms:created>
  <dc:creator>Ian Murray</dc:creator>
  <dc:description/>
  <dc:language>en-US</dc:language>
  <cp:lastModifiedBy>Smets</cp:lastModifiedBy>
  <dcterms:modified xsi:type="dcterms:W3CDTF">2008-10-30T18:18:39Z</dcterms:modified>
  <cp:revision>7</cp:revision>
  <dc:subject/>
  <dc:title>New Monkey Bigg Market (Newcastle-Upon-Tyne)</dc:title>
</cp:coreProperties>
</file>