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84F-214D-4026-964B-E2FF8E6C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10C-CC9C-481F-9995-9CD3D373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3AF-A018-43BA-9535-A3619403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156-05EA-4B5A-B0F9-7AE9C7DB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893-BFF3-48B4-B909-D6301C4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FA2F-17CD-4DCE-8995-0B22C02A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E2B5-D7BF-4028-A19A-0E65506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FD41-937C-4B50-B392-3D61C16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687-BAEF-4551-BEEA-C3AAF25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BC0E-DFCC-44C2-8386-ADDEAFAC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D64-7637-49FF-90DC-EBCDACD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191-D1D5-42F0-A50C-5FAB3E2E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608-DCD2-45B6-85E8-E5911FA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D093-98B3-499B-9281-84FD6C7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C758-0E63-4690-B91B-A1DEAB3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B9AA-AB56-4F3B-9F1C-85F108B6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55F-6F61-4777-A54D-74645F54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7F6-599A-4841-8B77-70DFDBC3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1B7-B57F-44BC-8521-41C8B28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B11-157C-4740-BC10-B6D45750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7BB-A8F3-4405-8799-74E0C18A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20A-BCD1-4C34-8697-B99AC9D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2A4-A590-4258-A3E9-D741D30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18E-EE35-47A4-A2CB-FCEB9AB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2E3-548E-4EF2-8568-088F996D04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AAE-F4CC-48BC-A43E-72687F964B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Rockwell Extra Bold"/>
              </a:rPr>
              <a:t>Belgian versus French Nightclub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Can you tell the differe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69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14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France: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Quelque part dans le Nor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096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Belgique:</a:t>
            </a:r>
            <a:br>
              <a:rPr sz="6600"/>
            </a:b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Fuse, </a:t>
            </a: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Brussel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Rockwell Extra Bold"/>
              </a:rPr>
              <a:t>Where do you want to go tonight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79640" y="551664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0:11Z</dcterms:created>
  <dc:creator>Ian Murray</dc:creator>
  <dc:description/>
  <dc:language>en-US</dc:language>
  <cp:lastModifiedBy>Smets</cp:lastModifiedBy>
  <dcterms:modified xsi:type="dcterms:W3CDTF">2008-10-30T18:18:39Z</dcterms:modified>
  <cp:revision>7</cp:revision>
  <dc:subject/>
  <dc:title>New Monkey Bigg Market (Newcastle-Upon-Tyne)</dc:title>
</cp:coreProperties>
</file>