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7C1-64AC-4BC2-8B00-99F6B9D8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E20-70FB-41D2-8328-6AA3AA6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63A-BB5F-43D5-97E0-2E92B2DE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12B-D45D-47F7-9150-3E03D709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41E8-79C8-4298-882F-D0D0349E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6067-D968-4150-9CE0-96F87405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C9EA-6C31-4618-B0FB-60A513A7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4924-0F34-4203-9156-04B7289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7D75-64D5-4B07-86BE-4ACE156C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877A-DD7D-4D3A-97B1-E9CF15F2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6C3B-2E92-49FF-9D1F-5083C83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031-A1AA-473C-B7F0-1B70A9C2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AF46-F7E0-4247-BEAE-ABDF98AE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B248-6183-448F-9AFB-174A751F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DD77-0D93-4049-8D8F-C350EDD8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897C-C195-4172-A54F-5ED27D1D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C04E-8332-48AE-A0B1-6798DF5B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FA3B-CB21-4A36-89BE-DBF2C40A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07A7-C3EB-4EBF-90C3-A3E0E4CE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003B-0132-4FC7-8322-48A3EB30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22BB-9A71-4144-80E5-CBC26F76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127D-7DB2-4223-BAD0-59E506F0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F0E-8EE0-4AA1-AF06-09BAF54B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25C4-44F6-4D9F-B810-C6D24174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E8D4-A13B-4616-91B0-593A46A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5226-07E2-45F3-98EB-9CDB8BE3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C8C7-88B3-4FE4-9F58-EE110914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E191-636A-4467-8E46-E0D1849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641F-FC93-4CF1-B8DF-ED5F1170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2A53-13D3-4035-A991-496DAC8C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03E9-BB84-48E7-895F-90150691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BB5F-EEDC-4A74-8243-4575EC50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24DD1-915B-4080-BFF8-3042B4F1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BEB-3B65-49DD-97D7-9BC859A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2AD4-10B2-493D-B0EB-40D8BBE5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DE188-BF65-4B24-9010-5FF5E4D0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2325-913A-44C7-A1BA-7F16816F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CAB6-2AF7-4BD2-8B97-F5AEC1C1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53948-1623-4926-924E-1235AFB3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C090-C03C-42A1-B813-86C0F0D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F943-471F-436E-9959-4D8D8E6B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61DA7-EFEC-41E5-9BE7-8D73B951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1736-9073-4350-9C9B-9607ACA6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5E200-3E90-4DB8-B9EE-4A92C982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F3B-05AC-4023-9F31-4EEAE4E0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EAC6-CA57-4E85-AACA-16AEA5A6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28A87-F926-4BA4-8D06-72A263F6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F81B3-8E35-482B-A8AE-E80E1C3C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76B8-D04A-42B4-8E35-97CFE32B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7BB36-946D-48D5-A004-6C6868AE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7BF16-09EB-49E8-9E3C-C8A69D1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1F7BB-58DD-473B-8325-7D8A218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5F05D-715D-4D24-8391-4BA2E0C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A18FB-863D-4D7E-8A02-1CFBC872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6D923-8344-4BFB-9D91-201B0230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B9B-1095-43D5-B9C2-F42DF45D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75DF2-EFE7-459E-A349-639D5C6C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921D-8640-4D24-ACB0-C7403799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3E871-222F-4602-B38D-47FCDF1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1C8D8-9F1F-47E8-8EC5-9D2A0285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DD10-3E5B-4A44-AF23-364C23F2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B84B7-2900-46F5-B2FA-64C23664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BB9C8-C02C-41AD-B6BA-4B2D0899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20053-D12E-45CD-AD1A-C71203F9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F1016-40E7-4835-A88D-1E9CDFB4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D6B38-1464-4E99-BDFE-AAA81DB4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975-7094-4BCA-931D-207FABA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0E9CA-0215-497A-83C5-85D45D0C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86AB7-2808-4755-ADAD-24E9D55E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7577-0BB5-4F51-BC83-117E5F04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B4A0-9DCD-4610-B521-3E096174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6258C-9668-4901-8008-550AF43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9C2C2-03A1-4A33-95B8-BE2530CF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8E04-F04D-47E9-80F0-3F7F2BAC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AAB43-0195-4E64-A731-873EEF1D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82D4C-DE45-4B5F-A4E8-8F85D3A5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58067-D0F6-4340-B3E6-066AF022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06F-E648-4F95-A565-DBC9E2A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3F163-6033-4DA8-A1B2-9F6F148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A200C-5691-44AA-B127-AFBD93CB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7DD4A-6412-4D0E-9275-D418FD07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1AD9E-DCC8-4F36-BE69-3FA71C41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3CDF-6A68-4CDB-8E07-30DC2C49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102-38CD-4963-A041-8DB115A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9047-A43B-47A4-833D-71DB110C7B1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61F7-CB32-4C2B-996E-B9BDE639F7F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A90F-3258-45DC-82F2-E2928D93F04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B4EF-4C8E-4113-AA19-F12DE912020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F147-7EFD-42C1-BB4F-E9ED413C85C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AF38-1C9F-483A-A35B-238CB886EC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978-08A5-4AFF-84F0-4A131C0BE7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Fisiologi otot dan gera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0e04"/>
                </a:solidFill>
                <a:latin typeface="Aharoni"/>
                <a:ea typeface="Aharoni"/>
              </a:rPr>
              <a:t>Dr.Ibrahim, dr. PF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Aharoni"/>
                <a:ea typeface="Aharoni"/>
              </a:rPr>
              <a:t>Potensial Membran isterahat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ercipta oleh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tensial diffusi kalium (beda konsentrasi di dalam dengan luar sel = 35:1)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potensial  -94 milivol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tensial  diffusi Natrium, (beda konsentrasi 0,1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tensial  +61 milivol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meabilitas membran  Kalium 100x  &gt; dibandingkan Natrium.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potensial membran -86 milivol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fat elektrogenik pompa Na+, K+, 3 ion Na+ keluar setiap  2 ion K+ masuk.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- 4 milivolt dalam se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Potensial ak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tensial aksi mulai dari perubahan cepat potensial membran  (dari negaif isterah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ositif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hap isterah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hap depolarisasi, membran permeabel terhadap natrium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rium masuk.a9potensial positif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hap repolarisasi, dalam 1/10.000 detik  saluran natrium tertutup dan saluran kalium terbuka keluar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otensial normal negatif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Hukum all or No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mbang batas stimuli adalah , perubahan dari -90 milivolt menjadi – 65 milivol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Kontraksi hanya terjadi bila melewati ambang batas terseb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rah penjalaran rangsang menjauhi rangsang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Sinaps dan transmit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jung aks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embentuk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sinaps,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rhubungan dengan dendrit sel saraf berikutnya , terdapat celah sinap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aps kimiawi :  elemen prasinaps melepaskan  suatu transmitter ke neuron pascasina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ksitasi atau inhibis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aps listrik, td taut celah (gap junction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Neuro transmit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ika mengalami potensial aksi, sal kalsium pada terminal sinaps membuk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alsium mengalir kedalam termi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iran kalsium yg masu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vesikel sinaps bergerak menuju membran presinap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engeluarkan bahan transmitter ke dalam celah sinap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Aharoni"/>
                <a:ea typeface="Aharoni"/>
              </a:rPr>
              <a:t>Karakteristik transmisi sinap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apat mengalami kelelahan, respons berkurang pada stimuli berula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timuli tetanik dgn periode isterahat singka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rus lemah dapat menghasilkan respon kuat (fasilitasi pasca tetanik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H asam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meningkatkan eksitabilitas dan sebaliknya pH basa menurunka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ipengaruhi oleh obat dan bahan kimi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erlu sinaps delay   untuk  ion berdifusi mengubah potensial membra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haroni"/>
                <a:ea typeface="Aharoni"/>
              </a:rPr>
              <a:t>Kontraksi otot rang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kanisme umum kontraksi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tensial aksi menjalar sepanjang saraf motori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rat oto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urotransmitter (asetilkoli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etilkoli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mbran oto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on Na+ masuk serat oto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ikulum sarkoplas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mbebaskan Ca+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iofibri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+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aya tarik filamen aktin &amp; mios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ontraksi (saling bergese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+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pompa ke retikulum sarkoplasma,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aksas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Aharoni"/>
                <a:ea typeface="Aharoni"/>
              </a:rPr>
              <a:t>Interaksi 1 fil Miosin, 2 fil aktin + ion kalsium </a:t>
            </a:r>
            <a:r>
              <a:rPr b="0" lang="en-US" sz="3900" spc="-1" strike="noStrike">
                <a:solidFill>
                  <a:srgbClr val="572314"/>
                </a:solidFill>
                <a:latin typeface="Wingdings"/>
                <a:ea typeface="Wingdings"/>
              </a:rPr>
              <a:t></a:t>
            </a:r>
            <a:r>
              <a:rPr b="0" lang="en-US" sz="3900" spc="-1" strike="noStrike">
                <a:solidFill>
                  <a:srgbClr val="572314"/>
                </a:solidFill>
                <a:latin typeface="Aharoni"/>
                <a:ea typeface="Aharoni"/>
              </a:rPr>
              <a:t> kontrak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lamen aktin ; dirangsang oleh ion kalsium untuk pengaktifan, dihambat oleh  kompleks troponin-tropomiosi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on kalsium mengikat troponin,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roponin menarik molekul tropomiosin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mengaktifkan filamen aktin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kontraks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eori “walk along”, miosin – aktin,  (power stroke) , Cross bridge berjalan sepanjang filamen aktin, menarik ke bagian tengah filamen miosi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ergi kontraksi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ontrasi otot memerlukan ATP (Adenosin triposfat) untuk melaksanakan 3 fungsi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bagian besar untuk mengaktifkan  mekanism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alk alo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mpa balik Kalsium kedalam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ikulum sarkoplasm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telah kontraksi berakhi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on Na+  dan K+ di pompa melalui  membran serat otot untuk mempertahankan lingkungan ionik untukpenjalaran potensial aks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mber energi untuk kontrak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P  pada serta otot hanya mampu mempertahankan kontraksi 1 -2 detik, ATP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D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posforil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TP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sfokreatin, melepas energi sehingga ion fosfat ke AD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TP  (5- 8 detik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nguraian Glikog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sam piruvat +asam lakta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nergi  AD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P (aerob dan anaero) 1 men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tabolisme oksidatif, Oksigen+makana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lepas ATP (95 % energi otot dari sini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RUKTUR 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94920" y="5486040"/>
            <a:ext cx="6324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iber mengandung banyak myofibril yang diliputi tenunan pengikat (endomysium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2" descr="D:\Arsip DIKJAR\Teknologi Hasil Ternak\Myofibril-picture.png.gif"/>
          <p:cNvPicPr/>
          <p:nvPr/>
        </p:nvPicPr>
        <p:blipFill>
          <a:blip r:embed="rId1"/>
          <a:stretch/>
        </p:blipFill>
        <p:spPr>
          <a:xfrm>
            <a:off x="1676520" y="1219320"/>
            <a:ext cx="5386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3141720" y="2495520"/>
            <a:ext cx="40860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:\Arsip DIKJAR\Teknologi Hasil Ternak\Image286.gif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ONTRAKSI 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1" name="Picture 2" descr="D:\Arsip DIKJAR\Teknologi Daging\Gambar-gambar\actin-myosin.jpg"/>
          <p:cNvPicPr/>
          <p:nvPr/>
        </p:nvPicPr>
        <p:blipFill>
          <a:blip r:embed="rId1"/>
          <a:stretch/>
        </p:blipFill>
        <p:spPr>
          <a:xfrm>
            <a:off x="1523880" y="1143000"/>
            <a:ext cx="556272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erima kasi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JARINGAN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ringan otot tersusun atas sel-sel otot yang fungsinya menggerakkan organ-organ tubu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emampuan tersebut disebabkan karena jaringan otot mampu berkontraksi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ontraksi otot dapat berlangsung karena molekul-molekul protein yang membangun sel otot dapat memanjang dan memende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FUNGSI OT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at gerak akti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Melakukan kerja; berjalan, mengangkat, memegang (otot lurik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Mengalirkan darah, mengedarkan sari makanan dan oksigen (otot polo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Menggerakkan jantung (otot jantu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• Menghasilkan panas tubuh Membentuk organ-organ dan pembulu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KEMAMPUAN GERAK OTOT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Kontraktibilit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, kemampuan otot melakukan perubahan menjadi lebih pendek dari ukuran semul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Ekstensibilit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, kemampuan otot melakukan perubahan menjadi lebih panjang dari ukuran semul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Elastisit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, kemampuan otot kembali pada ukuran semula setelah mengalami kontraksi dan ekstensi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Exitabilit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, kemampuan otot merespon rangsa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KERJA OTOT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ntagonis (berlawanan), contoh biseps dan triseps pada lengan atas</a:t>
            </a: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Gill Sans MT"/>
              </a:rPr>
              <a:t>Arah gerak otot antagoni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@ Ekstensor (meluruskan) – Fleksor (membengkokkan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@ Abduktor (menjauh) – Adduktor (mendekat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@ Depresor (ke bawah) – Elevator (ke atas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@ Supinator (menengadah) – Pronator (menelungkup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• Sinergis (bersamaan), contohnya otot pronator teres dan pronator kuadratus pada lengan bawah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Aharoni"/>
                <a:ea typeface="Aharoni"/>
              </a:rPr>
              <a:t>Potensial Membran dan potensial aksi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bedaan konsentrasi ion menembus membran permeabel selektif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otensial membr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tensial diffusi kalium, diffusi keluar,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tensial negatif dalam sel  (-94 milivol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tensial diffusi Natrium, diffusi masuk,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otensial positif dalam sel (+61 milivol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2:26:48Z</dcterms:created>
  <dc:creator>Acer</dc:creator>
  <dc:description/>
  <dc:language>en-US</dc:language>
  <cp:lastModifiedBy>Acer</cp:lastModifiedBy>
  <dcterms:modified xsi:type="dcterms:W3CDTF">2012-12-04T17:31:24Z</dcterms:modified>
  <cp:revision>35</cp:revision>
  <dc:subject/>
  <dc:title>Kontraksi otot rangka</dc:title>
</cp:coreProperties>
</file>