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B7E-8137-46D2-A602-F515D641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E10-4205-48BE-8D39-36D3016B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B89-9F48-4A77-A58B-04894557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33D-82E3-4DA6-88CB-4F0C487A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88A4-6916-491B-A769-7D6A1E55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8BA3-C32E-48EB-BED4-499D3509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8489-D217-4FD8-8C8E-3FC854AA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E44C-979F-4026-9CB4-35BBEEFB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58C7-E807-4982-B228-F857B69D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A050-775F-4AFC-88B7-73163C57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7BA9-119E-4EF8-8030-360AA15D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799-98C3-4721-B1E9-26CA65E1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B8A1-B74A-4CEA-A0A4-8752C1C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8A3B-C30E-455E-91CC-8A25B076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C39D-E774-4F12-A62A-172FBFB4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FB50-849E-47D7-B54A-B5686B11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9A2A-02E3-40A2-8C09-409549E2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D133B-0B78-4075-BD0E-50E24355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3221-8EC6-402A-B08B-493F418F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37937-1CA2-423D-A9DD-D07F9817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4A25-56F3-4D0E-BE4A-44375F00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74ED-B437-4D57-9E7D-08B45933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7A4-E037-4A6E-B171-A89F266D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7756-A881-4CFE-A68C-0678DE43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B02F-03A7-443D-8F36-4DF775CE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1B82-4DF4-4C5F-935B-4A5EA33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BE2C-AC20-49E4-B897-EE8317D6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1D31-3AE2-4FD7-91BD-85AC9B15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0401-0AE8-4BEC-A5D0-D1E12994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D531-F4E4-4D6D-809F-F8C4772A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C57BF-D73A-45E6-B9D0-987C8E93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005DD-8DE1-4091-8B03-5513AEB8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B07E-5332-4A4A-A5C7-1549E63B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9D1-97F5-45F6-AC17-04F80286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6F02-7E92-4EC6-BE1B-4873FB30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DA96-3ADF-42FD-9D7D-D32E097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AF723-0901-4BB7-8CB4-34899C3E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88B67-675C-403C-AD24-8BA7D3A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D35F0-D902-4751-9EF3-B20DC9AA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439A2-90C7-450D-AB9E-D7B4E80B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FA292-1CA0-4721-8EF3-CC4007D5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9E5E9-A1A9-4671-8918-7B73F859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FAAAA-5DB9-4DBB-ABA9-3E667141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4E05-FCEE-411C-B8B1-4722DCDE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1DB-A0A3-433E-98A5-35B17688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C406E-CB25-4518-AF0A-C96034A2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9A9E-01DC-495B-9EA4-4CC01C49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837CF-D6C8-4DC2-8D53-5E5AEB51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CC31C-FD3C-4544-BCC8-F8636546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57BE1-1AD9-429A-8929-C72B6FE8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08BEB-80E1-47BF-ACC1-14B8BE65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D0F5-3784-4CAF-A59C-C4C9E535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846A0-0973-4237-833C-969BDC80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F03DE-E66C-4435-9EBC-216AB548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68F77-D2EB-41E7-BAA4-1E2E184A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7E5-96D2-4B91-8439-610CACD0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251F1-FD49-493A-B8A8-034FA61D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95EF-83B1-44A4-AA93-292283DE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AB253-0D0A-4576-923E-1ECABEA6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42948-36F2-4B49-8F3C-3029181F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166CB-F230-4EF0-A2ED-E36BDDF8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94BBE-1814-4E59-8809-A0673E25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F7F62-BF69-4600-9D13-874658CB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14DD5-664D-4E23-B446-92C26C5D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25BF4-7319-4E38-8308-68C0EA54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59D08-2C4E-4E32-83AC-740F119F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07B-53F0-48C7-B30E-10A22017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7EB73-E656-4925-A381-20C53E87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CE67F-8478-47F7-B5FD-AA2851EB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F793D-2082-4F63-9259-77F1904C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C75B0-E2D6-4FF5-8CE6-9F3E20E0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6ED39-FCCA-4900-852D-B5D5BCD4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4944A-DB38-413A-A4FB-4BF7D405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713CD-8EBA-4D39-A733-F5242CC9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5896E-D448-48D6-B6E8-D8E83BDE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985D8-942E-404D-B7AA-0ECA4315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4A4CB-2CEE-4189-866C-C5B73F11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E87-2815-48F0-9FD2-7D20AC1A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E70AD-58B0-4F39-A1B4-155F1846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913B0-BAA2-4699-8126-DF9419C4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2EF49-111A-4501-8BBB-6AFC4954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EC6B6-794C-4D45-AA48-27539FBC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B2BB-CE71-4617-9D1B-3A20CB5E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DA1-D90D-437B-89FB-CB6C450F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F279-4209-4AAE-B5A7-32C07345C45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E3FA-80C7-4F36-80C6-3EDBBF9236C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E25D-8E58-40E2-8E2C-CC4BD5816F5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24F7-3459-4056-9021-F889B5167A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FE1C-013D-4925-9CD8-808D3B32FAA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2F06-1A9F-49CB-B286-75F66EAF800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2268-A3CB-45D9-9BDC-EBACDDB2B78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Fisiologi otot dan gera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0e04"/>
                </a:solidFill>
                <a:latin typeface="Aharoni"/>
                <a:ea typeface="Aharoni"/>
              </a:rPr>
              <a:t>Dr.Ibrahim, dr. PF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Aharoni"/>
                <a:ea typeface="Aharoni"/>
              </a:rPr>
              <a:t>Potensial Membran isterahat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ercipta oleh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tensial diffusi kalium (beda konsentrasi di dalam dengan luar sel = 35:1)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potensial  -94 milivol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tensial  diffusi Natrium, (beda konsentrasi 0,1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tensial  +61 milivol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meabilitas membran  Kalium 100x  &gt; dibandingkan Natrium.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potensial membran -86 milivol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fat elektrogenik pompa Na+, K+, 3 ion Na+ keluar setiap  2 ion K+ masuk.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- 4 milivolt dalam se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Potensial aks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tensial aksi mulai dari perubahan cepat potensial membran  (dari negaif isterah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ositif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hap isterah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hap depolarisasi, membran permeabel terhadap natrium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rium masuk.a9potensial positif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hap repolarisasi, dalam 1/10.000 detik  saluran natrium tertutup dan saluran kalium terbuka keluar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otensial normal negatif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Hukum all or No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mbang batas stimuli adalah , perubahan dari -90 milivolt menjadi – 65 milivol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Kontraksi hanya terjadi bila melewati ambang batas terseb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rah penjalaran rangsang menjauhi rangsang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Sinaps dan transmit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jung aks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embentuk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sinaps,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erhubungan dengan dendrit sel saraf berikutnya , terdapat celah sinap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aps kimiawi :  elemen prasinaps melepaskan  suatu transmitter ke neuron pascasina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eksitasi atau inhibis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aps listrik, td taut celah (gap junction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Neuro transmit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ika mengalami potensial aksi, sal kalsium pada terminal sinaps membuk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kalsium mengalir kedalam termi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iran kalsium yg masu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vesikel sinaps bergerak menuju membran presinap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engeluarkan bahan transmitter ke dalam celah sinap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Aharoni"/>
                <a:ea typeface="Aharoni"/>
              </a:rPr>
              <a:t>Karakteristik transmisi sinap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apat mengalami kelelahan, respons berkurang pada stimuli berula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timuli tetanik dgn periode isterahat singka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rus lemah dapat menghasilkan respon kuat (fasilitasi pasca tetanik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H asam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meningkatkan eksitabilitas dan sebaliknya pH basa menurunka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ipengaruhi oleh obat dan bahan kimi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erlu sinaps delay   untuk  ion berdifusi mengubah potensial membra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Kontraksi otot rang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kanisme umum kontraksi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tensial aksi menjalar sepanjang saraf motori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rat oto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urotransmitter (asetilkoli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etilkoli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mbran oto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on Na+ masuk serat oto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ikulum sarkoplasm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mbebaskan Ca+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iofibri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+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aya tarik filamen aktin &amp; miosi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ontraksi (saling bergese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+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pompa ke retikulum sarkoplasma,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aksas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Aharoni"/>
                <a:ea typeface="Aharoni"/>
              </a:rPr>
              <a:t>Interaksi 1 fil Miosin, 2 fil aktin + ion kalsium </a:t>
            </a:r>
            <a:r>
              <a:rPr b="0" lang="en-US" sz="3900" spc="-1" strike="noStrike">
                <a:solidFill>
                  <a:srgbClr val="572314"/>
                </a:solidFill>
                <a:latin typeface="Wingdings"/>
                <a:ea typeface="Wingdings"/>
              </a:rPr>
              <a:t></a:t>
            </a:r>
            <a:r>
              <a:rPr b="0" lang="en-US" sz="3900" spc="-1" strike="noStrike">
                <a:solidFill>
                  <a:srgbClr val="572314"/>
                </a:solidFill>
                <a:latin typeface="Aharoni"/>
                <a:ea typeface="Aharoni"/>
              </a:rPr>
              <a:t> kontrak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lamen aktin ; dirangsang oleh ion kalsium untuk pengaktifan, dihambat oleh  kompleks troponin-tropomiosi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on kalsium mengikat troponin,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roponin menarik molekul tropomiosin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mengaktifkan filamen aktin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kontraks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eori “walk along”, miosin – aktin,  (power stroke) , Cross bridge berjalan sepanjang filamen aktin, menarik ke bagian tengah filamen miosi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ergi kontraksi ot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ontrasi otot memerlukan ATP (Adenosin triposfat) untuk melaksanakan 3 fungsi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bagian besar untuk mengaktifkan  mekanism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alk alo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mpa balik Kalsium kedalam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ikulum sarkoplasm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telah kontraksi berakhi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on Na+  dan K+ di pompa melalui  membran serat otot untuk mempertahankan lingkungan ionik untukpenjalaran potensial aks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mber energi untuk kontraks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P  pada serta otot hanya mampu mempertahankan kontraksi 1 -2 detik, ATP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D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posforil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TP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sfokreatin, melepas energi sehingga ion fosfat ke AD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TP  (5- 8 detik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nguraian Glikoge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sam piruvat +asam lakta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energi  AD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P (aerob dan anaero) 1 men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tabolisme oksidatif, Oksigen+makana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lepas ATP (95 % energi otot dari sini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RUKTUR  OT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94920" y="5486040"/>
            <a:ext cx="6324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iber mengandung banyak myofibril yang diliputi tenunan pengikat (endomysium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Picture 2" descr="D:\Arsip DIKJAR\Teknologi Hasil Ternak\Myofibril-picture.png.gif"/>
          <p:cNvPicPr/>
          <p:nvPr/>
        </p:nvPicPr>
        <p:blipFill>
          <a:blip r:embed="rId1"/>
          <a:stretch/>
        </p:blipFill>
        <p:spPr>
          <a:xfrm>
            <a:off x="1676520" y="1219320"/>
            <a:ext cx="53863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3141720" y="2495520"/>
            <a:ext cx="40860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D:\Arsip DIKJAR\Teknologi Hasil Ternak\Image286.gif"/>
          <p:cNvPicPr/>
          <p:nvPr/>
        </p:nvPicPr>
        <p:blipFill>
          <a:blip r:embed="rId1"/>
          <a:stretch/>
        </p:blipFill>
        <p:spPr>
          <a:xfrm>
            <a:off x="609480" y="228600"/>
            <a:ext cx="784872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ONTRAKSI  OT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1" name="Picture 2" descr="D:\Arsip DIKJAR\Teknologi Daging\Gambar-gambar\actin-myosin.jpg"/>
          <p:cNvPicPr/>
          <p:nvPr/>
        </p:nvPicPr>
        <p:blipFill>
          <a:blip r:embed="rId1"/>
          <a:stretch/>
        </p:blipFill>
        <p:spPr>
          <a:xfrm>
            <a:off x="1523880" y="1143000"/>
            <a:ext cx="556272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erima kasi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JARINGAN OT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aringan otot tersusun atas sel-sel otot yang fungsinya menggerakkan organ-organ tubu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emampuan tersebut disebabkan karena jaringan otot mampu berkontraksi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ontraksi otot dapat berlangsung karena molekul-molekul protein yang membangun sel otot dapat memanjang dan memende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FUNGSI OT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at gerak akti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• Melakukan kerja; berjalan, mengangkat, memegang (otot lurik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• Mengalirkan darah, mengedarkan sari makanan dan oksigen (otot polo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• Menggerakkan jantung (otot jantung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• Menghasilkan panas tubuh Membentuk organ-organ dan pembulu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KEMAMPUAN GERAK OTOT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Kontraktibilit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, kemampuan otot melakukan perubahan menjadi lebih pendek dari ukuran semula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Ekstensibilit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, kemampuan otot melakukan perubahan menjadi lebih panjang dari ukuran semula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Elastisit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, kemampuan otot kembali pada ukuran semula setelah mengalami kontraksi dan ekstensi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Exitabilit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, kemampuan otot merespon rangsang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KERJA OTOT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ntagonis (berlawanan), contoh biseps dan triseps pada lengan atas</a:t>
            </a:r>
            <a:br>
              <a:rPr sz="2700"/>
            </a:br>
            <a:r>
              <a:rPr b="0" i="1" lang="en-US" sz="2700" spc="-1" strike="noStrike">
                <a:solidFill>
                  <a:srgbClr val="000000"/>
                </a:solidFill>
                <a:latin typeface="Gill Sans MT"/>
              </a:rPr>
              <a:t>Arah gerak otot antagoni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@ Ekstensor (meluruskan) – Fleksor (membengkokkan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@ Abduktor (menjauh) – Adduktor (mendekat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@ Depresor (ke bawah) – Elevator (ke atas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@ Supinator (menengadah) – Pronator (menelungkup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• Sinergis (bersamaan), contohnya otot pronator teres dan pronator kuadratus pada lengan bawah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Aharoni"/>
                <a:ea typeface="Aharoni"/>
              </a:rPr>
              <a:t>Potensial Membran dan potensial aksi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bedaan konsentrasi ion menembus membran permeabel selektif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otensial membr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tensial diffusi kalium, diffusi keluar,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tensial negatif dalam sel  (-94 milivol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tensial diffusi Natrium, diffusi masuk,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otensial positif dalam sel (+61 milivol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2:26:48Z</dcterms:created>
  <dc:creator>Acer</dc:creator>
  <dc:description/>
  <dc:language>en-US</dc:language>
  <cp:lastModifiedBy>Acer</cp:lastModifiedBy>
  <dcterms:modified xsi:type="dcterms:W3CDTF">2012-12-04T17:31:24Z</dcterms:modified>
  <cp:revision>35</cp:revision>
  <dc:subject/>
  <dc:title>Kontraksi otot rangka</dc:title>
</cp:coreProperties>
</file>