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20.jpeg" ContentType="image/jpeg"/>
  <Override PartName="/ppt/media/image25.jpeg" ContentType="image/jpeg"/>
  <Override PartName="/ppt/media/image17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62.jpeg" ContentType="image/jpeg"/>
  <Override PartName="/ppt/media/image79.jpeg" ContentType="image/jpeg"/>
  <Override PartName="/ppt/media/image14.jpeg" ContentType="image/jpeg"/>
  <Override PartName="/ppt/media/image7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41.jpeg" ContentType="image/jpeg"/>
  <Override PartName="/ppt/media/image66.png" ContentType="image/png"/>
  <Override PartName="/ppt/media/image75.png" ContentType="image/pn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95E-C756-4BF1-936F-3660119D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27E-DD71-4C74-B9EA-91C5E445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76C-5056-4B2B-A2E7-C03EC4D4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135-349D-4E8A-969A-41C2AE9B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5DA-9597-4C39-B46D-48C8BCE7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6A8-C947-4DA7-8200-658561BE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3F0-D0D5-4F67-AC8F-6BB88594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EFF-E1F7-4CD1-9C67-36B055C1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D6A-875F-4666-8DDE-CA9F35A8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071-3EE7-4EB9-B083-A539571D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E0C-D0E4-4DB9-AF45-A37F22D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65C-E6F7-4D4C-8832-4A38B43B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5B73-093E-4DCD-ABFF-F6FB91522D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athguy.com/lectures/butterfly_rash.jpg&amp;imgrefurl=http://www.pathguy.com/lectures/imm-ii.htm&amp;h=400&amp;w=599&amp;sz=57&amp;hl=ar&amp;start=1&amp;tbnid=6mGHQRg7e10NRM:&amp;tbnh=88&amp;tbnw=133&amp;prev=/images%3Fq%3Dbutterfly%2Brash%26svnum%3D10%26hl%3Dar%26lr%3D%26safe%3Dactive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google.com.sa/imgres?imgurl=http://www-medlib.med.utah.edu/WebPath/jpeg3/SKIN009.jpg&amp;imgrefurl=http://www-medlib.med.utah.edu/WebPath/TUTORIAL/SLE/SLE004.html&amp;h=475&amp;w=316&amp;sz=20&amp;hl=ar&amp;start=2&amp;tbnid=8vVD8uf6072GQM:&amp;tbnh=126&amp;tbnw=83&amp;prev=/images%3Fq%3Dbutterfly%2Brash%26svnum%3D10%26hl%3Dar%26lr%3D%26safe%3Dactive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google.com.sa/imgres?imgurl=http://healthgate.partners.org/images/si55550340.jpg&amp;imgrefurl=http://healthgate.partners.org/browsing/LearningCenter.asp%3FfileName%3D11698.xml%26title%3DSystemic%2520Lupus%2520Erythematosus&amp;h=255&amp;w=391&amp;sz=13&amp;hl=ar&amp;start=3&amp;tbnid=Jfv-ClQCi8EHMM:&amp;tbnh=78&amp;tbnw=120&amp;prev=/images%3Fq%3Dbutterfly%2Brash%26svnum%3D10%26hl%3Dar%26lr%3D%26safe%3Dactive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google.com.sa/imgres?imgurl=http://tutor.lscf.ucsb.edu/instdev/sears/immunology/images/fig20-6-110.gif&amp;imgrefurl=http://tutor.lscf.ucsb.edu/instdev/sears/immunology/chapter20/figure20-06.htm&amp;h=260&amp;w=330&amp;sz=63&amp;hl=ar&amp;start=6&amp;tbnid=yOIXWIFay1-WvM:&amp;tbnh=89&amp;tbnw=114&amp;prev=/images%3Fq%3Dbutterfly%2Brash%26svnum%3D10%26hl%3Dar%26lr%3D%26safe%3Dactive" TargetMode="External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med.uiuc.edu/m34/clerkships/surgery/Surgery%2520OSCE%2520Path%2520Slides/Goiter,%2520multinodular.jpg&amp;imgrefurl=http://www.med.uiuc.edu/m34/clerkships/surgery/OSCEPathSlides.htm&amp;h=255&amp;w=379&amp;sz=20&amp;hl=ar&amp;start=4&amp;tbnid=KTmUF7nsOwA8wM:&amp;tbnh=80&amp;tbnw=119&amp;prev=/images%3Fq%3Dgoiter%26svnum%3D10%26hl%3Dar%26lr%3D%26safe%3Dactive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.sa/imgres?imgurl=http://www.ei.educ.ab.ca/sch/fhs/biology/goiter.jpg&amp;imgrefurl=http://www.ei.educ.ab.ca/sch/fhs/biology/bio30.html&amp;h=362&amp;w=520&amp;sz=73&amp;hl=ar&amp;start=5&amp;tbnid=MBkSt82yU-i_9M:&amp;tbnh=89&amp;tbnw=128&amp;prev=/images%3Fq%3Dgoiter%26svnum%3D10%26hl%3Dar%26lr%3D%26safe%3Dactive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.sa/imgres?imgurl=http://phoenity.com/diseases/images/thyroid_enlargement.jpg&amp;imgrefurl=http://phoenity.com/diseases/goiter.html&amp;h=306&amp;w=226&amp;sz=10&amp;hl=ar&amp;start=10&amp;tbnid=RGHt38ntuyPYcM:&amp;tbnh=112&amp;tbnw=82&amp;prev=/images%3Fq%3Dgoiter%26svnum%3D10%26hl%3Dar%26lr%3D%26safe%3Dactive" TargetMode="External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augenklinik.uni-wuerzburg.de/lehre/sold/eo_1.jpg&amp;imgrefurl=http://www.augenklinik.uni-wuerzburg.de/lehre/sold/eo.htm&amp;h=167&amp;w=450&amp;sz=19&amp;hl=ar&amp;start=35&amp;tbnid=_HuXSoaEG8f1cM:&amp;tbnh=46&amp;tbnw=124&amp;prev=/images%3Fq%3DExophthalmus%2B%26start%3D20%26ndsp%3D20%26svnum%3D10%26hl%3Dar%26lr%3D%26safe%3Dactive%26sa%3DN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mdevidence.com/imagesenlarged/9262W.jpg&amp;imgrefurl=http://www.mdevidence.com/enlargeexhibit.php%3FID%3D9262&amp;h=300&amp;w=460&amp;sz=16&amp;hl=ar&amp;start=64&amp;tbnid=cPxKr0YeLwpQZM:&amp;tbnh=81&amp;tbnw=125&amp;prev=/images%3Fq%3Dcushing%2527s%2Bsyndrome%2B%26start%3D60%26ndsp%3D20%26svnum%3D10%26hl%3Dar%26lr%3D%26safe%3Dactive%26sa%3DN" TargetMode="External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medicouncilalcol.demon.co.uk/handbook/images/palmar_erythema.jpg&amp;imgrefurl=http://www.medicouncilalcol.demon.co.uk/handbook/images/palmar_erythema.htm&amp;h=213&amp;w=320&amp;sz=36&amp;hl=ar&amp;start=1&amp;tbnid=h43srE_61bvyYM:&amp;tbnh=75&amp;tbnw=113&amp;prev=/images%3Fq%3Dpalmar%2Berythema%26svnum%3D10%26hl%3Dar%26lr%3D%26safe%3Dactive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nlm.nih.gov/medlineplus/ency/images/ency/fullsize/2008.jpg&amp;imgrefurl=http://www.nlm.nih.gov/medlineplus/ency/imagepages/2008.htm&amp;h=226&amp;w=306&amp;sz=11&amp;hl=ar&amp;start=1&amp;tbnid=ZBaN00_Riv4v6M:&amp;tbnh=82&amp;tbnw=112&amp;prev=/images%3Fq%3Dkoilonychia%26svnum%3D10%26hl%3Dar%26lr%3D%26safe%3Dactive" TargetMode="External"/><Relationship Id="rId2" Type="http://schemas.openxmlformats.org/officeDocument/2006/relationships/image" Target="../media/image69.jpeg"/><Relationship Id="rId3" Type="http://schemas.openxmlformats.org/officeDocument/2006/relationships/hyperlink" Target="http://images.google.com.sa/imgres?imgurl=http://homoeotimes.com/july04/images/koilonychia-1.jpg&amp;imgrefurl=http://homoeotimes.com/july04/html/photo%2520quiz.htm&amp;h=168&amp;w=164&amp;sz=21&amp;hl=ar&amp;start=14&amp;tbnid=zGMVOgBZg7FZkM:&amp;tbnh=93&amp;tbnw=90&amp;prev=/images%3Fq%3Dkoilonychia%26svnum%3D10%26hl%3Dar%26lr%3D%26safe%3Dactive" TargetMode="External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51qe.cn/pic/30/12/17/25/b/00501.jpg&amp;imgrefurl=http://51qe.cn/pic/30/12/17/25/005.htm&amp;h=323&amp;w=350&amp;sz=19&amp;hl=ar&amp;start=4&amp;tbnid=IGPTen1u51ZqIM:&amp;tbnh=107&amp;tbnw=116&amp;prev=/images%3Fq%3DLEUKONYCHIA%26svnum%3D10%26hl%3Dar%26lr%3D%26safe%3Dactive%26sa%3DG" TargetMode="External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abayim.com/pitting_edema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pathology.vcu.edu/education/cardio/images/2f-b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TYPED &amp; COLLECTED BY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DI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HANKS FOR EVERY BODY HELPED 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yria cutanea t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phyria cutanea tarda can be inherited as a dominant trait or acquired due to liver disease. Sun exposed areas develop blistering (vesicles and bullae), erosions and ulcerations, fragile skin, pigmentary changes, and scar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use mostly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hyrine metabolism disorder as in alcoholism and Hepat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Porphyria cutanea tarda on the hands"/>
          <p:cNvPicPr/>
          <p:nvPr/>
        </p:nvPicPr>
        <p:blipFill>
          <a:blip r:embed="rId1"/>
          <a:stretch/>
        </p:blipFill>
        <p:spPr>
          <a:xfrm>
            <a:off x="3132000" y="1197000"/>
            <a:ext cx="29149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der nev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ous small vessels look like spider legs distributed over the ch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ing  Neck, arm, ch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1. liver cirrhosis  2. viral hepatitis 3. pregn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X1. Campbell de Morgan bodies 2. hereditary Hmg telangecta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der nevi opposite venous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lera Icter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 discoloration of the scle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tissue containing elast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1 .     hemolysis  2. obstructive Jau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illirubin level exceed 2-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[Item Image]"/>
          <p:cNvPicPr/>
          <p:nvPr/>
        </p:nvPicPr>
        <p:blipFill>
          <a:blip r:embed="rId1"/>
          <a:stretch/>
        </p:blipFill>
        <p:spPr>
          <a:xfrm>
            <a:off x="611280" y="1413000"/>
            <a:ext cx="3809880" cy="2504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5053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rbital purpu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-red discoloration in the peri orbita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loid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3313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dominal disten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ended abdomen umbilicus pointed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us     2. fluid      3. fat     4. flatulence     5. Tum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456000" cy="279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3333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ut med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ated, tortuous, superficial veins radiating upwards from the umbilicu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tension has caused recanalization of the umbilical vein, allowing the formation of this collater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x :inferior vena cava obstr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715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eenomeg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ively enlarged spleen, the result of extramedullary hematopoiesis, is outlined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tient's left upper quadrant appears more full than the corresponding area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ion, hepatitis 2.hemlaytic a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l hyperte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nfar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globul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steoarthr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28861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mbocytopenic purpu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g into the sk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latelets destruction as, 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immuno thrompocytopenic pup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loss of blo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platelet formation as Bone marrow Aplas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nd in liver diseases and hemophil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843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umatoid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n neck deform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deformity of thu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yonnirtr deform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nar deviation of metacarpophalangeal J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ar subluxation of f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95640" y="2997360"/>
            <a:ext cx="1152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4005360"/>
            <a:ext cx="2376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onic inflammation of the MCP joints has lead to thei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ormity, with deviation of fingers towards the ulnar aspect of the upper extrem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987640" cy="2249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2987280" y="2997360"/>
            <a:ext cx="252108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gers clubb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3357360"/>
            <a:ext cx="7561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ened appearance of distal phalynx with loss of angle between proximal edge of nai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in. Associated with (but not pathognomonic for) COPD, cystic fibrosis, hypoxia, and a num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other disease st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ve endocardi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ic liver dise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ronchectais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ung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ng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ngle + fluc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m stick appearan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rophic pulmonary osteoarthro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of tiss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715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ش رايكم بالرواقة ياحظها ماعندها مدسن ولا شي اففف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teoarthrit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l interphalangeal Joint=   Hebradn’s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al interphalngeal Joint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chard’s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9960" y="1314360"/>
            <a:ext cx="83455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umatoid vasculit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ulitis appears around nail fol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active dis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D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ve endocardit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LE. &amp; Rheumatoid Arthrit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752920" cy="2519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476360" y="2060640"/>
            <a:ext cx="3240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547280" y="2060640"/>
            <a:ext cx="2087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oriatic n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ycholys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paration of nails from the be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iscoloration of finger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: psoriasis and thyrotoxic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© 2001 Dermatology.co.uk Ltd. Psoriasis - onycholysis three fingers "/>
          <p:cNvPicPr/>
          <p:nvPr/>
        </p:nvPicPr>
        <p:blipFill>
          <a:blip r:embed="rId1"/>
          <a:stretch/>
        </p:blipFill>
        <p:spPr>
          <a:xfrm>
            <a:off x="3059280" y="1197000"/>
            <a:ext cx="3333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uty toph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ix of the ear 2. Synovium 3.Forear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olo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ate deposition with inflammatory cell surrounding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e presence of chronic recurrent 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urate synthesis 2.  decrease   urate excre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036960" cy="2046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3181320" cy="2143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134040" y="3500280"/>
            <a:ext cx="30099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terfly rash of the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 face     2.vasal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pe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al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484280"/>
            <a:ext cx="126684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1341360"/>
            <a:ext cx="790560" cy="1200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305748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92360" y="1557360"/>
            <a:ext cx="10857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swel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neck swel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line 1.Gorter   2. Thyroglossal cyst  3.submental L.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    1. L.N.    2. Salivary glan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of Thyrotoxicos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ycholys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palmar eryt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pthalm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.Gynecomast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628640"/>
            <a:ext cx="113328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1557360"/>
            <a:ext cx="1219320" cy="84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1484280"/>
            <a:ext cx="78084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1042920" y="1341360"/>
            <a:ext cx="24480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phthalm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rusion of the eye ball from the or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osis 2. conjunctivitis 3. corneal ul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 atrophy  5. opthalmopl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es dis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umor of the or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413000"/>
            <a:ext cx="309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hing Syndro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on 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"truncal"  obes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u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ffalo h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ythema  &amp; ac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genous ACTH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nital Adrenal hyperpl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H 2nry to hyperpituitaris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484280"/>
            <a:ext cx="1728720" cy="1368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1835280" y="2349000"/>
            <a:ext cx="547344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3584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iae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, slightly pigmented, linear marks associated with multiple clin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the axillary region striae are related to prior weigh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 cause is cushing’s syndrome(increase the steroid) and in steroidal therapy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42861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inter hemorrh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linear splinter hemorrhage is seen here subungually on the left thu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ear hmg. Is parallel to the long axis of nai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itis “trau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ve endocard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800600" cy="223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08720" y="2060640"/>
            <a:ext cx="2016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270828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اها تنشاف باي اصبع مو بس هن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son’s disea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r crease pigment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rnocortical hypo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x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vitili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57240" y="1052640"/>
            <a:ext cx="7229520" cy="259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H="1">
            <a:off x="1042920" y="1773360"/>
            <a:ext cx="72072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lique orbital fissu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simple 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uth hanging op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ruded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hand and b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2057400" cy="1352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286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al Bo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wing of ulna and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. D deff.       2. hypophosphatem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39816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al Pals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ping of mouth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tened nasolabial f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ing of the fore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motor neuron lesion due to tumor or vascular le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3333960" cy="2619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3333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al pal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2044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68360" y="3789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NORMA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forehead wrink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ability to close ey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 naso-labial fold prominence on le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ability to raise corner of mou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 IM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N OF LEFT 7TH CRANIAL NER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way le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, painless, erythematous lesions seen on the palm of this patient's hand Frequ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n in infective endocard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ychomyc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al infection causing deformity of the fingern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715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X: THROMB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NORMA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upper extremity DV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CLE W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CATHE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DVT"/>
          <p:cNvPicPr/>
          <p:nvPr/>
        </p:nvPicPr>
        <p:blipFill>
          <a:blip r:embed="rId1"/>
          <a:stretch/>
        </p:blipFill>
        <p:spPr>
          <a:xfrm>
            <a:off x="3132000" y="115920"/>
            <a:ext cx="3434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393336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BNORM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Axillary Adenopat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CAMBOLE DE MORGAN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Left axillary adenopathy"/>
          <p:cNvPicPr/>
          <p:nvPr/>
        </p:nvPicPr>
        <p:blipFill>
          <a:blip r:embed="rId1"/>
          <a:stretch/>
        </p:blipFill>
        <p:spPr>
          <a:xfrm>
            <a:off x="2700360" y="490680"/>
            <a:ext cx="33177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er’s n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 in infective endocard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ful, erythematous nodul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166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anthomat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also xantheolas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deposits on the “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d by  intracutanaus cholesterol depo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ype I or II hyperlipidem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on =type II hyperlipid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r and tuboeruptive=Type III hyperlipid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9200" y="1709640"/>
            <a:ext cx="2873160" cy="1432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3059280" y="1341360"/>
            <a:ext cx="288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637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deposits apparent above and below eyes, due to infiltration with fat laden cell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763640" y="141300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27640" y="1484280"/>
            <a:ext cx="2916360" cy="207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1332000" y="1989000"/>
            <a:ext cx="648000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300720" y="3716280"/>
            <a:ext cx="2219400" cy="2846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2268360" y="5373720"/>
            <a:ext cx="4464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292428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28000" y="227664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ised deposition of the lipid in the tendon of the palm of the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5661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 deposition in the k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fan’s Syndrome.  (Tall sta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limbs and pectus excavat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 regurg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rched 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ic kyph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inherited clt dis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987640" y="1198440"/>
            <a:ext cx="3024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ythema nodo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ptococcus b infection,TB and lepr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ssociated with INFLAMMATORY BOWEL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2865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الله جتني الصيحة قديييييييييييم ايام قناة ارامكو يازين ذيك الاي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616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ODERMA GANGRENO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with INFLAMMATORY BOWEL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52472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CUTANOUS N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LY CAUSED BY RHEUMATOID 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associated with INFLAMMATORY BOWEL SYNDROME  &amp; CONNECTIVE TISSUE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295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ner's Syndrome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 of sympathetic nervous system input to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case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eye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left pupil is smaller than right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that left eyelid covers a greater portion of eye than on right 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n as ptosi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tiology in this case was itiopathic, though it can be associated with tumo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ring at the apex of the lung, among other thing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715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MER ERYT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ness of thinner and hypothinner with whitish appearance in the middle of the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: pregnancy,thyrotoxicosis,chronic liver disease……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341360"/>
            <a:ext cx="51120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ILONYC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ON SHAPE N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LY CAUSED BY IRON DEFICIENCY A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492280"/>
            <a:ext cx="2376360" cy="128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2421000"/>
            <a:ext cx="208908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UKONYC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 IS HYPOALBUMINIMIA IN CHRONIC LIVER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684440"/>
            <a:ext cx="30254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ting Ede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lling in the limb and if you press the swelling there will be slor &amp; Red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sided heart failure  2. hepatic cirrh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 “malabsorption”    4-nephrotic sy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ting unilateral: lower limb ed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T  – Compression on large vans by tumor or enlarged L.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197000"/>
            <a:ext cx="2305080" cy="2589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pitting edem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1268280"/>
            <a:ext cx="1790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us senilis pu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sition of the lipid in the corneal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 is Hyperlipid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0101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قلتلكم العالم رايقة بس حنا اللي بنك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264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puytren’s contr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ening of the palmar facia. In this case severe enough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limits finger extension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: alcoholic cirrhosis , pancreatitis or occup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eg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94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necoma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743800" cy="2376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32400" y="3243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14972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st development in men, often related to relative increase in estrogen level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with advanced liver disease or androgen decre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yrodis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XID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صراحة تعبت اذن الفجر واقفلت ارجعو للكوزيس بالكتاب والديسكربشن سهل تذكرو الصويان وهو يهز براسه انهم كسلانين وعيونهم متور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له اسففففف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57440" y="1628640"/>
            <a:ext cx="40291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3168720"/>
            <a:ext cx="822960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BNORM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LOOK NEXT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TH OF THE HAND?? Or under the tongue for central cyanosi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916360" y="-25560"/>
            <a:ext cx="3806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V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13080" cy="2484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1872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Lower Extremity DVT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3213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4500720" y="3068640"/>
            <a:ext cx="86328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551664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Lower Extremity DV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4797360"/>
            <a:ext cx="244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Lower Extremity DVT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diffusely swollen left leg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 chan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left are due to chronic venous insufficienc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7308720" y="3284640"/>
            <a:ext cx="503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92920" y="476280"/>
            <a:ext cx="22510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us excav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78900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zed depression of the low end of ster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cosmet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use could be due to lung restriction or due chronic child respiratory illness or ri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933640" cy="2838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24360" y="1317600"/>
            <a:ext cx="3743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ma of the Brea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ion of the breast and retraction of the nip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05200" y="1643040"/>
            <a:ext cx="333360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utz-Jegher Syndro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, brown-black lesion around the mouth and buccal m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dicates hamartomatous polyps of the Bowel and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somal domi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08592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ditary hemorrhagic telangictasi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mall hmg. Involving the 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mostly with Osler-weloer sy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utosomal dominant and mostly associate with arteriovenous malformation in the liver and GI blee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Photo Quiz B"/>
          <p:cNvPicPr/>
          <p:nvPr/>
        </p:nvPicPr>
        <p:blipFill>
          <a:blip r:embed="rId1"/>
          <a:stretch/>
        </p:blipFill>
        <p:spPr>
          <a:xfrm>
            <a:off x="3203640" y="1773360"/>
            <a:ext cx="280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20:38:56Z</dcterms:created>
  <dc:creator>BIT</dc:creator>
  <dc:description/>
  <dc:language>en-US</dc:language>
  <cp:lastModifiedBy>dr.a7maed</cp:lastModifiedBy>
  <dcterms:modified xsi:type="dcterms:W3CDTF">2008-07-05T17:46:30Z</dcterms:modified>
  <cp:revision>3</cp:revision>
  <dc:subject/>
  <dc:title>1.Fingure clubbing </dc:title>
</cp:coreProperties>
</file>