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238800" y="8596440"/>
            <a:ext cx="44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240" y="877428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, Cisco Systems, Inc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152280" y="87883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1"/>
          </p:nvPr>
        </p:nvSpPr>
        <p:spPr>
          <a:xfrm>
            <a:off x="5918040" y="8667360"/>
            <a:ext cx="8128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FDAE12C-37F8-4B6B-9FCC-636AB35E0F6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73000" y="24408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02840" y="4371840"/>
            <a:ext cx="611028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5918040" y="8667720"/>
            <a:ext cx="812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72D489E-2A3D-418F-9FDB-6111E8112AD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1560" y="244440"/>
            <a:ext cx="5315040" cy="39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02840" y="4370040"/>
            <a:ext cx="611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7 Cisco Systems, Inc.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72480" y="6672240"/>
            <a:ext cx="1187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ICND1 v1.0—4-</a:t>
            </a:r>
            <a:fld id="{CF58D1CC-EFCA-45DB-AF5F-94A0F4BA79AB}" type="slidenum">
              <a:rPr b="0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52578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AE00784"/>
          <p:cNvPicPr/>
          <p:nvPr/>
        </p:nvPicPr>
        <p:blipFill>
          <a:blip r:embed="rId2"/>
          <a:stretch/>
        </p:blipFill>
        <p:spPr>
          <a:xfrm>
            <a:off x="5213520" y="0"/>
            <a:ext cx="3930480" cy="3144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7 Cisco Systems, Inc.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872480" y="6672240"/>
            <a:ext cx="1187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ICND1 v1.0—4-</a:t>
            </a:r>
            <a:fld id="{ADEF21B3-0A01-407B-816D-8583DD5EE357}" type="slidenum">
              <a:rPr b="0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3390480"/>
            <a:ext cx="6937200" cy="420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1" lang="en-US" sz="2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0520" y="762120"/>
            <a:ext cx="3546360" cy="167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e Sh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560" y="762120"/>
            <a:ext cx="7940880" cy="533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algn="ctr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339999"/>
                </a:solidFill>
                <a:latin typeface="Arial"/>
              </a:rPr>
              <a:t>S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à giao thức truy cập điều khiển thiết bị từ xa bằng giao diện command-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ữ liệu truyền thông trong phiên kết nối SSH được mã hóa bởi thuật toán RSA (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ivest, Shamir và Adle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RSA là thuật toán mã hóa bất đối xứ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ó 2 version : 1.5 và 1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ác dòng Cisco IOS hổ trợ SSH là 12.3 trở l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Một phiên kết nối diễn ra giữa SSH server và SSH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"/>
          <p:cNvPicPr/>
          <p:nvPr/>
        </p:nvPicPr>
        <p:blipFill>
          <a:blip r:embed="rId1"/>
          <a:stretch/>
        </p:blipFill>
        <p:spPr>
          <a:xfrm>
            <a:off x="457200" y="798480"/>
            <a:ext cx="81532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55560" y="761760"/>
            <a:ext cx="7940880" cy="5562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algn="ctr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3600" spc="-1" strike="noStrike">
                <a:solidFill>
                  <a:srgbClr val="339999"/>
                </a:solidFill>
                <a:latin typeface="Arial"/>
              </a:rPr>
              <a:t>Cấu hình SSH serv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ạo username và passwor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username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u1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 password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Tạo domain để kết hợp RSA phát sinh ke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ip domain-name </a:t>
            </a:r>
            <a:r>
              <a:rPr b="0" i="1" lang="vi-VN" sz="1800" spc="-1" strike="noStrike" u="sng">
                <a:solidFill>
                  <a:srgbClr val="000000"/>
                </a:solidFill>
                <a:uFillTx/>
                <a:latin typeface="Arial"/>
              </a:rPr>
              <a:t>vnpr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Dùng thuật toán RSA tạo cặp 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crypto key generate 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Mặc định 512 bit, tối đa 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Áp vào cổng ảo vt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)# line vty 0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R(config-line )#transport input {telnet | ssh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560" y="914400"/>
            <a:ext cx="7940880" cy="541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3600" spc="-1" strike="noStrike">
                <a:solidFill>
                  <a:srgbClr val="339999"/>
                </a:solidFill>
                <a:latin typeface="Arial"/>
              </a:rPr>
              <a:t>SSH client kết nối đến SSH serv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#ssh –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username] [ip server SS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muốn SSH phải dùng thêm phần mềm Pu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Muốn cấu hình PC là SSH server thì dùng Open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Xem ver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R# show ip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ổi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R(config)#ip ssh version [1|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97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1038600"/>
                  <a:gd name="textAreaBottom" fmla="*/ 1038960 h 103860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038600"/>
                  <a:gd name="textAreaBottom" fmla="*/ 1038960 h 103860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05:09:17Z</dcterms:created>
  <dc:creator>ILSG</dc:creator>
  <dc:description/>
  <cp:keywords/>
  <dc:language>en-US</dc:language>
  <cp:lastModifiedBy>anhluan</cp:lastModifiedBy>
  <cp:lastPrinted>1999-01-27T00:54:54Z</cp:lastPrinted>
  <dcterms:modified xsi:type="dcterms:W3CDTF">2010-06-06T06:33:05Z</dcterms:modified>
  <cp:revision>62</cp:revision>
  <dc:subject>Guide for Creating Powerpoint Presentations</dc:subject>
  <dc:title>About Thi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