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36.gif" ContentType="image/gif"/>
  <Override PartName="/ppt/media/image20.jpeg" ContentType="image/jpeg"/>
  <Override PartName="/ppt/media/image19.jpeg" ContentType="image/jpeg"/>
  <Override PartName="/ppt/media/image2.gif" ContentType="image/gif"/>
  <Override PartName="/ppt/media/image18.jpeg" ContentType="image/jpeg"/>
  <Override PartName="/ppt/media/image17.jpeg" ContentType="image/jpeg"/>
  <Override PartName="/ppt/media/image16.jpeg" ContentType="image/jpeg"/>
  <Override PartName="/ppt/media/image39.gif" ContentType="image/gif"/>
  <Override PartName="/ppt/media/image15.jpeg" ContentType="image/jpeg"/>
  <Override PartName="/ppt/media/image14.jpeg" ContentType="image/jpeg"/>
  <Override PartName="/ppt/media/image1.gif" ContentType="image/gif"/>
  <Override PartName="/ppt/media/image11.jpeg" ContentType="image/jpeg"/>
  <Override PartName="/ppt/media/image28.jpeg" ContentType="image/jpeg"/>
  <Override PartName="/ppt/media/image7.jpeg" ContentType="image/jpeg"/>
  <Override PartName="/ppt/media/image9.jpeg" ContentType="image/jpeg"/>
  <Override PartName="/ppt/media/image30.jpeg" ContentType="image/jpeg"/>
  <Override PartName="/ppt/media/image47.gif" ContentType="image/gif"/>
  <Override PartName="/ppt/media/image6.jpeg" ContentType="image/jpeg"/>
  <Override PartName="/ppt/media/image27.jpeg" ContentType="image/jpeg"/>
  <Override PartName="/ppt/media/image31.jpeg" ContentType="image/jpeg"/>
  <Override PartName="/ppt/media/Love%20and%20Marriage%201%5D(sm).wav" ContentType="audio/x-wav"/>
  <Override PartName="/ppt/media/image38.gif" ContentType="image/gif"/>
  <Override PartName="/ppt/media/image40.gif" ContentType="image/gif"/>
  <Override PartName="/ppt/media/image42.gif" ContentType="image/gif"/>
  <Override PartName="/ppt/media/image35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43.gif" ContentType="image/gif"/>
  <Override PartName="/ppt/media/image44.gif" ContentType="image/gif"/>
  <Override PartName="/ppt/media/image48.gif" ContentType="image/gif"/>
  <Override PartName="/ppt/media/image13.jpeg" ContentType="image/jpeg"/>
  <Override PartName="/ppt/media/image45.gif" ContentType="image/gif"/>
  <Override PartName="/ppt/media/image8.jpeg" ContentType="image/jpeg"/>
  <Override PartName="/ppt/media/image10.jpeg" ContentType="image/jpeg"/>
  <Override PartName="/ppt/media/image29.jpeg" ContentType="image/jpeg"/>
  <Override PartName="/ppt/media/image37.gif" ContentType="image/gif"/>
  <Override PartName="/ppt/media/image33.jpeg" ContentType="image/jpeg"/>
  <Override PartName="/ppt/media/image4.gif" ContentType="image/gif"/>
  <Override PartName="/ppt/media/image22.jpeg" ContentType="image/jpeg"/>
  <Override PartName="/ppt/media/image46.gif" ContentType="image/gif"/>
  <Override PartName="/ppt/media/image3.gif" ContentType="image/gif"/>
  <Override PartName="/ppt/media/image12.jpeg" ContentType="image/jpeg"/>
  <Override PartName="/ppt/media/image34.png" ContentType="image/png"/>
  <Override PartName="/ppt/media/image41.gif" ContentType="image/gi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8A59-F857-4E76-A23A-817F82BD0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FB08-0AAD-4775-A3D5-C9A7F6953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0523-5A6D-49B3-B389-DA4078DE6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72DA-1C86-4410-BB33-90BC7EE3A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258A-0AFD-4608-A422-AF18F6C75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6D73-B50A-4EFD-88D9-C6059F814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3384-9EB0-417C-BAA1-7F4F53219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E06F-F1CC-4E6A-9ED1-CAE050283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8813-89BB-4545-BD88-25D7A8EA3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A928-7D5C-4C80-8355-B223E5390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DD1E-4332-44FC-8443-021FC2D54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3C47-8501-408B-95D9-F055C8FED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F816D-96AC-4CF8-B992-7F8A3B38E1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8.xml"/><Relationship Id="rId3" Type="http://schemas.openxmlformats.org/officeDocument/2006/relationships/slide" Target="slide31.xml"/><Relationship Id="rId4" Type="http://schemas.openxmlformats.org/officeDocument/2006/relationships/slide" Target="slide43.xml"/><Relationship Id="rId5" Type="http://schemas.openxmlformats.org/officeDocument/2006/relationships/slide" Target="slide56.xml"/><Relationship Id="rId6" Type="http://schemas.openxmlformats.org/officeDocument/2006/relationships/image" Target="../media/image1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slide" Target="slide1.xml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audio" Target="../media/Love%20and%20Marriage%201%5D(sm).wav"/><Relationship Id="rId3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2.gif"/><Relationship Id="rId2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3.gif"/><Relationship Id="rId2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4.gif"/><Relationship Id="rId2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5.gif"/><Relationship Id="rId2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6.gif"/><Relationship Id="rId2" Type="http://schemas.openxmlformats.org/officeDocument/2006/relationships/slideLayout" Target="../slideLayouts/slideLayout2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7.gif"/><Relationship Id="rId2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8.gif"/><Relationship Id="rId2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19280" y="18900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V grapjes (9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rId1" action="ppaction://hlinksldjump"/>
          </p:cNvPr>
          <p:cNvSpPr/>
          <p:nvPr/>
        </p:nvSpPr>
        <p:spPr>
          <a:xfrm>
            <a:off x="250920" y="1125360"/>
            <a:ext cx="3959280" cy="79236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rouwen en auto’s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rId2" action="ppaction://hlinksldjump"/>
          </p:cNvPr>
          <p:cNvSpPr/>
          <p:nvPr/>
        </p:nvSpPr>
        <p:spPr>
          <a:xfrm>
            <a:off x="1042920" y="2133720"/>
            <a:ext cx="3959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ffff"/>
                </a:solidFill>
                <a:latin typeface="Arial"/>
              </a:rPr>
              <a:t>Vrouwen 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3" action="ppaction://hlinksldjump"/>
          </p:cNvPr>
          <p:cNvSpPr/>
          <p:nvPr/>
        </p:nvSpPr>
        <p:spPr>
          <a:xfrm>
            <a:off x="179280" y="3141720"/>
            <a:ext cx="3959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rouwen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rId4" action="ppaction://hlinksldjump"/>
          </p:cNvPr>
          <p:cNvSpPr/>
          <p:nvPr/>
        </p:nvSpPr>
        <p:spPr>
          <a:xfrm>
            <a:off x="1042920" y="4149720"/>
            <a:ext cx="3959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rouwen zijn niet idio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5" action="ppaction://hlinksldjump"/>
          </p:cNvPr>
          <p:cNvSpPr/>
          <p:nvPr/>
        </p:nvSpPr>
        <p:spPr>
          <a:xfrm>
            <a:off x="250920" y="5157720"/>
            <a:ext cx="3959280" cy="79236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Vrouw versus 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>
            <a:hlinkClick r:id="" action="ppaction://hlinkshowjump?jump=endshow"/>
          </p:cNvPr>
          <p:cNvPicPr/>
          <p:nvPr/>
        </p:nvPicPr>
        <p:blipFill>
          <a:blip r:embed="rId6"/>
          <a:stretch/>
        </p:blipFill>
        <p:spPr>
          <a:xfrm>
            <a:off x="6516720" y="981000"/>
            <a:ext cx="1368360" cy="8492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403280" y="5921280"/>
            <a:ext cx="6337440" cy="936720"/>
          </a:xfrm>
          <a:prstGeom prst="octagon">
            <a:avLst>
              <a:gd name="adj" fmla="val 29287"/>
            </a:avLst>
          </a:prstGeom>
          <a:solidFill>
            <a:srgbClr val="ffff00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556000" y="630864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692360" y="6093000"/>
            <a:ext cx="5952960" cy="19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500" fill="hold"/>
                                        <p:tgtEl>
                                          <p:spTgt spid="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250" autoRev="1" fill="hold"/>
                                        <p:tgtEl>
                                          <p:spTgt spid="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c00"/>
                </a:solidFill>
                <a:latin typeface="Comic Sans MS"/>
              </a:rPr>
              <a:t>Links er voorbij ging ook nie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6705360" cy="50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c00"/>
                </a:solidFill>
                <a:latin typeface="Comic Sans MS"/>
              </a:rPr>
              <a:t>Valt mee hoor, alleen weer die spiege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14400" y="2112840"/>
            <a:ext cx="7543800" cy="47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58676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c00"/>
                </a:solidFill>
                <a:latin typeface="Comic Sans MS"/>
              </a:rPr>
              <a:t>Verder niets aan de hand, de banden zijn nog he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6705720" cy="49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2880" y="620640"/>
            <a:ext cx="41911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c00"/>
                </a:solidFill>
                <a:latin typeface="Comic Sans MS"/>
              </a:rPr>
              <a:t>De auto had de rem verwisseld met het gaspedaal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219320" y="0"/>
            <a:ext cx="334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c00"/>
                </a:solidFill>
                <a:latin typeface="Comic Sans MS"/>
              </a:rPr>
              <a:t>Ik krijg de auto niet van de parkeerplaa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24816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c00"/>
                </a:solidFill>
                <a:latin typeface="Comic Sans MS"/>
              </a:rPr>
              <a:t>De verkoper zei: met een jeep kan je terreinrijden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476760" cy="50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cc00"/>
                </a:solidFill>
                <a:latin typeface="Comic Sans MS"/>
              </a:rPr>
              <a:t>Ik dacht dat het een afrit was 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23888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852480" y="533520"/>
            <a:ext cx="791532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omic Sans MS"/>
              </a:rPr>
              <a:t>De kortingsregeling wordt wellicht herzie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981080" y="2743200"/>
            <a:ext cx="1190880" cy="8571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746520" y="4049640"/>
            <a:ext cx="1190520" cy="8571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599160" y="2878200"/>
            <a:ext cx="1190880" cy="857160"/>
          </a:xfrm>
          <a:prstGeom prst="rect">
            <a:avLst/>
          </a:prstGeom>
          <a:ln w="0">
            <a:noFill/>
          </a:ln>
        </p:spPr>
      </p:pic>
      <p:sp>
        <p:nvSpPr>
          <p:cNvPr id="86" name="">
            <a:hlinkClick r:id="rId4" action="ppaction://hlinksldjump"/>
          </p:cNvPr>
          <p:cNvSpPr/>
          <p:nvPr/>
        </p:nvSpPr>
        <p:spPr>
          <a:xfrm>
            <a:off x="7596360" y="5877000"/>
            <a:ext cx="1295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1557000"/>
            <a:ext cx="91440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Ik heb het altijd al gewe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134100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En hier is het</a:t>
            </a:r>
            <a:br>
              <a:rPr sz="4400"/>
            </a:b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9600" spc="-1" strike="noStrike">
                <a:solidFill>
                  <a:srgbClr val="000000"/>
                </a:solidFill>
                <a:latin typeface="Arial"/>
              </a:rPr>
              <a:t>BEWIJ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26920" y="0"/>
            <a:ext cx="79153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omic Sans MS"/>
              </a:rPr>
              <a:t>Vrouwen rijden minder aggressief dan mannen. Daarom  krijgen ze vaak korting bij de autoverzeker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omic Sans MS"/>
              </a:rPr>
              <a:t>Zie hier enkele voorbeelden van hun kunnen. Inclusief het commentaar van de dames richting de verzekeringsmaatschappi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981080" y="2743200"/>
            <a:ext cx="1190880" cy="8571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746520" y="4049640"/>
            <a:ext cx="1190520" cy="857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599160" y="2878200"/>
            <a:ext cx="119088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600" spc="-1" strike="noStrike">
                <a:solidFill>
                  <a:srgbClr val="000000"/>
                </a:solidFill>
                <a:latin typeface="Arial"/>
              </a:rPr>
              <a:t>Ze kunnen  </a:t>
            </a:r>
            <a:br>
              <a:rPr sz="9600"/>
            </a:br>
            <a:r>
              <a:rPr b="0" lang="de-DE" sz="9600" spc="-1" strike="noStrike">
                <a:solidFill>
                  <a:srgbClr val="000000"/>
                </a:solidFill>
                <a:latin typeface="Arial"/>
              </a:rPr>
              <a:t>het gewoon</a:t>
            </a:r>
            <a:br>
              <a:rPr sz="9600"/>
            </a:br>
            <a:r>
              <a:rPr b="0" lang="de-DE" sz="9600" spc="-1" strike="noStrike">
                <a:solidFill>
                  <a:srgbClr val="000000"/>
                </a:solidFill>
                <a:latin typeface="Arial"/>
              </a:rPr>
              <a:t>NIE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50920" y="404640"/>
            <a:ext cx="822960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836640"/>
            <a:ext cx="4824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239840" y="790560"/>
            <a:ext cx="2540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0"/>
            <a:ext cx="70772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0" spc="-1" strike="noStrike">
                <a:solidFill>
                  <a:srgbClr val="000000"/>
                </a:solidFill>
                <a:latin typeface="Tahoma"/>
              </a:rPr>
              <a:t>Vrouwen en Autorijde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2744640"/>
            <a:ext cx="5181480" cy="38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400" spc="-1" strike="noStrike">
                <a:solidFill>
                  <a:srgbClr val="000000"/>
                </a:solidFill>
                <a:latin typeface="Arial"/>
              </a:rPr>
              <a:t>Kan het NOG erger?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6629400" cy="43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0" spc="-1" strike="noStrike">
                <a:solidFill>
                  <a:srgbClr val="000000"/>
                </a:solidFill>
                <a:latin typeface="Arial"/>
              </a:rPr>
              <a:t>DAT KAN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6477120" cy="48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0000"/>
                </a:solidFill>
                <a:latin typeface="Arial"/>
              </a:rPr>
              <a:t>En of je het gelooft of niet,</a:t>
            </a:r>
            <a:br>
              <a:rPr sz="4800"/>
            </a:br>
            <a:r>
              <a:rPr b="0" lang="de-DE" sz="4800" spc="-1" strike="noStrike">
                <a:solidFill>
                  <a:srgbClr val="000000"/>
                </a:solidFill>
                <a:latin typeface="Arial"/>
              </a:rPr>
              <a:t>dit kan alleen een vrouw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708660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600" spc="-1" strike="noStrike">
                <a:solidFill>
                  <a:srgbClr val="000000"/>
                </a:solidFill>
                <a:latin typeface="Arial"/>
              </a:rPr>
              <a:t>Hier zijn geen woorden voor nodig</a:t>
            </a:r>
            <a:br>
              <a:rPr sz="6600"/>
            </a:br>
            <a:r>
              <a:rPr b="0" lang="de-DE" sz="6600" spc="-1" strike="noStrike">
                <a:solidFill>
                  <a:srgbClr val="000000"/>
                </a:solidFill>
                <a:latin typeface="Arial"/>
              </a:rPr>
              <a:t>                        Alles</a:t>
            </a:r>
            <a:br>
              <a:rPr sz="6600"/>
            </a:br>
            <a:r>
              <a:rPr b="0" lang="de-DE" sz="6600" spc="-1" strike="noStrike">
                <a:solidFill>
                  <a:srgbClr val="000000"/>
                </a:solidFill>
                <a:latin typeface="Arial"/>
              </a:rPr>
              <a:t>                    is</a:t>
            </a:r>
            <a:br>
              <a:rPr sz="6600"/>
            </a:br>
            <a:r>
              <a:rPr b="0" lang="de-DE" sz="6600" spc="-1" strike="noStrike">
                <a:solidFill>
                  <a:srgbClr val="000000"/>
                </a:solidFill>
                <a:latin typeface="Arial"/>
              </a:rPr>
              <a:t>                         duide </a:t>
            </a:r>
            <a:br>
              <a:rPr sz="6600"/>
            </a:br>
            <a:r>
              <a:rPr b="0" lang="de-DE" sz="6600" spc="-1" strike="noStrike">
                <a:solidFill>
                  <a:srgbClr val="000000"/>
                </a:solidFill>
                <a:latin typeface="Arial"/>
              </a:rPr>
              <a:t>                      lijk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5303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600" spc="-1" strike="noStrike">
                <a:solidFill>
                  <a:srgbClr val="000000"/>
                </a:solidFill>
                <a:latin typeface="Arial"/>
              </a:rPr>
              <a:t>Maar er zijn ook nog andere voorbeelde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8001000" cy="62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Auch, leen je auto nooit</a:t>
            </a:r>
            <a:br>
              <a:rPr sz="4000"/>
            </a:b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uit aan je vrou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666880" y="1981080"/>
            <a:ext cx="38642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600" spc="-1" strike="noStrike">
                <a:solidFill>
                  <a:srgbClr val="000000"/>
                </a:solidFill>
                <a:latin typeface="Arial"/>
              </a:rPr>
              <a:t>Ja, nu is het genoeg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187280" y="1717560"/>
            <a:ext cx="7201080" cy="493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c00"/>
                </a:solidFill>
                <a:latin typeface="Comic Sans MS"/>
              </a:rPr>
              <a:t>„</a:t>
            </a:r>
            <a:r>
              <a:rPr b="0" lang="de-DE" sz="3600" spc="-1" strike="noStrike">
                <a:solidFill>
                  <a:srgbClr val="ffcc00"/>
                </a:solidFill>
                <a:latin typeface="Comic Sans MS"/>
              </a:rPr>
              <a:t>Ach het valt mee hoor. Alleen de linker spiegel is kapot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905120" y="2397240"/>
            <a:ext cx="5333760" cy="40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600" spc="-1" strike="noStrike">
                <a:solidFill>
                  <a:srgbClr val="000000"/>
                </a:solidFill>
                <a:latin typeface="Arial"/>
              </a:rPr>
              <a:t>DOE ONS DIT NIET AAN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09480" y="2133720"/>
            <a:ext cx="5715000" cy="4284720"/>
          </a:xfrm>
          <a:prstGeom prst="rect">
            <a:avLst/>
          </a:prstGeom>
          <a:ln w="0">
            <a:noFill/>
          </a:ln>
        </p:spPr>
      </p:pic>
      <p:sp>
        <p:nvSpPr>
          <p:cNvPr id="112" name="">
            <a:hlinkClick r:id="rId2" action="ppaction://hlinksldjump"/>
          </p:cNvPr>
          <p:cNvSpPr/>
          <p:nvPr/>
        </p:nvSpPr>
        <p:spPr>
          <a:xfrm>
            <a:off x="7596360" y="5877000"/>
            <a:ext cx="1295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2280" y="838080"/>
            <a:ext cx="8991720" cy="4635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bbe0e3"/>
                </a:solidFill>
                <a:latin typeface="Arial Unicode MS"/>
              </a:rPr>
              <a:t>Antwoord op één van de grootste vragen ooit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bbe0e3"/>
                </a:solidFill>
                <a:latin typeface="Arial Unicode MS"/>
              </a:rPr>
              <a:t>Maar waarom leven mannen minder lang dan vrouwe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bbe0e3"/>
                </a:solidFill>
                <a:latin typeface="Arial Unicode MS"/>
              </a:rPr>
              <a:t>Antwoorden in de afbeeldingen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8534160" cy="57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52280" y="503280"/>
            <a:ext cx="8839440" cy="594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8991720" cy="606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6320" y="468360"/>
            <a:ext cx="8991360" cy="605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4571640"/>
            <a:ext cx="6477120" cy="685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et is dat, dat de mannen doodt 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609480" y="2285640"/>
            <a:ext cx="7848720" cy="1523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Arial"/>
              </a:rPr>
              <a:t>Dat alles omdat de vrouwen te mooi zijn…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Fw the difference between men .jpg"/>
          <p:cNvPicPr/>
          <p:nvPr/>
        </p:nvPicPr>
        <p:blipFill>
          <a:blip r:embed="rId1"/>
          <a:stretch/>
        </p:blipFill>
        <p:spPr>
          <a:xfrm>
            <a:off x="4430880" y="0"/>
            <a:ext cx="471312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95280" y="765000"/>
            <a:ext cx="388944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800" spc="-1" strike="noStrike">
                <a:solidFill>
                  <a:srgbClr val="ffffff"/>
                </a:solidFill>
                <a:latin typeface="Comic Sans MS"/>
              </a:rPr>
              <a:t>Waarom zijn</a:t>
            </a:r>
            <a:br>
              <a:rPr sz="4800"/>
            </a:br>
            <a:r>
              <a:rPr b="1" lang="de-CH" sz="4800" spc="-1" strike="noStrike">
                <a:solidFill>
                  <a:srgbClr val="ffffff"/>
                </a:solidFill>
                <a:latin typeface="Comic Sans MS"/>
              </a:rPr>
              <a:t>vrouwen aantrek-kelijk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800" spc="-1" strike="noStrike">
                <a:solidFill>
                  <a:srgbClr val="ffffff"/>
                </a:solidFill>
                <a:latin typeface="Comic Sans MS"/>
              </a:rPr>
              <a:t>da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800" spc="-1" strike="noStrike">
                <a:solidFill>
                  <a:srgbClr val="ffffff"/>
                </a:solidFill>
                <a:latin typeface="Comic Sans MS"/>
              </a:rPr>
              <a:t>mannen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Fw the difference between men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42991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39640" y="515772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ffffff"/>
                </a:solidFill>
                <a:latin typeface="Comic Sans MS"/>
              </a:rPr>
              <a:t>… </a:t>
            </a:r>
            <a:r>
              <a:rPr b="1" lang="de-CH" sz="3600" spc="-1" strike="noStrike">
                <a:solidFill>
                  <a:srgbClr val="ffffff"/>
                </a:solidFill>
                <a:latin typeface="Comic Sans MS"/>
              </a:rPr>
              <a:t>Heeft U nog andere vragen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"/>
              </a:rPr>
              <a:t>Waarom hebben vrouwen twee hand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8840" y="456840"/>
            <a:ext cx="39625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c00"/>
                </a:solidFill>
                <a:latin typeface="Comic Sans MS"/>
              </a:rPr>
              <a:t>„</a:t>
            </a:r>
            <a:r>
              <a:rPr b="0" lang="de-DE" sz="3600" spc="-1" strike="noStrike">
                <a:solidFill>
                  <a:srgbClr val="ffcc00"/>
                </a:solidFill>
                <a:latin typeface="Comic Sans MS"/>
              </a:rPr>
              <a:t>Ze hebben me klemgeparkeerd.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480060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rcRect l="0" t="0" r="0" b="1782"/>
          <a:stretch/>
        </p:blipFill>
        <p:spPr>
          <a:xfrm>
            <a:off x="826920" y="189000"/>
            <a:ext cx="7632720" cy="630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"/>
              </a:rPr>
              <a:t>En waarom hebben mannen twee hand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24000" y="260280"/>
            <a:ext cx="4753080" cy="6337440"/>
          </a:xfrm>
          <a:prstGeom prst="rect">
            <a:avLst/>
          </a:prstGeom>
          <a:ln w="0">
            <a:noFill/>
          </a:ln>
        </p:spPr>
      </p:pic>
      <p:sp>
        <p:nvSpPr>
          <p:cNvPr id="128" name="">
            <a:hlinkClick r:id="rId2" action="ppaction://hlinksldjump"/>
          </p:cNvPr>
          <p:cNvSpPr/>
          <p:nvPr/>
        </p:nvSpPr>
        <p:spPr>
          <a:xfrm>
            <a:off x="7596360" y="5877000"/>
            <a:ext cx="1295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800" spc="-1" strike="noStrike">
                <a:solidFill>
                  <a:srgbClr val="009999"/>
                </a:solidFill>
                <a:latin typeface="Alba"/>
              </a:rPr>
              <a:t>♥ ♥ ♥ ♥ ♥ ♥ ♥ ♥ ♥ ♥ ♥ ♥ ♥ ♥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4800" spc="-1" strike="noStrike">
                <a:solidFill>
                  <a:srgbClr val="000000"/>
                </a:solidFill>
                <a:latin typeface="Comic Sans MS"/>
              </a:rPr>
              <a:t>Vrouw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l-NL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l-NL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l-NL" sz="4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nl-NL" sz="4800" spc="-1" strike="noStrike">
                <a:solidFill>
                  <a:srgbClr val="000000"/>
                </a:solidFill>
                <a:latin typeface="Comic Sans MS"/>
              </a:rPr>
              <a:t>Zijn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l-NL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l-NL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l-NL" sz="4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nl-NL" sz="4800" spc="-1" strike="noStrike">
                <a:solidFill>
                  <a:srgbClr val="000000"/>
                </a:solidFill>
                <a:latin typeface="Comic Sans MS"/>
              </a:rPr>
              <a:t>Nie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000000"/>
                </a:solidFill>
                <a:latin typeface="Comic Sans MS"/>
              </a:rPr>
              <a:t>                               </a:t>
            </a:r>
            <a:r>
              <a:rPr b="0" lang="nl-NL" sz="4800" spc="-1" strike="noStrike">
                <a:solidFill>
                  <a:srgbClr val="000000"/>
                </a:solidFill>
                <a:latin typeface="Comic Sans MS"/>
              </a:rPr>
              <a:t>Idioo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333399"/>
                </a:solidFill>
                <a:latin typeface="Comic Sans MS"/>
              </a:rPr>
              <a:t>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wipe dir="d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000000"/>
                </a:solidFill>
                <a:latin typeface="Comic Sans MS"/>
              </a:rPr>
              <a:t>Elf personen, tien mannen en een vrouw, hingen aan eenzelfde touw, dat vast zat aan een helikopter.</a:t>
            </a:r>
            <a:br>
              <a:rPr sz="4800"/>
            </a:br>
            <a:br>
              <a:rPr sz="4800"/>
            </a:br>
            <a:r>
              <a:rPr b="0" lang="nl-NL" sz="1600" spc="-1" strike="noStrike">
                <a:solidFill>
                  <a:srgbClr val="000000"/>
                </a:solidFill>
                <a:latin typeface="Comic Sans MS"/>
              </a:rPr>
              <a:t>Klik om verder te ga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84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Het touw was niet stevig genoeg om het gewicht van allen te dragen en er werd beslist dat één persoon moest loslaten, anders zouden ze allemaal dood vallen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384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Ze slaagden er niet in te kiezen wie moest loslaten, tot plots de vrouw met vastbesloten stem aankondigde dat zij zich vrijwillig zou opofferen.</a:t>
            </a:r>
            <a:br>
              <a:rPr sz="4400"/>
            </a:b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98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Want, zo zei ze, ze was het gewoon om haar eigen interesse op de tweede plaats te zetten:</a:t>
            </a:r>
            <a:br>
              <a:rPr sz="4400"/>
            </a:b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aangezien z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84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bbe0e3"/>
                </a:solidFill>
                <a:latin typeface="Comic Sans MS"/>
              </a:rPr>
              <a:t>1/</a:t>
            </a: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 Als moeder, steeds voorrang                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    gaf aan de kinderen;</a:t>
            </a:r>
            <a:br>
              <a:rPr sz="4000"/>
            </a:br>
            <a:r>
              <a:rPr b="0" lang="nl-NL" sz="4000" spc="-1" strike="noStrike">
                <a:solidFill>
                  <a:srgbClr val="bbe0e3"/>
                </a:solidFill>
                <a:latin typeface="Comic Sans MS"/>
              </a:rPr>
              <a:t>2/</a:t>
            </a: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 Als echtgenote, steeds de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    belangen van haar man 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    voorrang gaf op die van haar;</a:t>
            </a:r>
            <a:br>
              <a:rPr sz="4000"/>
            </a:br>
            <a:r>
              <a:rPr b="0" lang="nl-NL" sz="4000" spc="-1" strike="noStrike">
                <a:solidFill>
                  <a:srgbClr val="bbe0e3"/>
                </a:solidFill>
                <a:latin typeface="Comic Sans MS"/>
              </a:rPr>
              <a:t>3/</a:t>
            </a: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Als dochter, zwichtte ze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    voor haar vade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765000"/>
            <a:ext cx="77724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nl-NL" sz="4000" spc="-1" strike="noStrike">
                <a:solidFill>
                  <a:srgbClr val="bbe0e3"/>
                </a:solidFill>
                <a:latin typeface="Comic Sans MS"/>
              </a:rPr>
              <a:t>4/</a:t>
            </a: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nl-NL" sz="3600" spc="-1" strike="noStrike">
                <a:solidFill>
                  <a:srgbClr val="000000"/>
                </a:solidFill>
                <a:latin typeface="Comic Sans MS"/>
              </a:rPr>
              <a:t>Als werkneemster toeliet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Comic Sans MS"/>
              </a:rPr>
              <a:t>     dat haar bazen de eer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Comic Sans MS"/>
              </a:rPr>
              <a:t>     opstreken van haar successen.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Comic Sans MS"/>
              </a:rPr>
              <a:t>      En….. “Als vrouw”, zei ze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Comic Sans MS"/>
              </a:rPr>
              <a:t>      terwijl haar blik in het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Comic Sans MS"/>
              </a:rPr>
              <a:t>      oneindige staarde en ze een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Comic Sans MS"/>
              </a:rPr>
              <a:t>      hand op haar hart legde,</a:t>
            </a:r>
            <a:br>
              <a:rPr sz="3600"/>
            </a:b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      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c00"/>
                </a:solidFill>
                <a:latin typeface="Comic Sans MS"/>
              </a:rPr>
              <a:t>Ik dacht, zo‘n steentje geeft toch nie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057400" y="2514600"/>
            <a:ext cx="525780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Was het haar taak in het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leven om zich op te offeren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voor de anderen, zonder 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daarvoor iets in ruil te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verwacht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6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Euforisch van emotie en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    trots,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    barstte er een heftig applaus 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    los onder de mannen…en de     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    idioten vielen allemaal.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5400" spc="-1" strike="noStrike">
                <a:solidFill>
                  <a:srgbClr val="000000"/>
                </a:solidFill>
                <a:latin typeface="Comic Sans MS"/>
              </a:rPr>
              <a:t>Moraal van dit  </a:t>
            </a:r>
            <a:br>
              <a:rPr sz="5400"/>
            </a:br>
            <a:r>
              <a:rPr b="0" lang="nl-NL" sz="5400" spc="-1" strike="noStrike">
                <a:solidFill>
                  <a:srgbClr val="000000"/>
                </a:solidFill>
                <a:latin typeface="Comic Sans MS"/>
              </a:rPr>
              <a:t>    verhaal</a:t>
            </a:r>
            <a:br>
              <a:rPr sz="5400"/>
            </a:br>
            <a:r>
              <a:rPr b="0" lang="nl-NL" sz="5400" spc="-1" strike="noStrike">
                <a:solidFill>
                  <a:srgbClr val="000000"/>
                </a:solidFill>
                <a:latin typeface="Comic Sans MS"/>
              </a:rPr>
              <a:t>     voor de mannen:</a:t>
            </a:r>
            <a:br>
              <a:rPr sz="5400"/>
            </a:br>
            <a:br>
              <a:rPr sz="5400"/>
            </a:br>
            <a:r>
              <a:rPr b="0" lang="nl-NL" sz="5400" spc="-1" strike="noStrike">
                <a:solidFill>
                  <a:srgbClr val="000000"/>
                </a:solidFill>
                <a:latin typeface="Comic Sans MS"/>
              </a:rPr>
              <a:t>   Vertrouw nooit op de </a:t>
            </a:r>
            <a:br>
              <a:rPr sz="5400"/>
            </a:br>
            <a:r>
              <a:rPr b="0" lang="nl-NL" sz="5400" spc="-1" strike="noStrike">
                <a:solidFill>
                  <a:srgbClr val="000000"/>
                </a:solidFill>
                <a:latin typeface="Comic Sans MS"/>
              </a:rPr>
              <a:t>     opoffering van een</a:t>
            </a:r>
            <a:br>
              <a:rPr sz="5400"/>
            </a:br>
            <a:r>
              <a:rPr b="0" lang="nl-NL" sz="5400" spc="-1" strike="noStrike">
                <a:solidFill>
                  <a:srgbClr val="000000"/>
                </a:solidFill>
                <a:latin typeface="Comic Sans MS"/>
              </a:rPr>
              <a:t>       vrouw; </a:t>
            </a: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4360" y="1052640"/>
            <a:ext cx="7272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omic Sans MS"/>
              </a:rPr>
              <a:t>Ze is nobel,</a:t>
            </a:r>
            <a:br>
              <a:rPr sz="9600"/>
            </a:br>
            <a:r>
              <a:rPr b="0" lang="nl-NL" sz="9600" spc="-1" strike="noStrike">
                <a:solidFill>
                  <a:srgbClr val="000000"/>
                </a:solidFill>
                <a:latin typeface="Comic Sans MS"/>
              </a:rPr>
              <a:t>maar niet idioo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78469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Stuur dit verhaal naar alle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vrouwen die je kent, zodat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ze een reden hebben, om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extra te lachen vandaag.</a:t>
            </a:r>
            <a:br>
              <a:rPr sz="4400"/>
            </a:br>
            <a:r>
              <a:rPr b="1" lang="nl-NL" sz="4800" spc="-1" strike="noStrike">
                <a:solidFill>
                  <a:srgbClr val="333399"/>
                </a:solidFill>
                <a:latin typeface="Arial"/>
              </a:rPr>
              <a:t>☺☺☺☺☺☺☺☺☺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Je kunt het ook naar een man sturen en als hij het niet helemaal begrijpt zullen we het hem wel uitleggen.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~~~~~~~~~~~~~~~~~~~~~~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>
            <a:hlinkClick r:id="rId1" action="ppaction://hlinksldjump"/>
          </p:cNvPr>
          <p:cNvSpPr/>
          <p:nvPr/>
        </p:nvSpPr>
        <p:spPr>
          <a:xfrm>
            <a:off x="7596360" y="5877000"/>
            <a:ext cx="1295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rouw vs. man -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952800" y="3638520"/>
            <a:ext cx="1238400" cy="12384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  <p:sndAc>
      <p:stSnd>
        <p:snd r:embed="rId2" name="Love%20and%20Marriage%201%5D(sm).wav"/>
      </p:stSnd>
    </p:sndAc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j: . . . Ik begrijp eigenlijk niet waarom jij een BH draagt, want je hebt toch niets om erin te stopp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ij: . . . Jij draagt toch ook een onderbroek, niet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238640" y="2286000"/>
            <a:ext cx="666720" cy="12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j. . . Zullen we vanavond eens van positie veranderen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ij . . . Voortreffelijk – dan doe jij de strijk, terwijl ik eens luilekker in de zetel zit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952800" y="285768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j. . . Waar, in Godsnaam, is toch al dat huishoudgeld naarto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ij . . . Bekijk je profiel maar eens in de spiegel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000680" y="2133720"/>
            <a:ext cx="1143000" cy="142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c00"/>
                </a:solidFill>
                <a:latin typeface="Comic Sans MS"/>
              </a:rPr>
              <a:t>Ik snap er niets van: de motor doet het, maar toch kom ik niet vooru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447920" y="2438280"/>
            <a:ext cx="632448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 de muur van het damestoilet staat geschreven . . . "Mijn man volgt mij altijd en overal." Eronder. .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 Ik niet!"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000680" y="2819520"/>
            <a:ext cx="1143000" cy="80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e weet je dat een man plannen maakt voor de toekomst?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j koopt twee bakken bier in plaats van één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000680" y="236232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arom zijn blondenmoppen zo kort?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dat de mannen ze kunnen onthoud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948120" y="2209680"/>
            <a:ext cx="1247760" cy="145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eveel mannen heb je nodig om een W.C.-rol te vervangen?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eten het nog steeds niet, want dat is nog nooit gebeu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262400" y="2962440"/>
            <a:ext cx="619200" cy="93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arom is het zo moeilijk om een gevoelige, liefdevolle en knappe man te vind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mdat het homo’s zij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119480" y="2881440"/>
            <a:ext cx="905040" cy="109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914040" y="38862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e noem je een vrouw, die weet waar haar man ‘s nachts uithangt?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en weduwvrouw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162320" y="2743200"/>
            <a:ext cx="79056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arom zijn gehuwde vrouwen molliger dan alleenstaande vrouwen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eenstaande vrouwen komen thuis, kijken wat er in de frigo ligt en gaan slapen. Gehuwde vrouwen komen thuis, kijken wat er in bed is en lopen naar de frigo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091040" y="3024360"/>
            <a:ext cx="961920" cy="80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 hebben mannen, die zich in bars voor alleenstaanden bevinden, allemaal gemeen?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Ze zijn getrouwd!</a:t>
            </a:r>
            <a:br>
              <a:rPr sz="3600"/>
            </a:br>
            <a:br>
              <a:rPr sz="1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952800" y="2209680"/>
            <a:ext cx="1238400" cy="123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 tegen God: "God, waarom heb je de vrouw zo mooi gemaakt?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d: “Zodat je haar zou liefhebben."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ar God," zegt de man, "waarom heb je haar dan zo dom gemaakt?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d: “Zodat ze in staat zou zijn om van u te houden."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000680" y="2362320"/>
            <a:ext cx="1143000" cy="76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END DEZE MAIL NAAR  SLIMME VROUWEN, DIE GRAAG LACHEN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 NAAR MANNEN, DIE DENKEN HET AAN TE KUNNEN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>
            <a:hlinkClick r:id="rId1" action="ppaction://hlinksldjump"/>
          </p:cNvPr>
          <p:cNvSpPr/>
          <p:nvPr/>
        </p:nvSpPr>
        <p:spPr>
          <a:xfrm>
            <a:off x="7596360" y="5877000"/>
            <a:ext cx="1295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86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c00"/>
                </a:solidFill>
                <a:latin typeface="Comic Sans MS"/>
              </a:rPr>
              <a:t>Er stond nergens dat ik hier niet in mocht rijden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828800" y="2852640"/>
            <a:ext cx="5715000" cy="35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800100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cc00"/>
                </a:solidFill>
                <a:latin typeface="Comic Sans MS"/>
              </a:rPr>
              <a:t>Ja kan ik er wat aan doen? Er staat toch „customer parking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685800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8:55:52Z</dcterms:created>
  <dc:creator>www.free-powerpoints.goedbegin.be </dc:creator>
  <dc:description/>
  <dc:language>en-US</dc:language>
  <cp:lastModifiedBy>Smets</cp:lastModifiedBy>
  <dcterms:modified xsi:type="dcterms:W3CDTF">2009-11-23T20:11:53Z</dcterms:modified>
  <cp:revision>201</cp:revision>
  <dc:subject/>
  <dc:title>Dia 1</dc:title>
</cp:coreProperties>
</file>