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36.gif" ContentType="image/gif"/>
  <Override PartName="/ppt/media/image20.jpeg" ContentType="image/jpeg"/>
  <Override PartName="/ppt/media/image19.jpeg" ContentType="image/jpeg"/>
  <Override PartName="/ppt/media/image2.gif" ContentType="image/gif"/>
  <Override PartName="/ppt/media/image18.jpeg" ContentType="image/jpeg"/>
  <Override PartName="/ppt/media/image17.jpeg" ContentType="image/jpeg"/>
  <Override PartName="/ppt/media/image16.jpeg" ContentType="image/jpeg"/>
  <Override PartName="/ppt/media/image39.gif" ContentType="image/gif"/>
  <Override PartName="/ppt/media/image15.jpeg" ContentType="image/jpeg"/>
  <Override PartName="/ppt/media/image14.jpeg" ContentType="image/jpeg"/>
  <Override PartName="/ppt/media/image1.gif" ContentType="image/gif"/>
  <Override PartName="/ppt/media/image11.jpeg" ContentType="image/jpeg"/>
  <Override PartName="/ppt/media/image28.jpeg" ContentType="image/jpeg"/>
  <Override PartName="/ppt/media/image7.jpeg" ContentType="image/jpeg"/>
  <Override PartName="/ppt/media/image9.jpeg" ContentType="image/jpeg"/>
  <Override PartName="/ppt/media/image30.jpeg" ContentType="image/jpeg"/>
  <Override PartName="/ppt/media/image47.gif" ContentType="image/gif"/>
  <Override PartName="/ppt/media/image6.jpeg" ContentType="image/jpeg"/>
  <Override PartName="/ppt/media/image27.jpeg" ContentType="image/jpeg"/>
  <Override PartName="/ppt/media/image31.jpeg" ContentType="image/jpeg"/>
  <Override PartName="/ppt/media/Love%20and%20Marriage%201%5D(sm).wav" ContentType="audio/x-wav"/>
  <Override PartName="/ppt/media/image38.gif" ContentType="image/gif"/>
  <Override PartName="/ppt/media/image40.gif" ContentType="image/gif"/>
  <Override PartName="/ppt/media/image42.gif" ContentType="image/gif"/>
  <Override PartName="/ppt/media/image3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43.gif" ContentType="image/gif"/>
  <Override PartName="/ppt/media/image44.gif" ContentType="image/gif"/>
  <Override PartName="/ppt/media/image48.gif" ContentType="image/gif"/>
  <Override PartName="/ppt/media/image13.jpeg" ContentType="image/jpeg"/>
  <Override PartName="/ppt/media/image45.gif" ContentType="image/gif"/>
  <Override PartName="/ppt/media/image8.jpeg" ContentType="image/jpeg"/>
  <Override PartName="/ppt/media/image10.jpeg" ContentType="image/jpeg"/>
  <Override PartName="/ppt/media/image29.jpeg" ContentType="image/jpeg"/>
  <Override PartName="/ppt/media/image37.gif" ContentType="image/gif"/>
  <Override PartName="/ppt/media/image33.jpeg" ContentType="image/jpeg"/>
  <Override PartName="/ppt/media/image4.gif" ContentType="image/gif"/>
  <Override PartName="/ppt/media/image22.jpeg" ContentType="image/jpeg"/>
  <Override PartName="/ppt/media/image46.gif" ContentType="image/gif"/>
  <Override PartName="/ppt/media/image3.gif" ContentType="image/gif"/>
  <Override PartName="/ppt/media/image12.jpeg" ContentType="image/jpeg"/>
  <Override PartName="/ppt/media/image34.png" ContentType="image/png"/>
  <Override PartName="/ppt/media/image41.gif" ContentType="image/gi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60.xml.rels" ContentType="application/vnd.openxmlformats-package.relationships+xml"/>
  <Override PartName="/ppt/slides/_rels/slide56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6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4.xml.rels" ContentType="application/vnd.openxmlformats-package.relationships+xml"/>
  <Override PartName="/ppt/slides/_rels/slide69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96D8-6EA8-4586-941D-F00478FAB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421A9-0F0D-441A-8361-851A88B63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C6E88-857C-4EEE-A87F-FB69F3246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9F272-4A97-425A-93D7-93336495FD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EFB3-B711-4BA3-9DD8-40A9F83EC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936E-74CB-4038-B222-D606F2707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9AD57-A529-4F50-B864-DA2A9113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A2D0-21BC-4A14-A555-B73310689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BA84-11C4-4112-BD6D-8632811C2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8292-A8D4-4886-9586-F400B9DE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22CB-C95C-4622-837C-A85430848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BA46-F552-44AC-9DF6-CAFDCA20A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C4DFF-A9A9-4D4F-BB8C-49218BE58DF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18.xml"/><Relationship Id="rId3" Type="http://schemas.openxmlformats.org/officeDocument/2006/relationships/slide" Target="slide31.xml"/><Relationship Id="rId4" Type="http://schemas.openxmlformats.org/officeDocument/2006/relationships/slide" Target="slide43.xml"/><Relationship Id="rId5" Type="http://schemas.openxmlformats.org/officeDocument/2006/relationships/slide" Target="slide56.xml"/><Relationship Id="rId6" Type="http://schemas.openxmlformats.org/officeDocument/2006/relationships/image" Target="../media/image1.gif"/><Relationship Id="rId7" Type="http://schemas.openxmlformats.org/officeDocument/2006/relationships/image" Target="../media/image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3.gif"/><Relationship Id="rId1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" Target="slide1.xml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audio" Target="../media/Love%20and%20Marriage%201%5D(sm).wav"/><Relationship Id="rId3" Type="http://schemas.openxmlformats.org/officeDocument/2006/relationships/slideLayout" Target="../slideLayouts/slideLayout2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37.gif"/><Relationship Id="rId2" Type="http://schemas.openxmlformats.org/officeDocument/2006/relationships/slideLayout" Target="../slideLayouts/slideLayout2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2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2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slideLayout" Target="../slideLayouts/slideLayout2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2.gif"/><Relationship Id="rId2" Type="http://schemas.openxmlformats.org/officeDocument/2006/relationships/slideLayout" Target="../slideLayouts/slideLayout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3.gif"/><Relationship Id="rId2" Type="http://schemas.openxmlformats.org/officeDocument/2006/relationships/slideLayout" Target="../slideLayouts/slideLayout2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44.gif"/><Relationship Id="rId2" Type="http://schemas.openxmlformats.org/officeDocument/2006/relationships/slideLayout" Target="../slideLayouts/slideLayout2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5.gif"/><Relationship Id="rId2" Type="http://schemas.openxmlformats.org/officeDocument/2006/relationships/slideLayout" Target="../slideLayouts/slideLayout2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slideLayout" Target="../slideLayouts/slideLayout2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47.gif"/><Relationship Id="rId2" Type="http://schemas.openxmlformats.org/officeDocument/2006/relationships/slideLayout" Target="../slideLayouts/slideLayout2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slideLayout" Target="../slideLayouts/slideLayout2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619280" y="189000"/>
            <a:ext cx="54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V grapjes (9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>
            <a:hlinkClick r:id="rId1" action="ppaction://hlinksldjump"/>
          </p:cNvPr>
          <p:cNvSpPr/>
          <p:nvPr/>
        </p:nvSpPr>
        <p:spPr>
          <a:xfrm>
            <a:off x="250920" y="112536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rouwen en auto’s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>
            <a:hlinkClick r:id="rId2" action="ppaction://hlinksldjump"/>
          </p:cNvPr>
          <p:cNvSpPr/>
          <p:nvPr/>
        </p:nvSpPr>
        <p:spPr>
          <a:xfrm>
            <a:off x="1042920" y="2133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ffffff"/>
                </a:solidFill>
                <a:latin typeface="Arial"/>
              </a:rPr>
              <a:t>Vrouwen h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rId3" action="ppaction://hlinksldjump"/>
          </p:cNvPr>
          <p:cNvSpPr/>
          <p:nvPr/>
        </p:nvSpPr>
        <p:spPr>
          <a:xfrm>
            <a:off x="179280" y="3141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rouwen 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>
            <a:hlinkClick r:id="rId4" action="ppaction://hlinksldjump"/>
          </p:cNvPr>
          <p:cNvSpPr/>
          <p:nvPr/>
        </p:nvSpPr>
        <p:spPr>
          <a:xfrm>
            <a:off x="1042920" y="4149720"/>
            <a:ext cx="3959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Vrouwen zijn niet idio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>
            <a:hlinkClick r:id="rId5" action="ppaction://hlinksldjump"/>
          </p:cNvPr>
          <p:cNvSpPr/>
          <p:nvPr/>
        </p:nvSpPr>
        <p:spPr>
          <a:xfrm>
            <a:off x="250920" y="5157720"/>
            <a:ext cx="3959280" cy="79236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ffffff"/>
                </a:solidFill>
                <a:latin typeface="Arial"/>
              </a:rPr>
              <a:t>Vrouw versus m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>
            <a:hlinkClick r:id="" action="ppaction://hlinkshowjump?jump=endshow"/>
          </p:cNvPr>
          <p:cNvPicPr/>
          <p:nvPr/>
        </p:nvPicPr>
        <p:blipFill>
          <a:blip r:embed="rId6"/>
          <a:stretch/>
        </p:blipFill>
        <p:spPr>
          <a:xfrm>
            <a:off x="6516720" y="981000"/>
            <a:ext cx="1368360" cy="849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403280" y="5921280"/>
            <a:ext cx="6337440" cy="936720"/>
          </a:xfrm>
          <a:prstGeom prst="octagon">
            <a:avLst>
              <a:gd name="adj" fmla="val 29287"/>
            </a:avLst>
          </a:prstGeom>
          <a:solidFill>
            <a:srgbClr val="ffff00">
              <a:alpha val="48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2556000" y="6308640"/>
            <a:ext cx="4533840" cy="3430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Down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blipFill rotWithShape="0">
                  <a:blip r:embed="rId7"/>
                  <a:srcRect/>
                  <a:stretch/>
                </a:blipFill>
                <a:latin typeface="Poor Richard"/>
              </a:rPr>
              <a:t>www.free-powerpoints.goedbegin.be</a:t>
            </a:r>
            <a:endParaRPr b="1" lang="en-US" sz="2400" spc="1" strike="noStrike">
              <a:ln w="0">
                <a:noFill/>
              </a:ln>
              <a:blipFill rotWithShape="0">
                <a:blip r:embed="rId8"/>
                <a:srcRect/>
                <a:stretch/>
              </a:blipFill>
              <a:latin typeface="Poor Richard"/>
              <a:ea typeface="Poor Richard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1692360" y="6093000"/>
            <a:ext cx="5952960" cy="199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9"/>
                  <a:srcRect/>
                  <a:stretch/>
                </a:blipFill>
                <a:latin typeface="Bookman Old Style"/>
              </a:rPr>
              <a:t>voor meer dan 2500 Powerpoints, click op onderstaande hyperlink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0"/>
                <a:srcRect/>
                <a:stretch/>
              </a:blipFill>
              <a:latin typeface="Bookman Old Style"/>
              <a:ea typeface="Bookman Old Style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autoRev="1" nodeType="after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5" dur="250" autoRev="1" fill="hold"/>
                                        <p:tgtEl>
                                          <p:spTgt spid="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Links er voorbij ging ook nie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219320" y="1676520"/>
            <a:ext cx="6705360" cy="501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Valt mee hoor, alleen weer die spiegel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914400" y="2112840"/>
            <a:ext cx="7543800" cy="474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228240"/>
            <a:ext cx="586764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Verder niets aan de hand, de banden zijn nog he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1143000" y="1600200"/>
            <a:ext cx="6705720" cy="49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952880" y="620640"/>
            <a:ext cx="41911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De auto had de rem verwisseld met het gaspedaal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334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Ik krijg de auto niet van de parkeerplaat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447920" y="1676520"/>
            <a:ext cx="6248160" cy="49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De verkoper zei: met een jeep kan je terreinrijden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447920" y="1600200"/>
            <a:ext cx="64767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ffcc00"/>
                </a:solidFill>
                <a:latin typeface="Comic Sans MS"/>
              </a:rPr>
              <a:t>Ik dacht dat het een afrit was ..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23888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852480" y="533520"/>
            <a:ext cx="7915320" cy="21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De kortingsregeling wordt wellicht herzien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190880" cy="8571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3746520" y="4049640"/>
            <a:ext cx="1190520" cy="8571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6599160" y="2878200"/>
            <a:ext cx="1190880" cy="857160"/>
          </a:xfrm>
          <a:prstGeom prst="rect">
            <a:avLst/>
          </a:prstGeom>
          <a:ln w="0">
            <a:noFill/>
          </a:ln>
        </p:spPr>
      </p:pic>
      <p:sp>
        <p:nvSpPr>
          <p:cNvPr id="86" name="">
            <a:hlinkClick r:id="rId4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557000"/>
            <a:ext cx="914400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Ik heb het altijd al gewet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134100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En hier is het</a:t>
            </a:r>
            <a:br>
              <a:rPr sz="4400"/>
            </a:b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BEWIJS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826920" y="0"/>
            <a:ext cx="791532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Vrouwen rijden minder aggressief dan mannen. Daarom  krijgen ze vaak korting bij de autoverzekering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ff00"/>
                </a:solidFill>
                <a:latin typeface="Comic Sans MS"/>
              </a:rPr>
              <a:t>Zie hier enkele voorbeelden van hun kunnen. Inclusief het commentaar van de dames richting de verzekeringsmaatschappij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981080" y="2743200"/>
            <a:ext cx="1190880" cy="8571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746520" y="4049640"/>
            <a:ext cx="1190520" cy="8571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599160" y="2878200"/>
            <a:ext cx="119088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549000"/>
            <a:ext cx="9144000" cy="57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Ze kunnen  </a:t>
            </a:r>
            <a:br>
              <a:rPr sz="9600"/>
            </a:b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het gewoon</a:t>
            </a:r>
            <a:br>
              <a:rPr sz="9600"/>
            </a:b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NIE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50920" y="404640"/>
            <a:ext cx="8229600" cy="165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700360" y="836640"/>
            <a:ext cx="4824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239840" y="790560"/>
            <a:ext cx="2540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95280" y="0"/>
            <a:ext cx="70772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Tahoma"/>
              </a:rPr>
              <a:t>Vrouwen en Autorijde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04920" y="2744640"/>
            <a:ext cx="5181480" cy="38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5400" spc="-1" strike="noStrike">
                <a:solidFill>
                  <a:srgbClr val="000000"/>
                </a:solidFill>
                <a:latin typeface="Arial"/>
              </a:rPr>
              <a:t>Kan het NOG erger?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990720" y="1905120"/>
            <a:ext cx="6629400" cy="43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0" spc="-1" strike="noStrike">
                <a:solidFill>
                  <a:srgbClr val="000000"/>
                </a:solidFill>
                <a:latin typeface="Arial"/>
              </a:rPr>
              <a:t>DAT KAN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066680" y="1828800"/>
            <a:ext cx="6477120" cy="48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380880"/>
            <a:ext cx="91440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En of je het gelooft of niet,</a:t>
            </a:r>
            <a:br>
              <a:rPr sz="4800"/>
            </a:br>
            <a:r>
              <a:rPr b="0" lang="de-DE" sz="4800" spc="-1" strike="noStrike">
                <a:solidFill>
                  <a:srgbClr val="000000"/>
                </a:solidFill>
                <a:latin typeface="Arial"/>
              </a:rPr>
              <a:t>dit kan alleen een vrouw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2120" y="1981080"/>
            <a:ext cx="7086600" cy="43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91720" cy="609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Hier zijn geen woorden voor nodig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    Alles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is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     duide </a:t>
            </a:r>
            <a:br>
              <a:rPr sz="6600"/>
            </a:b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                      lijk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533520" y="2286000"/>
            <a:ext cx="530388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764640"/>
            <a:ext cx="9144000" cy="486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600" spc="-1" strike="noStrike">
                <a:solidFill>
                  <a:srgbClr val="000000"/>
                </a:solidFill>
                <a:latin typeface="Arial"/>
              </a:rPr>
              <a:t>Maar er zijn ook nog andere voorbeelden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480" y="304920"/>
            <a:ext cx="8001000" cy="62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Auch, leen je auto nooit</a:t>
            </a:r>
            <a:br>
              <a:rPr sz="4000"/>
            </a:br>
            <a:r>
              <a:rPr b="0" lang="de-DE" sz="4000" spc="-1" strike="noStrike">
                <a:solidFill>
                  <a:srgbClr val="000000"/>
                </a:solidFill>
                <a:latin typeface="Arial"/>
              </a:rPr>
              <a:t>uit aan je vrou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666880" y="1981080"/>
            <a:ext cx="38642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Ja, nu is het genoeg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187280" y="1717560"/>
            <a:ext cx="7201080" cy="493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86868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„</a:t>
            </a: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Ach het valt mee hoor. Alleen de linker spiegel is kapot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905120" y="2397240"/>
            <a:ext cx="5333760" cy="407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600" spc="-1" strike="noStrike">
                <a:solidFill>
                  <a:srgbClr val="000000"/>
                </a:solidFill>
                <a:latin typeface="Arial"/>
              </a:rPr>
              <a:t>DOE ONS DIT NIET AAN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5715000" cy="428472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2280" y="838080"/>
            <a:ext cx="8991720" cy="4635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bbe0e3"/>
                </a:solidFill>
                <a:latin typeface="Arial Unicode MS"/>
              </a:rPr>
              <a:t>Antwoord op één van de grootste vragen ooit :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 Unicode MS"/>
              </a:rPr>
              <a:t>Maar waarom leven mannen minder lang dan vrouwe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bbe0e3"/>
                </a:solidFill>
                <a:latin typeface="Arial Unicode MS"/>
              </a:rPr>
              <a:t>Antwoorden in de afbeeldingen …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04920" y="609480"/>
            <a:ext cx="8534160" cy="5773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503280"/>
            <a:ext cx="8839440" cy="594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380880"/>
            <a:ext cx="8991720" cy="6067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76320" y="468360"/>
            <a:ext cx="8991360" cy="60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4571640"/>
            <a:ext cx="6477120" cy="6858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Het is dat, dat de mannen doodt 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09480" y="2285640"/>
            <a:ext cx="7848720" cy="1523880"/>
          </a:xfrm>
          <a:prstGeom prst="rect">
            <a:avLst/>
          </a:prstGeom>
          <a:solidFill>
            <a:srgbClr val="ff99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333399"/>
                </a:solidFill>
                <a:latin typeface="Arial"/>
              </a:rPr>
              <a:t>Dat alles omdat de vrouwen te mooi zijn…!!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Fw the difference between men .jpg"/>
          <p:cNvPicPr/>
          <p:nvPr/>
        </p:nvPicPr>
        <p:blipFill>
          <a:blip r:embed="rId1"/>
          <a:stretch/>
        </p:blipFill>
        <p:spPr>
          <a:xfrm>
            <a:off x="4430880" y="0"/>
            <a:ext cx="4713120" cy="685800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395280" y="765000"/>
            <a:ext cx="3889440" cy="521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Waarom zijn</a:t>
            </a:r>
            <a:br>
              <a:rPr sz="4800"/>
            </a:b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vrouwen aantrek-kelijker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da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4800" spc="-1" strike="noStrike">
                <a:solidFill>
                  <a:srgbClr val="ffffff"/>
                </a:solidFill>
                <a:latin typeface="Comic Sans MS"/>
              </a:rPr>
              <a:t>mannen 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0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Fw the difference between men 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42991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39640" y="5157720"/>
            <a:ext cx="813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ffffff"/>
                </a:solidFill>
                <a:latin typeface="Comic Sans MS"/>
              </a:rPr>
              <a:t>… </a:t>
            </a:r>
            <a:r>
              <a:rPr b="1" lang="de-CH" sz="3600" spc="-1" strike="noStrike">
                <a:solidFill>
                  <a:srgbClr val="ffffff"/>
                </a:solidFill>
                <a:latin typeface="Comic Sans MS"/>
              </a:rPr>
              <a:t>Heeft U nog andere vragen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Waarom hebben vrouwen twee ha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028840" y="456840"/>
            <a:ext cx="396252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„</a:t>
            </a: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Ze hebben me klemgeparkeerd.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1268280"/>
            <a:ext cx="480060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rcRect l="0" t="0" r="0" b="1782"/>
          <a:stretch/>
        </p:blipFill>
        <p:spPr>
          <a:xfrm>
            <a:off x="826920" y="189000"/>
            <a:ext cx="7632720" cy="630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4400" spc="-1" strike="noStrike">
                <a:solidFill>
                  <a:srgbClr val="000000"/>
                </a:solidFill>
                <a:latin typeface="Arial"/>
              </a:rPr>
              <a:t>En waarom hebben mannen twee handen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24000" y="260280"/>
            <a:ext cx="4753080" cy="6337440"/>
          </a:xfrm>
          <a:prstGeom prst="rect">
            <a:avLst/>
          </a:prstGeom>
          <a:ln w="0">
            <a:noFill/>
          </a:ln>
        </p:spPr>
      </p:pic>
      <p:sp>
        <p:nvSpPr>
          <p:cNvPr id="128" name="">
            <a:hlinkClick r:id="rId2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4800" spc="-1" strike="noStrike">
                <a:solidFill>
                  <a:srgbClr val="009999"/>
                </a:solidFill>
                <a:latin typeface="Alba"/>
              </a:rPr>
              <a:t>♥ ♥ ♥ ♥ ♥ ♥ ♥ ♥ ♥ ♥ ♥ ♥ ♥ ♥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Vrouwen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Zijn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       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Nie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                               </a:t>
            </a: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Idioo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333399"/>
                </a:solidFill>
                <a:latin typeface="Comic Sans MS"/>
              </a:rPr>
              <a:t>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4000">
    <p:wipe dir="d"/>
  </p:transition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800" spc="-1" strike="noStrike">
                <a:solidFill>
                  <a:srgbClr val="000000"/>
                </a:solidFill>
                <a:latin typeface="Comic Sans MS"/>
              </a:rPr>
              <a:t>Elf personen, tien mannen en een vrouw, hingen aan eenzelfde touw, dat vast zat aan een helikopter.</a:t>
            </a:r>
            <a:br>
              <a:rPr sz="4800"/>
            </a:br>
            <a:br>
              <a:rPr sz="4800"/>
            </a:br>
            <a:r>
              <a:rPr b="0" lang="nl-NL" sz="1600" spc="-1" strike="noStrike">
                <a:solidFill>
                  <a:srgbClr val="000000"/>
                </a:solidFill>
                <a:latin typeface="Comic Sans MS"/>
              </a:rPr>
              <a:t>Klik om verder te gaa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d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touw was niet stevig genoeg om het gewicht van allen te dragen en er werd beslist dat één persoon moest loslaten, anders zouden ze allemaal dood vallen.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4360" y="765000"/>
            <a:ext cx="77738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Ze slaagden er niet in te kiezen wie moest loslaten, tot plots de vrouw met vastbesloten stem aankondigde dat zij zich vrijwillig zou opofferen.</a:t>
            </a:r>
            <a:br>
              <a:rPr sz="44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898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04640"/>
            <a:ext cx="77724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nt, zo zei ze, ze was het gewoon om haar eigen interesse op de tweede plaats te zetten:</a:t>
            </a:r>
            <a:br>
              <a:rPr sz="4400"/>
            </a:b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angezien z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8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84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1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Als moeder, steeds voorrang              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gaf aan de kinderen;</a:t>
            </a:r>
            <a:br>
              <a:rPr sz="4000"/>
            </a:b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2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Als echtgenote, steeds d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belangen van haar man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voorrang gaf op die van haar;</a:t>
            </a:r>
            <a:br>
              <a:rPr sz="4000"/>
            </a:b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3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Als dochter, zwichtte z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voor haar vader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0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7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765000"/>
            <a:ext cx="77724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bbe0e3"/>
                </a:solidFill>
                <a:latin typeface="Comic Sans MS"/>
              </a:rPr>
              <a:t>4/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Als werkneemster toeliet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dat haar bazen de eer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opstreken van haar successen.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En….. “Als vrouw”, zei ze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terwijl haar blik in het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oneindige staarde en ze een</a:t>
            </a:r>
            <a:br>
              <a:rPr sz="3600"/>
            </a:b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      hand op haar hart legde,</a:t>
            </a:r>
            <a:br>
              <a:rPr sz="36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Ik dacht, zo‘n steentje geeft toch nie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57400" y="2514600"/>
            <a:ext cx="525780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s het haar taak in het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leven om zich op te offer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voor de anderen, zonder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daarvoor iets in ruil te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verwachten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5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569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Euforisch van emotie en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trots,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barstte er een heftig applaus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los onder de mannen…en de     </a:t>
            </a: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    idioten vielen allemaal.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Moraal van dit  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verhaal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 voor de mannen:</a:t>
            </a:r>
            <a:br>
              <a:rPr sz="5400"/>
            </a:b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Vertrouw nooit op de 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 opoffering van een</a:t>
            </a:r>
            <a:br>
              <a:rPr sz="5400"/>
            </a:br>
            <a:r>
              <a:rPr b="0" lang="nl-NL" sz="5400" spc="-1" strike="noStrike">
                <a:solidFill>
                  <a:srgbClr val="000000"/>
                </a:solidFill>
                <a:latin typeface="Comic Sans MS"/>
              </a:rPr>
              <a:t>       vrouw;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84360" y="1052640"/>
            <a:ext cx="7272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9600" spc="-1" strike="noStrike">
                <a:solidFill>
                  <a:srgbClr val="000000"/>
                </a:solidFill>
                <a:latin typeface="Comic Sans MS"/>
              </a:rPr>
              <a:t>Ze is nobel,</a:t>
            </a:r>
            <a:br>
              <a:rPr sz="9600"/>
            </a:br>
            <a:r>
              <a:rPr b="0" lang="nl-NL" sz="9600" spc="-1" strike="noStrike">
                <a:solidFill>
                  <a:srgbClr val="000000"/>
                </a:solidFill>
                <a:latin typeface="Comic Sans MS"/>
              </a:rPr>
              <a:t>maar niet idioo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784692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tuur dit verhaal naar alle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rouwen die je kent, zodat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ze een reden hebben, om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xtra te lachen vandaag.</a:t>
            </a:r>
            <a:br>
              <a:rPr sz="4400"/>
            </a:br>
            <a:r>
              <a:rPr b="1" lang="nl-NL" sz="4800" spc="-1" strike="noStrike">
                <a:solidFill>
                  <a:srgbClr val="333399"/>
                </a:solidFill>
                <a:latin typeface="Arial"/>
              </a:rPr>
              <a:t>☺☺☺☺☺☺☺☺☺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fill="hold">
                      <p:stCondLst>
                        <p:cond delay="0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Je kunt het ook naar een man sturen en als hij het niet helemaal begrijpt zullen we het hem wel uitleggen.</a:t>
            </a:r>
            <a:br>
              <a:rPr sz="4400"/>
            </a:b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~~~~~~~~~~~~~~~~~~~~~~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Vrouw vs. man -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3952800" y="363852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  <p:transition spd="med">
    <p:cover dir="r"/>
    <p:sndAc>
      <p:stSnd>
        <p:snd r:embed="rId2" name="Love%20and%20Marriage%201%5D(sm).wav"/>
      </p:stSnd>
    </p:sndAc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: . . . Ik begrijp eigenlijk niet waarom jij een BH draagt, want je hebt toch niets om erin te stoppe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: . . . Jij draagt toch ook een onderbroek, niet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238640" y="2286000"/>
            <a:ext cx="66672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. . . Zullen we vanavond eens van positie verandere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 . . . Voortreffelijk – dan doe jij de strijk, terwijl ik eens luilekker in de zetel zit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952800" y="2857680"/>
            <a:ext cx="12384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. . . Waar, in Godsnaam, is toch al dat huishoudgeld naartoe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ij . . . Bekijk je profiel maar eens in de spiegel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000680" y="2133720"/>
            <a:ext cx="114300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Ik snap er niets van: de motor doet het, maar toch kom ik niet vooruit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447920" y="2438280"/>
            <a:ext cx="6324480" cy="42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 de muur van het damestoilet staat geschreven . . . "Mijn man volgt mij altijd en overal." Eronder. . 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" Ik niet!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4000680" y="2819520"/>
            <a:ext cx="1143000" cy="80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 weet je dat een man plannen maakt voor de toekomst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j koopt twee bakken bier in plaats van één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4000680" y="236232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zijn blondenmoppen zo kort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odat de mannen ze kunnen onthoud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3948120" y="2209680"/>
            <a:ext cx="1247760" cy="145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veel mannen heb je nodig om een W.C.-rol te vervange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eten het nog steeds niet, want dat is nog nooit gebeu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4262400" y="2962440"/>
            <a:ext cx="619200" cy="933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is het zo moeilijk om een gevoelige, liefdevolle en knappe man te vinde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mdat het homo’s zijn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4119480" y="2881440"/>
            <a:ext cx="905040" cy="109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914040" y="38862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e noem je een vrouw, die weet waar haar man ‘s nachts uithangt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en weduwvrou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162320" y="2743200"/>
            <a:ext cx="79056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arom zijn gehuwde vrouwen molliger dan alleenstaande vrouwen?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eenstaande vrouwen komen thuis, kijken wat er in de frigo ligt en gaan slapen. Gehuwde vrouwen komen thuis, kijken wat er in bed is en lopen naar de frigo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4091040" y="3024360"/>
            <a:ext cx="961920" cy="80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t hebben mannen, die zich in bars voor alleenstaanden bevinden, allemaal gemeen?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Ze zijn getrouwd!</a:t>
            </a:r>
            <a:br>
              <a:rPr sz="3600"/>
            </a:br>
            <a:br>
              <a:rPr sz="12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3952800" y="2209680"/>
            <a:ext cx="1238400" cy="1238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n tegen God: "God, waarom heb je de vrouw zo mooi gemaakt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: “Zodat je haar zou liefhebben."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ar God," zegt de man, "waarom heb je haar dan zo dom gemaakt?"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d: “Zodat ze in staat zou zijn om van u te houden."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4000680" y="2362320"/>
            <a:ext cx="1143000" cy="76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ZEND DEZE MAIL NAAR  SLIMME VROUWEN, DIE GRAAG LACHEN </a:t>
            </a: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 NAAR MANNEN, DIE DENKEN HET AAN TE KUNNEN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>
            <a:hlinkClick r:id="rId1" action="ppaction://hlinksldjump"/>
          </p:cNvPr>
          <p:cNvSpPr/>
          <p:nvPr/>
        </p:nvSpPr>
        <p:spPr>
          <a:xfrm>
            <a:off x="7596360" y="5877000"/>
            <a:ext cx="1295280" cy="792000"/>
          </a:xfrm>
          <a:prstGeom prst="rect">
            <a:avLst/>
          </a:prstGeom>
          <a:solidFill>
            <a:srgbClr val="ff0000">
              <a:alpha val="6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eru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609120"/>
            <a:ext cx="8686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ffcc00"/>
                </a:solidFill>
                <a:latin typeface="Comic Sans MS"/>
              </a:rPr>
              <a:t>Er stond nergens dat ik hier niet in mocht rijden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828800" y="2852640"/>
            <a:ext cx="5715000" cy="355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457200"/>
            <a:ext cx="800100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bfa"/>
            </a:gs>
            <a:gs pos="100000">
              <a:srgbClr val="5e9e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ffcc00"/>
                </a:solidFill>
                <a:latin typeface="Comic Sans MS"/>
              </a:rPr>
              <a:t>Ja kan ik er wat aan doen? Er staat toch „customer parking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219320" y="1600200"/>
            <a:ext cx="685800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5T18:55:52Z</dcterms:created>
  <dc:creator>www.free-powerpoints.goedbegin.be </dc:creator>
  <dc:description/>
  <dc:language>en-US</dc:language>
  <cp:lastModifiedBy>Smets</cp:lastModifiedBy>
  <dcterms:modified xsi:type="dcterms:W3CDTF">2009-11-23T20:11:53Z</dcterms:modified>
  <cp:revision>201</cp:revision>
  <dc:subject/>
  <dc:title>Dia 1</dc:title>
</cp:coreProperties>
</file>