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media/image11.jpeg" ContentType="image/jpeg"/>
  <Override PartName="/ppt/media/image31.gif" ContentType="image/gif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19.jpeg" ContentType="image/jpeg"/>
  <Override PartName="/ppt/media/image32.gif" ContentType="image/gif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9581-2806-458A-A30C-73635D043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3699-ADD5-407A-B208-06B12EBC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E473-595E-4F89-AF07-D758DFE2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185C-170D-44EA-8F3F-CBA8A53C6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39EA-9F1D-4973-B280-C4E7AA42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472F-8565-4BA0-A678-70808297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C0AE-BDD0-4860-8B13-7A220651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76D0-2454-4F57-AD6F-525328DC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C0AE-B027-4E18-9C8D-773D1520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C179-FB56-4A7D-9B4C-430192DC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4B6B-0C78-41FA-938B-3D350AD1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1908-36B8-4830-B832-D505FC7F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E275-AFF0-4A29-B56A-A66B3CFB0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image" Target="../media/image32.gif"/><Relationship Id="rId7" Type="http://schemas.openxmlformats.org/officeDocument/2006/relationships/image" Target="../media/image32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 maakt het leven zo waardev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b elkaar l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elk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ect elk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f naast elk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rouw elk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 ziet de wereld er een stuk beter u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uister naar dit dieren adv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3148200" cy="4033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148360" y="2565360"/>
            <a:ext cx="3813120" cy="3494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35280" y="189000"/>
            <a:ext cx="2581200" cy="1942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4000" y="5941800"/>
            <a:ext cx="281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k era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ede mensen wor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 iets goeds beloon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48720" y="6092280"/>
            <a:ext cx="32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 is altijd iemand die me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 je houdt dan je w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35640" y="2133000"/>
            <a:ext cx="36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e iedere dag wat oefening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89440" y="4436280"/>
            <a:ext cx="24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e je naam eer a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076720" y="476280"/>
            <a:ext cx="2610000" cy="3889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932720" y="4436640"/>
            <a:ext cx="301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ak je niet al te bezorg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 je gewich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t is maar een get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042920" y="1197000"/>
            <a:ext cx="2712960" cy="3168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8713800" cy="6535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24000" y="33300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Houd goede vrienden goed vast; er zijn er maar wein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en ze zijn ver weg!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En denk era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die vriend denkt aan j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Heb een fijne da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0" dur="5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3" dur="25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4464000" cy="2573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8360" y="3284640"/>
            <a:ext cx="273672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076720" y="4221000"/>
            <a:ext cx="3867120" cy="2419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3480" y="188280"/>
            <a:ext cx="34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p altijd een vriend in n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000" y="638100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loof  in jez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33440" y="3788640"/>
            <a:ext cx="22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ES DAPPER!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000680" cy="2886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780000" y="3141720"/>
            <a:ext cx="2152440" cy="3265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372360" y="189000"/>
            <a:ext cx="2539800" cy="4254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8200" y="3068280"/>
            <a:ext cx="332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ar onthoud... dat je so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ok wel eens bang mag zij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9440" y="638100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ef een heleboel kusj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40960" y="4436280"/>
            <a:ext cx="29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ie het glas altijd halfv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27280" y="189000"/>
            <a:ext cx="3816360" cy="2840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0920" y="3745080"/>
            <a:ext cx="3457440" cy="2614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148360" y="3716280"/>
            <a:ext cx="3456000" cy="2673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55320" y="3067920"/>
            <a:ext cx="67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tmoet nieuwe mensen, ook al zien zij er anders uit dan jij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0000" y="630792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ijf Kalm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6360" y="6307920"/>
            <a:ext cx="38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lfs als de situatie hopeloos lijk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238560" cy="2324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0920" y="3860640"/>
            <a:ext cx="3313080" cy="2467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356000" y="1989000"/>
            <a:ext cx="4611960" cy="3062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7120" y="2491560"/>
            <a:ext cx="41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e een dutje als je dat nodig hebt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280" y="3212640"/>
            <a:ext cx="309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b een goed gevoel vo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or en lach va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4560" y="5083920"/>
            <a:ext cx="467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b je vrienden lief, ongeacht wie ze zij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113440" cy="2943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95280" y="4221000"/>
            <a:ext cx="4321080" cy="2355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796000" y="2349360"/>
            <a:ext cx="3170160" cy="3529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80360" y="3141000"/>
            <a:ext cx="25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spil geen voeds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660640" y="1628280"/>
            <a:ext cx="348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TSPAN JE...  ZELFS 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ULKE SPANNENDE DAGEN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5440" y="3788640"/>
            <a:ext cx="35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f soms wat risico te ne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780000" y="115920"/>
            <a:ext cx="2336760" cy="3384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932360" y="3759120"/>
            <a:ext cx="4040280" cy="2925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79280" y="1484280"/>
            <a:ext cx="3291120" cy="4392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228720" y="1341000"/>
            <a:ext cx="25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ht iedere dag w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ezier te mak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27280" y="3357000"/>
            <a:ext cx="277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...het geeft niet ho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0000" y="5949360"/>
            <a:ext cx="32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nwerking is belangrij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692360" y="3465360"/>
            <a:ext cx="3384360" cy="3065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76720" y="836640"/>
            <a:ext cx="3924360" cy="2274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4032360" cy="2697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79280" y="2851920"/>
            <a:ext cx="31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g vaak: “Ik houd van j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20000" y="6490440"/>
            <a:ext cx="45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el een grap met je vrienden en bur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86600" y="475560"/>
            <a:ext cx="47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word verliefd op een bijzonder ieman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2919240" cy="3240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651640" y="3416400"/>
            <a:ext cx="3317760" cy="3105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780000" y="476280"/>
            <a:ext cx="3743280" cy="2610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2720" y="6236640"/>
            <a:ext cx="26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uk jezelf creatief u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39160" y="6490440"/>
            <a:ext cx="47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es altijd voorbereid op een verrass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800" y="11520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el met een vri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08:35:54Z</dcterms:created>
  <dc:creator>Ton</dc:creator>
  <dc:description/>
  <dc:language>en-US</dc:language>
  <cp:lastModifiedBy>Smets</cp:lastModifiedBy>
  <dcterms:modified xsi:type="dcterms:W3CDTF">2009-03-10T20:29:58Z</dcterms:modified>
  <cp:revision>7</cp:revision>
  <dc:subject/>
  <dc:title>Dia 1</dc:title>
</cp:coreProperties>
</file>