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28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9.jpeg" ContentType="image/jpeg"/>
  <Override PartName="/ppt/media/image12.jpeg" ContentType="image/jpeg"/>
  <Override PartName="/ppt/media/image11.jpeg" ContentType="image/jpeg"/>
  <Override PartName="/ppt/media/image31.gif" ContentType="image/gif"/>
  <Override PartName="/ppt/media/image30.jpeg" ContentType="image/jpeg"/>
  <Override PartName="/ppt/media/image3.jpeg" ContentType="image/jpeg"/>
  <Override PartName="/ppt/media/image24.jpeg" ContentType="image/jpeg"/>
  <Override PartName="/ppt/media/image5.jpeg" ContentType="image/jpeg"/>
  <Override PartName="/ppt/media/image26.jpeg" ContentType="image/jpeg"/>
  <Override PartName="/ppt/media/image19.jpeg" ContentType="image/jpeg"/>
  <Override PartName="/ppt/media/image32.gif" ContentType="image/gif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A4B5-3B14-44A3-93AA-0CB6FED57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F682-4ACB-40F2-89F2-0C1BB439B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0204-6FBC-4959-8DAA-D2907CA63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6674-9E64-41B0-9FC4-678E15DAC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993C-0BD9-4626-8A73-E5B81B6B4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FEB3-2469-4BBF-AE65-E59963209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8F26-8528-4C37-808E-61903FE64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E90D7-0D05-4BDC-85A4-ED224B413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C7D5-4EDE-4DDB-8B47-3672F8468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4667-E42C-4729-AFF3-B1D338EB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7E852-59A0-4B0C-9C43-B51F85CD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3664-B100-45EC-9D47-2672AB0E4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165BF-D12C-4BE0-B1AF-D534263397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gif"/><Relationship Id="rId5" Type="http://schemas.openxmlformats.org/officeDocument/2006/relationships/image" Target="../media/image31.gif"/><Relationship Id="rId6" Type="http://schemas.openxmlformats.org/officeDocument/2006/relationships/image" Target="../media/image32.gif"/><Relationship Id="rId7" Type="http://schemas.openxmlformats.org/officeDocument/2006/relationships/image" Target="../media/image32.gi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at maakt het leven zo waardev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b elkaar li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elk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ect elk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ef naast elk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trouw elk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n ziet de wereld er een stuk beter u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uister naar dit dieren advie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79280" y="1916280"/>
            <a:ext cx="3148200" cy="40338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148360" y="2565360"/>
            <a:ext cx="3813120" cy="34941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35280" y="189000"/>
            <a:ext cx="2581200" cy="194292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24000" y="5941800"/>
            <a:ext cx="281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nk eraa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ede mensen word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 iets goeds beloon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148720" y="6092280"/>
            <a:ext cx="320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 is altijd iemand die me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an je houdt dan je we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635640" y="2133000"/>
            <a:ext cx="362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e iedere dag wat oefeninge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189440" y="4436280"/>
            <a:ext cx="24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e je naam eer a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076720" y="476280"/>
            <a:ext cx="2610000" cy="38894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932720" y="4436640"/>
            <a:ext cx="301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ak je niet al te bezorg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 je gewicht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t is maar een getal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042920" y="1197000"/>
            <a:ext cx="2712960" cy="31687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8713800" cy="65358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24000" y="333000"/>
            <a:ext cx="835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Houd goede vrienden goed vast; er zijn er maar weini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en ze zijn ver weg!</a:t>
            </a: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En denk eraa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die vriend denkt aan j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Heb een fijne dag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03280" y="5921280"/>
            <a:ext cx="6337440" cy="936720"/>
          </a:xfrm>
          <a:prstGeom prst="octagon">
            <a:avLst>
              <a:gd name="adj" fmla="val 29287"/>
            </a:avLst>
          </a:prstGeom>
          <a:solidFill>
            <a:srgbClr val="ffff00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2556000" y="630864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92360" y="6093000"/>
            <a:ext cx="5952960" cy="19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3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3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4000"/>
                            </p:stCondLst>
                            <p:childTnLst>
                              <p:par>
                                <p:cTn id="239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0" dur="500" fill="hold"/>
                                        <p:tgtEl>
                                          <p:spTgt spid="10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4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3" dur="250" autoRev="1" fill="hold"/>
                                        <p:tgtEl>
                                          <p:spTgt spid="10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4464000" cy="25732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68360" y="3284640"/>
            <a:ext cx="2736720" cy="30970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076720" y="4221000"/>
            <a:ext cx="3867120" cy="24195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93480" y="188280"/>
            <a:ext cx="34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lp altijd een vriend in no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000" y="6381000"/>
            <a:ext cx="193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loof  in jezel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733440" y="3788640"/>
            <a:ext cx="220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ES DAPPER!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4000680" cy="2886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780000" y="3141720"/>
            <a:ext cx="2152440" cy="3265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6372360" y="189000"/>
            <a:ext cx="2539800" cy="42544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78200" y="3068280"/>
            <a:ext cx="332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ar onthoud... dat je so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ok wel eens bang mag zijn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709440" y="6381000"/>
            <a:ext cx="297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ef een heleboel kusj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240960" y="4436280"/>
            <a:ext cx="290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ie het glas altijd halfv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627280" y="189000"/>
            <a:ext cx="3816360" cy="28400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250920" y="3745080"/>
            <a:ext cx="3457440" cy="2614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5148360" y="3716280"/>
            <a:ext cx="3456000" cy="26733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255320" y="3067920"/>
            <a:ext cx="678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tmoet nieuwe mensen, ook al zien zij er anders uit dan jij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0000" y="6307920"/>
            <a:ext cx="142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lijf Kalm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76360" y="6307920"/>
            <a:ext cx="38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elfs als de situatie hopeloos lijk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3238560" cy="23241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250920" y="3860640"/>
            <a:ext cx="3313080" cy="24670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4356000" y="1989000"/>
            <a:ext cx="4611960" cy="30625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77120" y="2491560"/>
            <a:ext cx="415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e een dutje als je dat nodig hebt.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1280" y="3212640"/>
            <a:ext cx="309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b een goed gevoel vo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umor en lach vaa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354560" y="5083920"/>
            <a:ext cx="467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b je vrienden lief, ongeacht wie ze zij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5113440" cy="2943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395280" y="4221000"/>
            <a:ext cx="4321080" cy="2355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5796000" y="2349360"/>
            <a:ext cx="3170160" cy="35290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80360" y="3141000"/>
            <a:ext cx="251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spil geen voeds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660640" y="1628280"/>
            <a:ext cx="348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TSPAN JE...  ZELFS O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ULKE SPANNENDE DAGEN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5440" y="3788640"/>
            <a:ext cx="355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urf soms wat risico te nem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780000" y="115920"/>
            <a:ext cx="2336760" cy="33843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932360" y="3759120"/>
            <a:ext cx="4040280" cy="29257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179280" y="1484280"/>
            <a:ext cx="3291120" cy="43927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228720" y="1341000"/>
            <a:ext cx="259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ht iedere dag wa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ezier te make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227280" y="3357000"/>
            <a:ext cx="277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...het geeft niet hoe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80000" y="5949360"/>
            <a:ext cx="32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nwerking is belangrijk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692360" y="3465360"/>
            <a:ext cx="3384360" cy="30657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5076720" y="836640"/>
            <a:ext cx="3924360" cy="22748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179280" y="115920"/>
            <a:ext cx="4032360" cy="26971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79280" y="2851920"/>
            <a:ext cx="31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eg vaak: “Ik houd van je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20000" y="6490440"/>
            <a:ext cx="451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el een grap met je vrienden en bure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86600" y="475560"/>
            <a:ext cx="475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 word verliefd op een bijzonder ieman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50920" y="2924280"/>
            <a:ext cx="2919240" cy="3240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651640" y="3416400"/>
            <a:ext cx="3317760" cy="3105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780000" y="476280"/>
            <a:ext cx="3743280" cy="2610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52720" y="6236640"/>
            <a:ext cx="261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ruk jezelf creatief u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39160" y="6490440"/>
            <a:ext cx="470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es altijd voorbereid op een verrass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81800" y="115200"/>
            <a:ext cx="240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el met een vrie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2T08:35:54Z</dcterms:created>
  <dc:creator>Ton</dc:creator>
  <dc:description/>
  <dc:language>en-US</dc:language>
  <cp:lastModifiedBy>Smets</cp:lastModifiedBy>
  <dcterms:modified xsi:type="dcterms:W3CDTF">2009-03-10T20:29:58Z</dcterms:modified>
  <cp:revision>7</cp:revision>
  <dc:subject/>
  <dc:title>Dia 1</dc:title>
</cp:coreProperties>
</file>