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53AE-34A4-4028-8760-33BD6305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6A2F-43FE-4471-B0EE-18346D40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4306-3F71-4ABB-9243-45B9BFE5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0FE-778F-4505-AFAD-7D71B9FC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D89E-2C71-45CC-BFCF-0FB12A4B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C1B-9A19-4BE4-A4B6-DBD43524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F28-8CE8-493A-B81D-DDBF1D24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BFB-47DD-42E0-B06D-9BF763AE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116-788C-4B08-AD68-616E41B8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BAB8-1276-46F8-AB75-9782C6EE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F680-D8BA-4D50-B833-3A8A12AF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D31-D1FF-4060-A739-DA0C46BE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F168A-AD0F-43EE-BF0E-754B4AE7004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B545C-74DD-406E-97DE-54E4ECFAEB6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3.xml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9.xml"/><Relationship Id="rId5" Type="http://schemas.openxmlformats.org/officeDocument/2006/relationships/slide" Target="slide7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4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slide5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8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9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9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97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00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20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5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20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8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210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11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213" name="Picture 13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14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16" name="Picture 16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7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220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5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223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8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226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1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229" name="Picture 13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4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32" name="Picture 16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7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23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23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24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24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4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252" name="Picture 4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5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255" name="Picture 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8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258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11">
              <a:hlinkClick r:id="rId7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261" name="Picture 13" descr=""/>
            <p:cNvPicPr/>
            <p:nvPr/>
          </p:nvPicPr>
          <p:blipFill>
            <a:blip r:embed="rId8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14">
              <a:hlinkClick r:id="rId9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64" name="Picture 16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17">
              <a:hlinkClick r:id="rId12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268" name="Picture 4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5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271" name="Picture 7" descr=""/>
            <p:cNvPicPr/>
            <p:nvPr/>
          </p:nvPicPr>
          <p:blipFill>
            <a:blip r:embed="rId3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3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274" name="Picture 10" descr=""/>
            <p:cNvPicPr/>
            <p:nvPr/>
          </p:nvPicPr>
          <p:blipFill>
            <a:blip r:embed="rId4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11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277" name="Picture 13" descr=""/>
            <p:cNvPicPr/>
            <p:nvPr/>
          </p:nvPicPr>
          <p:blipFill>
            <a:blip r:embed="rId5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14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280" name="Picture 16" descr=""/>
            <p:cNvPicPr/>
            <p:nvPr/>
          </p:nvPicPr>
          <p:blipFill>
            <a:blip r:embed="rId6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17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5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8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1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3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4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6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7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2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5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2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8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30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1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33" name="Picture 13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4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36" name="Picture 16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7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4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4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4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4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5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56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5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59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8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62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1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65" name="Picture 13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4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68" name="Picture 16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17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3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72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5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6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75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8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Group 9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78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1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81" name="Picture 13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4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Group 15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84" name="Picture 16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7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2:17:59Z</dcterms:created>
  <dc:creator>최봉수</dc:creator>
  <dc:description/>
  <dc:language>en-US</dc:language>
  <cp:lastModifiedBy>맛있다 군만두</cp:lastModifiedBy>
  <dcterms:modified xsi:type="dcterms:W3CDTF">2023-07-13T08:47:57Z</dcterms:modified>
  <cp:revision>3</cp:revision>
  <dc:subject/>
  <dc:title>슬라이드 1</dc:title>
</cp:coreProperties>
</file>