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59.wmf" ContentType="image/x-wmf"/>
  <Override PartName="/ppt/media/image58.wmf" ContentType="image/x-wmf"/>
  <Override PartName="/ppt/media/image54.png" ContentType="image/png"/>
  <Override PartName="/ppt/media/image11.wmf" ContentType="image/x-wmf"/>
  <Override PartName="/ppt/media/image53.wmf" ContentType="image/x-wmf"/>
  <Override PartName="/ppt/media/image51.wmf" ContentType="image/x-wmf"/>
  <Override PartName="/ppt/media/image94.png" ContentType="image/png"/>
  <Override PartName="/ppt/media/image49.wmf" ContentType="image/x-wmf"/>
  <Override PartName="/ppt/media/image100.wmf" ContentType="image/x-wmf"/>
  <Override PartName="/ppt/media/image47.png" ContentType="image/png"/>
  <Override PartName="/ppt/media/image46.wmf" ContentType="image/x-wmf"/>
  <Override PartName="/ppt/media/image89.png" ContentType="image/png"/>
  <Override PartName="/ppt/media/image45.png" ContentType="image/png"/>
  <Override PartName="/ppt/media/image44.wmf" ContentType="image/x-wmf"/>
  <Override PartName="/ppt/media/image87.png" ContentType="image/png"/>
  <Override PartName="/ppt/media/image43.wmf" ContentType="image/x-wmf"/>
  <Override PartName="/ppt/media/image86.png" ContentType="image/png"/>
  <Override PartName="/ppt/media/image40.wmf" ContentType="image/x-wmf"/>
  <Override PartName="/ppt/media/image83.png" ContentType="image/png"/>
  <Override PartName="/ppt/media/image35.wmf" ContentType="image/x-wmf"/>
  <Override PartName="/ppt/media/image78.png" ContentType="image/png"/>
  <Override PartName="/ppt/media/image34.wmf" ContentType="image/x-wmf"/>
  <Override PartName="/ppt/media/image77.png" ContentType="image/png"/>
  <Override PartName="/ppt/media/image33.wmf" ContentType="image/x-wmf"/>
  <Override PartName="/ppt/media/image37.wmf" ContentType="image/x-wmf"/>
  <Override PartName="/ppt/media/image30.jpeg" ContentType="image/jpeg"/>
  <Override PartName="/ppt/media/image6.wmf" ContentType="image/x-wmf"/>
  <Override PartName="/ppt/media/image18.wmf" ContentType="image/x-wmf"/>
  <Override PartName="/ppt/media/image112.png" ContentType="image/png"/>
  <Override PartName="/ppt/media/image52.png" ContentType="image/png"/>
  <Override PartName="/ppt/media/image13.wmf" ContentType="image/x-wmf"/>
  <Override PartName="/ppt/media/image56.png" ContentType="image/png"/>
  <Override PartName="/ppt/media/image41.wmf" ContentType="image/x-wmf"/>
  <Override PartName="/ppt/media/image84.png" ContentType="image/png"/>
  <Override PartName="/ppt/media/image38.png" ContentType="image/png"/>
  <Override PartName="/ppt/media/image60.wmf" ContentType="image/x-wmf"/>
  <Override PartName="/ppt/media/image8.jpeg" ContentType="image/jpeg"/>
  <Override PartName="/ppt/media/image26.png" ContentType="image/png"/>
  <Override PartName="/ppt/media/image91.png" ContentType="image/png"/>
  <Override PartName="/ppt/media/image31.jpeg" ContentType="image/jpeg"/>
  <Override PartName="/ppt/media/image28.wmf" ContentType="image/x-wmf"/>
  <Override PartName="/ppt/media/image93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14.png" ContentType="image/png"/>
  <Override PartName="/ppt/media/image7.jpeg" ContentType="image/jpeg"/>
  <Override PartName="/ppt/media/image16.png" ContentType="image/png"/>
  <Override PartName="/ppt/media/image81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36.wmf" ContentType="image/x-wmf"/>
  <Override PartName="/ppt/media/image79.png" ContentType="image/png"/>
  <Override PartName="/ppt/media/image19.jpeg" ContentType="image/jpeg"/>
  <Override PartName="/ppt/media/image39.wmf" ContentType="image/x-wmf"/>
  <Override PartName="/ppt/media/image66.png" ContentType="image/png"/>
  <Override PartName="/ppt/media/image67.png" ContentType="image/png"/>
  <Override PartName="/ppt/media/image70.png" ContentType="image/png"/>
  <Override PartName="/ppt/media/image68.wmf" ContentType="image/x-wmf"/>
  <Override PartName="/ppt/media/image114.png" ContentType="image/png"/>
  <Override PartName="/ppt/media/image71.png" ContentType="image/png"/>
  <Override PartName="/ppt/media/image69.wmf" ContentType="image/x-wmf"/>
  <Override PartName="/ppt/media/image72.png" ContentType="image/png"/>
  <Override PartName="/ppt/media/image73.png" ContentType="image/png"/>
  <Override PartName="/ppt/media/image74.wmf" ContentType="image/x-wmf"/>
  <Override PartName="/ppt/media/image103.png" ContentType="image/png"/>
  <Override PartName="/ppt/media/image20.wmf" ContentType="image/x-wmf"/>
  <Override PartName="/ppt/media/image32.jpeg" ContentType="image/jpeg"/>
  <Override PartName="/ppt/media/image82.png" ContentType="image/png"/>
  <Override PartName="/ppt/media/image101.wmf" ContentType="image/x-wmf"/>
  <Override PartName="/ppt/media/image64.wmf" ContentType="image/x-wmf"/>
  <Override PartName="/ppt/media/image110.png" ContentType="image/png"/>
  <Override PartName="/ppt/media/image24.png" ContentType="image/png"/>
  <Override PartName="/ppt/media/image99.wmf" ContentType="image/x-wmf"/>
  <Override PartName="/ppt/media/image62.wmf" ContentType="image/x-wmf"/>
  <Override PartName="/ppt/media/image105.png" ContentType="image/png"/>
  <Override PartName="/ppt/media/image76.wmf" ContentType="image/x-wmf"/>
  <Override PartName="/ppt/media/image113.png" ContentType="image/png"/>
  <Override PartName="/ppt/media/image98.wmf" ContentType="image/x-wmf"/>
  <Override PartName="/ppt/media/image88.png" ContentType="image/png"/>
  <Override PartName="/ppt/media/image90.png" ContentType="image/png"/>
  <Override PartName="/ppt/media/image108.png" ContentType="image/png"/>
  <Override PartName="/ppt/media/image25.wmf" ContentType="image/x-wmf"/>
  <Override PartName="/ppt/media/image107.png" ContentType="image/png"/>
  <Override PartName="/ppt/media/image106.png" ContentType="image/png"/>
  <Override PartName="/ppt/media/image102.wmf" ContentType="image/x-wmf"/>
  <Override PartName="/ppt/media/image97.wmf" ContentType="image/x-wmf"/>
  <Override PartName="/ppt/media/image57.png" ContentType="image/png"/>
  <Override PartName="/ppt/media/image96.wmf" ContentType="image/x-wmf"/>
  <Override PartName="/ppt/media/image95.png" ContentType="image/png"/>
  <Override PartName="/ppt/media/image63.wmf" ContentType="image/x-wmf"/>
  <Override PartName="/ppt/media/image27.png" ContentType="image/png"/>
  <Override PartName="/ppt/media/image92.png" ContentType="image/png"/>
  <Override PartName="/ppt/media/image21.jpeg" ContentType="image/jpeg"/>
  <Override PartName="/ppt/media/image65.png" ContentType="image/png"/>
  <Override PartName="/ppt/media/image109.png" ContentType="image/png"/>
  <Override PartName="/ppt/media/image12.png" ContentType="image/png"/>
  <Override PartName="/ppt/media/image75.png" ContentType="image/png"/>
  <Override PartName="/ppt/media/image22.jpeg" ContentType="image/jpeg"/>
  <Override PartName="/ppt/media/image23.jpeg" ContentType="image/jpeg"/>
  <Override PartName="/ppt/media/image42.wmf" ContentType="image/x-wmf"/>
  <Override PartName="/ppt/media/image85.png" ContentType="image/png"/>
  <Override PartName="/ppt/media/image17.wmf" ContentType="image/x-wmf"/>
  <Override PartName="/ppt/media/image111.png" ContentType="image/png"/>
  <Override PartName="/ppt/media/image55.wmf" ContentType="image/x-wmf"/>
  <Override PartName="/ppt/media/image1.png" ContentType="image/png"/>
  <Override PartName="/ppt/media/image29.wmf" ContentType="image/x-wmf"/>
  <Override PartName="/ppt/media/image61.png" ContentType="image/png"/>
  <Override PartName="/ppt/media/image5.jpeg" ContentType="image/jpeg"/>
  <Override PartName="/ppt/media/image48.wmf" ContentType="image/x-wmf"/>
  <Override PartName="/ppt/media/image104.wmf" ContentType="image/x-wmf"/>
  <Override PartName="/ppt/media/image50.png" ContentType="image/png"/>
  <Override PartName="/ppt/media/image115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FAE4-E6D7-4B6D-AA78-F602CE0817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3094-E7F2-4DBB-BC87-E72634BD7B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3 Marcador de número de diapositiva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8F1D-EB3E-4E60-A72F-CC52B2388EE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3 Marcador de número de diapositiva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0675-8FAF-4C47-8CC0-C1D43C916B2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74C4-43D8-43AE-A9AE-9B5CA227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91E0-ABD6-4DB1-ADA8-1BA7426F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43D-35CF-4695-A677-5F2C8F90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472-F813-4F38-99E9-0792A2CF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A44D-52EF-407D-AB35-AC131ACB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789D-F7A5-4D4D-ADB7-5C31C3C0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B054-7ABC-4ED5-B7DD-E36ED384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0056-EBB3-4AC1-9644-A42DC11D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1DB9-CB59-434D-8B7C-7AE6DEB7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93D8-BB25-4781-B0F0-741E3BA2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CCE1-3608-4E06-AA95-0DFB0ACF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E53-564B-44CE-87A8-FE01F971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A4C4-4557-404D-8944-7D67EF59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C3CA-3B33-43C7-8988-A5B9D331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2EF0-AC4B-494F-AF1F-5B59F07E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39BB-72A1-4121-BAD5-2EF4B437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A6FC-0140-4D74-B6D4-38884AFC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73FE-DD9B-43B5-97B2-962E6692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3FD-82CE-4F6A-A361-378AEA03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16C5-75F7-461C-9FC1-4A7125F0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095-5F25-461B-A781-F7875264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24AC-D4B7-4393-8495-DCE4D309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0EB-D119-4BC2-8106-419B77BC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74C-8523-4D27-9269-F400C90D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7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4BB9-EB65-41EF-84C1-1CB99EA131BC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F28C-A0C8-4AA7-B1AA-8C9D47A49AC4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5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21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65" name="Group 2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6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68" name="Freeform 7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69" name="Freeform 8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BC70-E122-4F25-A9E9-31064E9CD7B7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A5E1-074B-4888-889C-7882002FAEED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9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6.wmf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7.wmf"/><Relationship Id="rId2" Type="http://schemas.openxmlformats.org/officeDocument/2006/relationships/image" Target="../media/image98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0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2.wmf"/><Relationship Id="rId5" Type="http://schemas.openxmlformats.org/officeDocument/2006/relationships/image" Target="../media/image103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4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png"/><Relationship Id="rId3" Type="http://schemas.openxmlformats.org/officeDocument/2006/relationships/image" Target="../media/image111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480" y="2854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996633"/>
                </a:solidFill>
                <a:latin typeface="Times New Roman"/>
              </a:rPr>
              <a:t>CONTROL AUTOMATIC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APITULO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ODELOS MATEMATICOS DE LOS SIS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g. Juan F. del Pozo 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3357720" y="1509840"/>
            <a:ext cx="32004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2227-3987-4EEC-B814-C60427C380B8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3" name="4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1841-B867-4E72-B826-75A2D139CA3B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1714680" y="2214720"/>
            <a:ext cx="6759360" cy="41148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7 Rectángulo"/>
          <p:cNvSpPr/>
          <p:nvPr/>
        </p:nvSpPr>
        <p:spPr>
          <a:xfrm>
            <a:off x="1714680" y="185724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oximación lineal de un sistema físico en estado estacionario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74A6-04FD-4266-9087-907DA3B3A2FD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8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BFA9-E11C-465B-B8AC-FD7963E96B84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7760" y="1773000"/>
            <a:ext cx="762624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"/>
          </a:bodyPr>
          <a:p>
            <a:pPr marL="30600" indent="-3060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proximación lineal de un sistema físico en estado estacion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-25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esarrollo de la serie de Taylor en el punto de operación de la curva continua en el intervalo de inter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-25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Times New Roman"/>
              </a:rPr>
              <a:t>NOTA: a partir de ahora los valores incrementales se los representará sin el d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6657840" y="3780000"/>
          <a:ext cx="2235240" cy="19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7840" y="3780000"/>
                    <a:ext cx="2235240" cy="1938240"/>
                  </a:xfrm>
                  <a:prstGeom prst="rect">
                    <a:avLst/>
                  </a:prstGeom>
                  <a:ln w="31680">
                    <a:solidFill>
                      <a:srgbClr val="cc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3" name="Object 7"/>
          <p:cNvGraphicFramePr/>
          <p:nvPr/>
        </p:nvGraphicFramePr>
        <p:xfrm>
          <a:off x="2392200" y="2600280"/>
          <a:ext cx="4719960" cy="35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92200" y="2600280"/>
                    <a:ext cx="471996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485D-9451-4FEF-8D7A-39259EF618B0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6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938D-0A14-405E-B4BA-673ECE95955A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269120" cy="180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proximación lineal de un sistema 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sarrollo de la serie de Taylor en el punto de operación de la curva continua en el intervalo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i la variable dependiente depende de varias variables de exci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ara la aproximación lineal de la serie de Tay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2193840" y="3622680"/>
          <a:ext cx="6842160" cy="26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3840" y="3622680"/>
                    <a:ext cx="684216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E578-F5B3-4A53-844F-2472FD5008DF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CA2B-8163-4475-9B72-4F6F712D14FE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48512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proximación lineal de un sistema fís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sarrollo de la serie de Taylor en el punto de operación de la curva continua en el interval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la variable dependiente depende de varias variables de exc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ara la aproximación lineal de la serie de Tay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4" descr="Bild2"/>
          <p:cNvPicPr/>
          <p:nvPr/>
        </p:nvPicPr>
        <p:blipFill>
          <a:blip r:embed="rId1"/>
          <a:stretch/>
        </p:blipFill>
        <p:spPr>
          <a:xfrm>
            <a:off x="4413240" y="4149720"/>
            <a:ext cx="4551480" cy="209880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  <p:graphicFrame>
        <p:nvGraphicFramePr>
          <p:cNvPr id="196" name="Object 5"/>
          <p:cNvGraphicFramePr/>
          <p:nvPr/>
        </p:nvGraphicFramePr>
        <p:xfrm>
          <a:off x="1835280" y="4056120"/>
          <a:ext cx="2477880" cy="203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4056120"/>
                    <a:ext cx="247788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2C4C-25CB-4E8C-85C1-9CCA0FF2B19D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9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0A2F-66B5-4786-B16E-593B80DF2005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517760" y="1844640"/>
            <a:ext cx="762624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ortamiento Estático de un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portamiento estático de un gene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locidad constante:      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oltaje de referencia:     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=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rriente de armadura:    I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=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rriente de excitación:   I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=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portamiento del Regu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2" name="Picture 6" descr="Bild2"/>
          <p:cNvPicPr/>
          <p:nvPr/>
        </p:nvPicPr>
        <p:blipFill>
          <a:blip r:embed="rId1"/>
          <a:stretch/>
        </p:blipFill>
        <p:spPr>
          <a:xfrm>
            <a:off x="2627280" y="4060800"/>
            <a:ext cx="3240000" cy="2392560"/>
          </a:xfrm>
          <a:prstGeom prst="rect">
            <a:avLst/>
          </a:prstGeom>
          <a:ln w="31680">
            <a:solidFill>
              <a:srgbClr val="cc9900"/>
            </a:solidFill>
            <a:miter/>
          </a:ln>
        </p:spPr>
      </p:pic>
      <p:pic>
        <p:nvPicPr>
          <p:cNvPr id="203" name="Picture 7" descr="Bild2"/>
          <p:cNvPicPr/>
          <p:nvPr/>
        </p:nvPicPr>
        <p:blipFill>
          <a:blip r:embed="rId2"/>
          <a:stretch/>
        </p:blipFill>
        <p:spPr>
          <a:xfrm>
            <a:off x="6372360" y="4078440"/>
            <a:ext cx="1911240" cy="2374920"/>
          </a:xfrm>
          <a:prstGeom prst="rect">
            <a:avLst/>
          </a:prstGeom>
          <a:ln w="3168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3C06-679F-4033-BC56-4739EE7D1862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6A23-44C7-49A1-B2A6-BD3C31EE04B1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258560" y="1844640"/>
            <a:ext cx="4389480" cy="50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portamiento Estático de un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portamiento estático de un gene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peración en lazo abierto: u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 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oltaje Terminales lazo abierto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0 A,    U=115 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60 A,  U=76 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peración en lazo cerra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oltaje de Referencia: U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100 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0 A,    U=104 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60 A,  U=93 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actor de Regulación: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= 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(lazo cerrado)/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(lazo abier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=(104-93)/(115-76)=0.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= 28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8" name="Picture 5" descr="Bild2"/>
          <p:cNvPicPr/>
          <p:nvPr/>
        </p:nvPicPr>
        <p:blipFill>
          <a:blip r:embed="rId1"/>
          <a:stretch/>
        </p:blipFill>
        <p:spPr>
          <a:xfrm>
            <a:off x="5651640" y="2276640"/>
            <a:ext cx="3267000" cy="4086000"/>
          </a:xfrm>
          <a:prstGeom prst="rect">
            <a:avLst/>
          </a:prstGeom>
          <a:ln w="3168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2232-BC48-4718-BDE8-480CBC88D7B8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110E-91A9-4116-A235-18A41C7A3A3A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1672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portamiento estático de un generad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btención del modelo a partir de la linearización de su Curva Característica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 = 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.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+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.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/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|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A=const.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= (100-77)/(0.6-0) = 38.3 v./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/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|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e=const.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= (100-77)/(30-60 = -0.76 v./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nstante del Regulad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 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.u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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/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=  (0.6-0)/(0-10)= - 0.06 A/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tector de Err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 u – u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; pero u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= 0 debido a que U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= con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3071880" y="4429080"/>
            <a:ext cx="509580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4055-0C9C-43E8-95FF-316A9EEFDA08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5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F03F-725E-4BC8-BB30-9EBDA1E6C659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740720" cy="37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portamiento estático de un generad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actor de Regulación: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= u 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(lazo cerrado)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/ u 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(lazo abier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azo Abierto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(lazo abierto)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 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.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+ 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. 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. 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,  debido a:  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azo Cerrado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(lazo cerrado)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 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.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+ 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. 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= u 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(lazo cerrado)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– u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= u 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(lazo cerrado)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,  debido a:  u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. u 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(lazo cerrado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(lazo cerrado)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 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/(1-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. 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). 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 = 1/(1-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. 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) = 1/(1+38.3*0.06) = 0.30 ; 3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1"/>
          <a:stretch/>
        </p:blipFill>
        <p:spPr>
          <a:xfrm>
            <a:off x="3071880" y="4572000"/>
            <a:ext cx="509580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CE07-BDAB-4517-ABBA-F9EA25EBA45F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0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8EF3-1387-480A-B210-93F739B97F68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3949560" cy="16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ortamiento dinámico de un generador de corriente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Object 6"/>
          <p:cNvGraphicFramePr/>
          <p:nvPr/>
        </p:nvGraphicFramePr>
        <p:xfrm>
          <a:off x="1951200" y="3214800"/>
          <a:ext cx="4413240" cy="30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0" y="3214800"/>
                    <a:ext cx="441324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5214960" y="2857680"/>
            <a:ext cx="3259080" cy="2228760"/>
          </a:xfrm>
          <a:prstGeom prst="rect">
            <a:avLst/>
          </a:prstGeom>
          <a:ln w="3168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B6B1-4F41-4C45-A527-5016913FD385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7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49DC-066A-457E-AFA5-1921ED550E9E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6956280" cy="4572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7B91-2CD1-447B-8718-948BEEE0B70A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2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B68C-7B3E-4A6A-8250-5004A106DAB4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79600" y="1916280"/>
            <a:ext cx="4532400" cy="41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presentación gráfica de un sistema en el dominio del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agramas Fun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ñ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ifurcación de Señ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unto de sumas de Señ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versión de Pola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loques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Tabla1_1"/>
          <p:cNvPicPr/>
          <p:nvPr/>
        </p:nvPicPr>
        <p:blipFill>
          <a:blip r:embed="rId1"/>
          <a:stretch/>
        </p:blipFill>
        <p:spPr>
          <a:xfrm>
            <a:off x="5867280" y="1125360"/>
            <a:ext cx="2791080" cy="542304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C20A-F97C-4317-9402-70BAC7AA40BD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1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05C2-8929-42DA-BDEA-86226D31C01E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523520" y="1904760"/>
            <a:ext cx="747396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unción de Transferencia de un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sistema de control puede ser descrito mediante ecuaciones diferen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eficientes cons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iciones iniciales c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4419720" y="4876920"/>
            <a:ext cx="1295280" cy="6858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3429000" y="510552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5715000" y="510552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3203640" y="4648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x(t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6175440" y="4648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4803840" y="44197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g(t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3200400" y="5410080"/>
            <a:ext cx="6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X(s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4804200" y="563868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G(s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6175080" y="54100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Y(s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2923560" y="4114800"/>
            <a:ext cx="42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Dominio del tiempo:    Ecuaciones Diferenciales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2916360" y="6019920"/>
            <a:ext cx="442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Dominio del plano “s”:    Ecuaciones Algebraicas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5" name="AutoShape 16"/>
          <p:cNvSpPr/>
          <p:nvPr/>
        </p:nvSpPr>
        <p:spPr>
          <a:xfrm>
            <a:off x="2819520" y="4800600"/>
            <a:ext cx="228600" cy="976320"/>
          </a:xfrm>
          <a:prstGeom prst="downArrow">
            <a:avLst>
              <a:gd name="adj1" fmla="val 50000"/>
              <a:gd name="adj2" fmla="val 106772"/>
            </a:avLst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6" name="AutoShape 17"/>
          <p:cNvSpPr/>
          <p:nvPr/>
        </p:nvSpPr>
        <p:spPr>
          <a:xfrm>
            <a:off x="6934320" y="4724280"/>
            <a:ext cx="228600" cy="976320"/>
          </a:xfrm>
          <a:prstGeom prst="upArrow">
            <a:avLst>
              <a:gd name="adj1" fmla="val 50000"/>
              <a:gd name="adj2" fmla="val 106772"/>
            </a:avLst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7" name="Text Box 18"/>
          <p:cNvSpPr/>
          <p:nvPr/>
        </p:nvSpPr>
        <p:spPr>
          <a:xfrm>
            <a:off x="1373400" y="4876920"/>
            <a:ext cx="1445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Transformada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directa de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aplace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8" name="Text Box 19"/>
          <p:cNvSpPr/>
          <p:nvPr/>
        </p:nvSpPr>
        <p:spPr>
          <a:xfrm>
            <a:off x="7240680" y="4724280"/>
            <a:ext cx="1445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Transformada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inversa de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aplace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0984-B8C2-4E03-93F4-FD75E3600A8B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0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CCF9-DC55-4BB4-A3ED-BCDF90877B67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unción de Transferencia de un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sistema de control puede ser descrito mediante ecuaciones diferen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eficientes cons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iciones iniciales c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7"/>
              <p:cNvSpPr txBox="1"/>
              <p:nvPr/>
            </p:nvSpPr>
            <p:spPr>
              <a:xfrm>
                <a:off x="2362320" y="3962520"/>
                <a:ext cx="60195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n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o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o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5" name="Object 8"/>
          <p:cNvGraphicFramePr/>
          <p:nvPr/>
        </p:nvGraphicFramePr>
        <p:xfrm>
          <a:off x="2008080" y="5715000"/>
          <a:ext cx="680580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5715000"/>
                    <a:ext cx="68058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AutoShape 9"/>
          <p:cNvSpPr/>
          <p:nvPr/>
        </p:nvSpPr>
        <p:spPr>
          <a:xfrm>
            <a:off x="5257800" y="4648320"/>
            <a:ext cx="304920" cy="976320"/>
          </a:xfrm>
          <a:prstGeom prst="downArrow">
            <a:avLst>
              <a:gd name="adj1" fmla="val 50000"/>
              <a:gd name="adj2" fmla="val 80047"/>
            </a:avLst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9" name="Text Box 11"/>
          <p:cNvSpPr/>
          <p:nvPr/>
        </p:nvSpPr>
        <p:spPr>
          <a:xfrm>
            <a:off x="3811680" y="4876920"/>
            <a:ext cx="144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Transformada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de Laplace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D560-C38A-43B9-B0C9-1CC221298DC8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1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35B3-15A4-4127-A027-95C50B4C9D1F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unción de Transferencia de un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Object 6"/>
          <p:cNvGraphicFramePr/>
          <p:nvPr/>
        </p:nvGraphicFramePr>
        <p:xfrm>
          <a:off x="2425680" y="3200400"/>
          <a:ext cx="419580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5680" y="3200400"/>
                    <a:ext cx="41958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3348000" y="4221000"/>
                <a:ext cx="2209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8"/>
              <p:cNvSpPr txBox="1"/>
              <p:nvPr/>
            </p:nvSpPr>
            <p:spPr>
              <a:xfrm>
                <a:off x="3429000" y="5638680"/>
                <a:ext cx="20574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AutoShape 9"/>
          <p:cNvSpPr/>
          <p:nvPr/>
        </p:nvSpPr>
        <p:spPr>
          <a:xfrm>
            <a:off x="3962520" y="4648320"/>
            <a:ext cx="304560" cy="976320"/>
          </a:xfrm>
          <a:prstGeom prst="downArrow">
            <a:avLst>
              <a:gd name="adj1" fmla="val 50000"/>
              <a:gd name="adj2" fmla="val 80142"/>
            </a:avLst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4573800" y="4724280"/>
            <a:ext cx="1445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Transformada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inversa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de Laplace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6023520" y="4267080"/>
            <a:ext cx="164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Multiplicación”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6020640" y="5562720"/>
            <a:ext cx="148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onvolución”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C07E-649A-4954-8DEF-852403D353A1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3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DE0B-6C34-4976-B0AD-636C944259D2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517760" y="1844280"/>
            <a:ext cx="7446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proximación lineal de un sistema fís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gran mayoría de sistemas físicos se comportan como lineales dentro de algún intervalo de las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sistema está en reposo, para ser considerado lineal debe cumpl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 el teorema de superposición y homogene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4419720" y="4876920"/>
            <a:ext cx="1295280" cy="6858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3429000" y="510552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5715000" y="510552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2844720" y="450864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x(t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2279880" y="4991040"/>
            <a:ext cx="1105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t)+x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2820960" y="54864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x(t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6859440" y="45720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6867720" y="5029200"/>
            <a:ext cx="1105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t)+y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6859440" y="54864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8560" y="30456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4306680" cy="451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Motor de Corriente Continu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estator, i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ar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olos principales y auxili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vanado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rotor, indu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lector, del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vanado in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C" sz="1800" spc="-1" strike="noStrike">
                <a:solidFill>
                  <a:srgbClr val="000000"/>
                </a:solidFill>
                <a:latin typeface="Times New Roman"/>
              </a:rPr>
              <a:t>úcleo del in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s escobil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5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0E0A-422F-4FC1-9062-86EDC0D29605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8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CD24-5130-4B89-9053-D23C6A61A653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89" name="Picture 2" descr="C:\Users\Juan\Documents\Espol\Control\Fotos_Cursos\IMG_1360.jpg"/>
          <p:cNvPicPr/>
          <p:nvPr/>
        </p:nvPicPr>
        <p:blipFill>
          <a:blip r:embed="rId1"/>
          <a:stretch/>
        </p:blipFill>
        <p:spPr>
          <a:xfrm>
            <a:off x="6143760" y="2500200"/>
            <a:ext cx="2641320" cy="19814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C:\Users\Juan\Documents\Espol\Control\Fotos_Cursos\IMG_1362.jpg"/>
          <p:cNvPicPr/>
          <p:nvPr/>
        </p:nvPicPr>
        <p:blipFill>
          <a:blip r:embed="rId2"/>
          <a:stretch/>
        </p:blipFill>
        <p:spPr>
          <a:xfrm>
            <a:off x="6143760" y="42876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C:\Users\Juan\Documents\Espol\Control\Fotos_Cursos\IMG_1363.jpg"/>
          <p:cNvPicPr/>
          <p:nvPr/>
        </p:nvPicPr>
        <p:blipFill>
          <a:blip r:embed="rId3"/>
          <a:stretch/>
        </p:blipFill>
        <p:spPr>
          <a:xfrm>
            <a:off x="6215040" y="4572000"/>
            <a:ext cx="25956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5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4D86-B6C2-4C47-B6FF-F80FBDD61064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3" name="7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5E2C-A14E-43B4-A518-1AA0985DFFD4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58920" y="1773360"/>
            <a:ext cx="446400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otor de Corriente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otor ideal, sin pérd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otencia eléctrica desarrollada igual a la potencia mecá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l voltaje contraelectromotriz es proporcional al flujo y velocidad angul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l flujo es proporcional a la corriente de camp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Object 10"/>
          <p:cNvGraphicFramePr/>
          <p:nvPr/>
        </p:nvGraphicFramePr>
        <p:xfrm>
          <a:off x="1835280" y="3645000"/>
          <a:ext cx="863640" cy="29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645000"/>
                    <a:ext cx="86364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Object 4"/>
          <p:cNvGraphicFramePr/>
          <p:nvPr/>
        </p:nvGraphicFramePr>
        <p:xfrm>
          <a:off x="2484360" y="2924280"/>
          <a:ext cx="244476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2924280"/>
                    <a:ext cx="24447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Rectangle 7"/>
          <p:cNvSpPr/>
          <p:nvPr/>
        </p:nvSpPr>
        <p:spPr>
          <a:xfrm>
            <a:off x="3203640" y="3429000"/>
            <a:ext cx="129528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otor CC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1" name="AutoShape 8"/>
          <p:cNvSpPr/>
          <p:nvPr/>
        </p:nvSpPr>
        <p:spPr>
          <a:xfrm>
            <a:off x="2700360" y="3573360"/>
            <a:ext cx="504720" cy="501840"/>
          </a:xfrm>
          <a:prstGeom prst="rightArrow">
            <a:avLst>
              <a:gd name="adj1" fmla="val 50000"/>
              <a:gd name="adj2" fmla="val 2514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2" name="AutoShape 9"/>
          <p:cNvSpPr/>
          <p:nvPr/>
        </p:nvSpPr>
        <p:spPr>
          <a:xfrm>
            <a:off x="4500720" y="357336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303" name="Object 12"/>
          <p:cNvGraphicFramePr/>
          <p:nvPr/>
        </p:nvGraphicFramePr>
        <p:xfrm>
          <a:off x="4932360" y="3716280"/>
          <a:ext cx="936720" cy="30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3716280"/>
                    <a:ext cx="93672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Object 16"/>
          <p:cNvGraphicFramePr/>
          <p:nvPr/>
        </p:nvGraphicFramePr>
        <p:xfrm>
          <a:off x="2484360" y="5013360"/>
          <a:ext cx="2119320" cy="37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6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5013360"/>
                    <a:ext cx="21193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17"/>
          <p:cNvGraphicFramePr/>
          <p:nvPr/>
        </p:nvGraphicFramePr>
        <p:xfrm>
          <a:off x="2484360" y="5950080"/>
          <a:ext cx="162576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8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84360" y="5950080"/>
                    <a:ext cx="16257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9" name="Picture 15" descr=""/>
          <p:cNvPicPr/>
          <p:nvPr/>
        </p:nvPicPr>
        <p:blipFill>
          <a:blip r:embed="rId11"/>
          <a:stretch/>
        </p:blipFill>
        <p:spPr>
          <a:xfrm>
            <a:off x="5919840" y="2638440"/>
            <a:ext cx="2952720" cy="357660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42CF-87CF-44A2-9D32-7AC278E0E53A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1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AA46-3984-4B39-951F-743C170617E7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980040" cy="5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otor de Corriente Contin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Object 5"/>
          <p:cNvGraphicFramePr/>
          <p:nvPr/>
        </p:nvGraphicFramePr>
        <p:xfrm>
          <a:off x="2060640" y="2492280"/>
          <a:ext cx="2949480" cy="35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0640" y="2492280"/>
                    <a:ext cx="294948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6" name="Picture 15" descr=""/>
          <p:cNvPicPr/>
          <p:nvPr/>
        </p:nvPicPr>
        <p:blipFill>
          <a:blip r:embed="rId3"/>
          <a:stretch/>
        </p:blipFill>
        <p:spPr>
          <a:xfrm>
            <a:off x="5643720" y="2643120"/>
            <a:ext cx="2952720" cy="357660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F832-1525-4A3F-A4BD-08E90B9EB491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8" name="7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A207-D77E-4F7C-A34F-1F4B075912F3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475308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otor de Corriente Contin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tor ideal, sin pérdi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e presentan dos cas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antener constante la corriente de campo, “control de armadur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antener constante la corriente de armadura, “control de camp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Object 11"/>
          <p:cNvGraphicFramePr/>
          <p:nvPr/>
        </p:nvGraphicFramePr>
        <p:xfrm>
          <a:off x="2428920" y="5143680"/>
          <a:ext cx="3570120" cy="41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5143680"/>
                    <a:ext cx="35701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Object 14"/>
          <p:cNvGraphicFramePr/>
          <p:nvPr/>
        </p:nvGraphicFramePr>
        <p:xfrm>
          <a:off x="2428920" y="6072120"/>
          <a:ext cx="3457440" cy="4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8920" y="6072120"/>
                    <a:ext cx="34574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16"/>
          <p:cNvGraphicFramePr/>
          <p:nvPr/>
        </p:nvGraphicFramePr>
        <p:xfrm>
          <a:off x="2000160" y="2786040"/>
          <a:ext cx="4176720" cy="13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00160" y="2786040"/>
                    <a:ext cx="417672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7" name="Picture 15" descr=""/>
          <p:cNvPicPr/>
          <p:nvPr/>
        </p:nvPicPr>
        <p:blipFill>
          <a:blip r:embed="rId7"/>
          <a:stretch/>
        </p:blipFill>
        <p:spPr>
          <a:xfrm>
            <a:off x="6218280" y="3000240"/>
            <a:ext cx="2654280" cy="321480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87F5-BADD-4C2B-A553-E97F5DA710EE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9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AB4F-26A4-4D4B-A405-A3B14466F835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76000" y="1844640"/>
            <a:ext cx="7196040" cy="4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tor de Corriente Continua controlado por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Object 6"/>
          <p:cNvGraphicFramePr/>
          <p:nvPr/>
        </p:nvGraphicFramePr>
        <p:xfrm>
          <a:off x="1908000" y="2276640"/>
          <a:ext cx="2305080" cy="27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76640"/>
                    <a:ext cx="2305080" cy="27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7"/>
          <p:cNvGraphicFramePr/>
          <p:nvPr/>
        </p:nvGraphicFramePr>
        <p:xfrm>
          <a:off x="6477120" y="2573280"/>
          <a:ext cx="1839960" cy="23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2573280"/>
                    <a:ext cx="1839960" cy="23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AutoShape 8"/>
          <p:cNvSpPr/>
          <p:nvPr/>
        </p:nvSpPr>
        <p:spPr>
          <a:xfrm>
            <a:off x="4952880" y="3657600"/>
            <a:ext cx="976320" cy="380880"/>
          </a:xfrm>
          <a:prstGeom prst="rightArrow">
            <a:avLst>
              <a:gd name="adj1" fmla="val 50000"/>
              <a:gd name="adj2" fmla="val 64083"/>
            </a:avLst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5117400" y="3962520"/>
            <a:ext cx="3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338" name="Object 11"/>
          <p:cNvGraphicFramePr/>
          <p:nvPr/>
        </p:nvGraphicFramePr>
        <p:xfrm>
          <a:off x="2050920" y="5084640"/>
          <a:ext cx="6481800" cy="12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5084640"/>
                    <a:ext cx="6481800" cy="1255680"/>
                  </a:xfrm>
                  <a:prstGeom prst="rect">
                    <a:avLst/>
                  </a:prstGeom>
                  <a:ln w="3168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B07F-0217-4CCC-8F0A-275F46463E7F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1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60EB-7C42-4060-A8BD-264FE2F5C347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79240" y="1981080"/>
            <a:ext cx="7413480" cy="9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tor de Corriente Continua controlado por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con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unción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6"/>
          <p:cNvGraphicFramePr/>
          <p:nvPr/>
        </p:nvGraphicFramePr>
        <p:xfrm>
          <a:off x="1749600" y="3048120"/>
          <a:ext cx="542268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9600" y="3048120"/>
                    <a:ext cx="54226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8"/>
          <p:cNvGraphicFramePr/>
          <p:nvPr/>
        </p:nvGraphicFramePr>
        <p:xfrm>
          <a:off x="3059280" y="4292640"/>
          <a:ext cx="3736800" cy="195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4292640"/>
                    <a:ext cx="3736800" cy="1955880"/>
                  </a:xfrm>
                  <a:prstGeom prst="rect">
                    <a:avLst/>
                  </a:prstGeom>
                  <a:ln w="3168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CDF2-59A7-4C01-9E1E-4AE098E75933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5FEF-1C7B-4E95-A4D3-F976D64BC4AA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31640" y="1844280"/>
            <a:ext cx="431964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resentación gráfica de un sistema en el dominio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 Fu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 de velocidad de un a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rza debido al viento es proporcional a la velocidad: 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rza debido a fricción de las llantas es proporcional a la velocidad: 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rza debido al peso en dirección del movimiento, es proporcional a la pendiente: 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rza de Empuje: 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rza Resultante: 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Augabe1_1Ta"/>
          <p:cNvPicPr/>
          <p:nvPr/>
        </p:nvPicPr>
        <p:blipFill>
          <a:blip r:embed="rId1"/>
          <a:stretch/>
        </p:blipFill>
        <p:spPr>
          <a:xfrm>
            <a:off x="5580000" y="4653000"/>
            <a:ext cx="3338640" cy="156852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  <p:graphicFrame>
        <p:nvGraphicFramePr>
          <p:cNvPr id="131" name="Object 7"/>
          <p:cNvGraphicFramePr/>
          <p:nvPr/>
        </p:nvGraphicFramePr>
        <p:xfrm>
          <a:off x="6024600" y="2244600"/>
          <a:ext cx="2419200" cy="194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24600" y="2244600"/>
                    <a:ext cx="241920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3263-A862-4750-828B-A44057D92DF9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9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B823-B228-49FA-A863-E105CE4BF961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76000" y="1773000"/>
            <a:ext cx="7413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tor de Corriente Continua controlado por Armad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Object 6"/>
          <p:cNvGraphicFramePr/>
          <p:nvPr/>
        </p:nvGraphicFramePr>
        <p:xfrm>
          <a:off x="1887480" y="2133720"/>
          <a:ext cx="272880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7480" y="2133720"/>
                    <a:ext cx="272880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7"/>
          <p:cNvGraphicFramePr/>
          <p:nvPr/>
        </p:nvGraphicFramePr>
        <p:xfrm>
          <a:off x="6154560" y="2286000"/>
          <a:ext cx="2559240" cy="262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4560" y="2286000"/>
                    <a:ext cx="25592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AutoShape 9"/>
          <p:cNvSpPr/>
          <p:nvPr/>
        </p:nvSpPr>
        <p:spPr>
          <a:xfrm>
            <a:off x="4952880" y="3352680"/>
            <a:ext cx="976320" cy="381240"/>
          </a:xfrm>
          <a:prstGeom prst="rightArrow">
            <a:avLst>
              <a:gd name="adj1" fmla="val 50000"/>
              <a:gd name="adj2" fmla="val 64023"/>
            </a:avLst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5181480" y="3657600"/>
            <a:ext cx="3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358" name="Object 12"/>
          <p:cNvGraphicFramePr/>
          <p:nvPr/>
        </p:nvGraphicFramePr>
        <p:xfrm>
          <a:off x="2843280" y="4941720"/>
          <a:ext cx="5327640" cy="169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3280" y="4941720"/>
                    <a:ext cx="5327640" cy="1697040"/>
                  </a:xfrm>
                  <a:prstGeom prst="rect">
                    <a:avLst/>
                  </a:prstGeom>
                  <a:ln w="3168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4B70-1862-47FD-A73F-BC3E3F8F2CAC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1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5442-8152-4A60-87A2-A724E908C5ED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485120" cy="9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tor de Corriente Continua controlado por Armad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con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unción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Object 6"/>
          <p:cNvGraphicFramePr/>
          <p:nvPr/>
        </p:nvGraphicFramePr>
        <p:xfrm>
          <a:off x="2357280" y="3000240"/>
          <a:ext cx="4842000" cy="6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000240"/>
                    <a:ext cx="484200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8"/>
          <p:cNvGraphicFramePr/>
          <p:nvPr/>
        </p:nvGraphicFramePr>
        <p:xfrm>
          <a:off x="2428920" y="3786120"/>
          <a:ext cx="3736800" cy="207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8920" y="3786120"/>
                    <a:ext cx="3736800" cy="2076480"/>
                  </a:xfrm>
                  <a:prstGeom prst="rect">
                    <a:avLst/>
                  </a:prstGeom>
                  <a:ln w="3168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0498-781C-4FB8-9326-0E2CCA5E9768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9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705D-6E0E-4FEE-A349-4EBB87173A9B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371240" y="182844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mplificador Rotativo de dos Etapas, Amplid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NOTA: El flujo de reacción de armadura es compensado por el flujo de la bobina 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Object 5"/>
          <p:cNvGraphicFramePr/>
          <p:nvPr/>
        </p:nvGraphicFramePr>
        <p:xfrm>
          <a:off x="2241720" y="2733840"/>
          <a:ext cx="3020760" cy="35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1720" y="2733840"/>
                    <a:ext cx="3020760" cy="35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6"/>
          <p:cNvGraphicFramePr/>
          <p:nvPr/>
        </p:nvGraphicFramePr>
        <p:xfrm>
          <a:off x="5486400" y="3429000"/>
          <a:ext cx="3048120" cy="217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429000"/>
                    <a:ext cx="304812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67BE-1D81-4E36-83D6-2B9BEED819DC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7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6A05-9020-45BC-9FE0-A48D761345D4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00120" y="1857240"/>
            <a:ext cx="4572000" cy="18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Regulador Hidráulico, servomotor hidráu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Caudal del ace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Diferencia de pr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Desplazamiento de la válvula d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Desplazamiento del cilindro de po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Object 6"/>
          <p:cNvGraphicFramePr/>
          <p:nvPr/>
        </p:nvGraphicFramePr>
        <p:xfrm>
          <a:off x="2089080" y="4000680"/>
          <a:ext cx="3768840" cy="19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9080" y="4000680"/>
                    <a:ext cx="376884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7"/>
          <p:cNvGraphicFramePr/>
          <p:nvPr/>
        </p:nvGraphicFramePr>
        <p:xfrm>
          <a:off x="5952960" y="4214880"/>
          <a:ext cx="2994120" cy="22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2960" y="4214880"/>
                    <a:ext cx="2994120" cy="2254320"/>
                  </a:xfrm>
                  <a:prstGeom prst="rect">
                    <a:avLst/>
                  </a:prstGeom>
                  <a:ln w="3168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84" name="Picture 8" descr=""/>
          <p:cNvPicPr/>
          <p:nvPr/>
        </p:nvPicPr>
        <p:blipFill>
          <a:blip r:embed="rId5"/>
          <a:stretch/>
        </p:blipFill>
        <p:spPr>
          <a:xfrm>
            <a:off x="6000840" y="2000160"/>
            <a:ext cx="2952720" cy="2067120"/>
          </a:xfrm>
          <a:prstGeom prst="rect">
            <a:avLst/>
          </a:prstGeom>
          <a:ln w="31680">
            <a:solidFill>
              <a:srgbClr val="994d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ECCD-98D2-4EBC-B591-E708532C210C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6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14BE-81BE-4E50-8B0E-EB28F386A21D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17760" y="1981080"/>
            <a:ext cx="76262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gulador Hidráulico, servomotor hidráu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-111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Superficie del pistó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-111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a Función de Transferen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Object 6"/>
          <p:cNvGraphicFramePr/>
          <p:nvPr/>
        </p:nvGraphicFramePr>
        <p:xfrm>
          <a:off x="2239920" y="2724120"/>
          <a:ext cx="168264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920" y="2724120"/>
                    <a:ext cx="16826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7"/>
          <p:cNvGraphicFramePr/>
          <p:nvPr/>
        </p:nvGraphicFramePr>
        <p:xfrm>
          <a:off x="6145200" y="3030480"/>
          <a:ext cx="2327400" cy="158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5200" y="3030480"/>
                    <a:ext cx="232740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AutoShape 8"/>
          <p:cNvSpPr/>
          <p:nvPr/>
        </p:nvSpPr>
        <p:spPr>
          <a:xfrm>
            <a:off x="4495680" y="3505320"/>
            <a:ext cx="976320" cy="380880"/>
          </a:xfrm>
          <a:prstGeom prst="rightArrow">
            <a:avLst>
              <a:gd name="adj1" fmla="val 50000"/>
              <a:gd name="adj2" fmla="val 64083"/>
            </a:avLst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4724280" y="3962520"/>
            <a:ext cx="3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395" name="Object 10"/>
          <p:cNvGraphicFramePr/>
          <p:nvPr/>
        </p:nvGraphicFramePr>
        <p:xfrm>
          <a:off x="2340000" y="5562720"/>
          <a:ext cx="4605480" cy="65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5562720"/>
                    <a:ext cx="460548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E14E-8046-4CF4-9404-B8B915CDA217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8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A7E0-9C13-471A-8069-149F988E9524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02920" y="1844640"/>
            <a:ext cx="403236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gulador Hidráulico, servomotor hidráu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ncuentre la Función de Transferencia Y(s)/E(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Observe que la barra ABC es flotante, no tiene punto fij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La Función de Transferencia del servomotor hidráulico puede se aproximada en: Y(s)/X(s)= K/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Observe que el desplazamiento en x es:  x = f(e,y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plique superposición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X(s) = Ke.E(s) + Ky.Y(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402" name="Object 6"/>
          <p:cNvGraphicFramePr/>
          <p:nvPr/>
        </p:nvGraphicFramePr>
        <p:xfrm>
          <a:off x="5580000" y="1197000"/>
          <a:ext cx="295272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1197000"/>
                    <a:ext cx="2952720" cy="2952720"/>
                  </a:xfrm>
                  <a:prstGeom prst="rect">
                    <a:avLst/>
                  </a:prstGeom>
                  <a:ln w="3168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4" name="Object 10"/>
          <p:cNvGraphicFramePr/>
          <p:nvPr/>
        </p:nvGraphicFramePr>
        <p:xfrm>
          <a:off x="6072120" y="4357800"/>
          <a:ext cx="2158920" cy="19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2120" y="4357800"/>
                    <a:ext cx="215892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787A-098A-4008-B565-2318D5A1A554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7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A49C-EB0E-4606-A24A-46C904D4EC65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402920" y="1773360"/>
            <a:ext cx="438804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stema de engrana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Sistema ideal, potencia de entrada es igual a la potencia de salida, no tiene pérd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os dos engranajes recorren la misma distancia lin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El tamaño de los dientes es igual en ambos engranaj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a velocidad angular es proporcional al desplazamiento angular en cada engran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Object 6"/>
          <p:cNvGraphicFramePr/>
          <p:nvPr/>
        </p:nvGraphicFramePr>
        <p:xfrm>
          <a:off x="3514680" y="2590920"/>
          <a:ext cx="1658880" cy="31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4680" y="2590920"/>
                    <a:ext cx="165888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2" name="Object 7"/>
              <p:cNvSpPr txBox="1"/>
              <p:nvPr/>
            </p:nvSpPr>
            <p:spPr>
              <a:xfrm>
                <a:off x="3648240" y="3800520"/>
                <a:ext cx="98892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1</m:t>
                        </m:r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t xml:space="preserve">πr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2</m:t>
                        </m:r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t xml:space="preserve">πr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13" name="Object 8"/>
          <p:cNvGraphicFramePr/>
          <p:nvPr/>
        </p:nvGraphicFramePr>
        <p:xfrm>
          <a:off x="3511440" y="3200400"/>
          <a:ext cx="1513080" cy="3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11440" y="3200400"/>
                    <a:ext cx="15130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5" name="Object 9"/>
              <p:cNvSpPr txBox="1"/>
              <p:nvPr/>
            </p:nvSpPr>
            <p:spPr>
              <a:xfrm>
                <a:off x="3635280" y="5661000"/>
                <a:ext cx="25941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θ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θ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ω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16" name="Object 11"/>
          <p:cNvGraphicFramePr/>
          <p:nvPr/>
        </p:nvGraphicFramePr>
        <p:xfrm>
          <a:off x="5796000" y="2924280"/>
          <a:ext cx="2876400" cy="23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6000" y="2924280"/>
                    <a:ext cx="2876400" cy="2387520"/>
                  </a:xfrm>
                  <a:prstGeom prst="rect">
                    <a:avLst/>
                  </a:prstGeom>
                  <a:ln w="3168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2F49-9F55-4322-83C2-69DE08B998B7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9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CB19-63D4-42A6-9F59-668DBACD3FDC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1447560" y="1752480"/>
            <a:ext cx="423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stema de engran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Se incluye la fricción viscosa y la iner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Referir el sistema al eje del mo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6"/>
              <p:cNvSpPr txBox="1"/>
              <p:nvPr/>
            </p:nvSpPr>
            <p:spPr>
              <a:xfrm>
                <a:off x="2193840" y="2895480"/>
                <a:ext cx="5213520" cy="353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J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θ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J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θ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θ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nθ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J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θ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J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θ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J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nθ</m:t>
                            </m:r>
                            <m:r>
                              <m:t xml:space="preserve">1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T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B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θ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)</m:t>
                        </m:r>
                        <m:r>
                          <m:t xml:space="preserve">θ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23" name="Object 7"/>
          <p:cNvGraphicFramePr/>
          <p:nvPr/>
        </p:nvGraphicFramePr>
        <p:xfrm>
          <a:off x="5562720" y="1905120"/>
          <a:ext cx="340992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905120"/>
                    <a:ext cx="340992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479240" y="1980720"/>
            <a:ext cx="3521160" cy="41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Sistema Hidráu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Times New Roman"/>
              </a:rPr>
              <a:t>Sistema ideal, potencia de entrada es igual a la potencia de sal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Times New Roman"/>
              </a:rPr>
              <a:t>La presión hidráulica es la misma, principio de Pas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9109-0550-4233-B221-E047B62A9EB8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8" name="4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316F-9404-4CB8-A559-7BDA3CE2EA33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5072040" y="3429000"/>
            <a:ext cx="3800520" cy="2400480"/>
          </a:xfrm>
          <a:prstGeom prst="rect">
            <a:avLst/>
          </a:prstGeom>
          <a:ln w="31680">
            <a:solidFill>
              <a:srgbClr val="e57300"/>
            </a:solidFill>
            <a:miter/>
          </a:ln>
        </p:spPr>
      </p:pic>
      <p:graphicFrame>
        <p:nvGraphicFramePr>
          <p:cNvPr id="430" name="Object 6"/>
          <p:cNvGraphicFramePr/>
          <p:nvPr/>
        </p:nvGraphicFramePr>
        <p:xfrm>
          <a:off x="2214720" y="3571920"/>
          <a:ext cx="262224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4720" y="3571920"/>
                    <a:ext cx="262224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3"/>
          <p:cNvGraphicFramePr/>
          <p:nvPr/>
        </p:nvGraphicFramePr>
        <p:xfrm>
          <a:off x="2286000" y="5572080"/>
          <a:ext cx="2219400" cy="31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5572080"/>
                    <a:ext cx="22194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24DB-F679-4F49-8BBC-2AB8F18458D3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5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E821-9298-4BDD-AD92-FBDD9DD4D1D4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1000080" y="1928880"/>
            <a:ext cx="76262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etector de Error utilizando Potencióme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otenciómetros de 360</a:t>
            </a:r>
            <a:r>
              <a:rPr b="1" lang="es-MX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, sin t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1579680" y="456840"/>
            <a:ext cx="463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16292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15"/>
              <p:cNvSpPr txBox="1"/>
              <p:nvPr/>
            </p:nvSpPr>
            <p:spPr>
              <a:xfrm>
                <a:off x="1433520" y="3276720"/>
                <a:ext cx="3638520" cy="27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  <m:r>
                              <m:t xml:space="preserve">o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r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</m:den>
                        </m:f>
                        <m:r>
                          <m:t xml:space="preserve">θ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</m:den>
                        </m:f>
                        <m:r>
                          <m:t xml:space="preserve">θ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  <m:r>
                              <m:t xml:space="preserve">o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1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1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40" name="Picture 17" descr=""/>
          <p:cNvPicPr/>
          <p:nvPr/>
        </p:nvPicPr>
        <p:blipFill>
          <a:blip r:embed="rId1"/>
          <a:stretch/>
        </p:blipFill>
        <p:spPr>
          <a:xfrm>
            <a:off x="6215040" y="142920"/>
            <a:ext cx="2743200" cy="1619280"/>
          </a:xfrm>
          <a:prstGeom prst="rect">
            <a:avLst/>
          </a:prstGeom>
          <a:ln w="31680">
            <a:solidFill>
              <a:srgbClr val="993300"/>
            </a:solidFill>
            <a:miter/>
          </a:ln>
        </p:spPr>
      </p:pic>
      <p:pic>
        <p:nvPicPr>
          <p:cNvPr id="441" name="Picture 18" descr=""/>
          <p:cNvPicPr/>
          <p:nvPr/>
        </p:nvPicPr>
        <p:blipFill>
          <a:blip r:embed="rId2"/>
          <a:stretch/>
        </p:blipFill>
        <p:spPr>
          <a:xfrm>
            <a:off x="5429160" y="2357280"/>
            <a:ext cx="3395880" cy="1571760"/>
          </a:xfrm>
          <a:prstGeom prst="rect">
            <a:avLst/>
          </a:prstGeom>
          <a:ln w="31680">
            <a:solidFill>
              <a:srgbClr val="993300"/>
            </a:solidFill>
            <a:miter/>
          </a:ln>
        </p:spPr>
      </p:pic>
      <p:pic>
        <p:nvPicPr>
          <p:cNvPr id="442" name="Picture 10" descr=""/>
          <p:cNvPicPr/>
          <p:nvPr/>
        </p:nvPicPr>
        <p:blipFill>
          <a:blip r:embed="rId3"/>
          <a:stretch/>
        </p:blipFill>
        <p:spPr>
          <a:xfrm>
            <a:off x="5572080" y="4030560"/>
            <a:ext cx="3200400" cy="2570400"/>
          </a:xfrm>
          <a:prstGeom prst="rect">
            <a:avLst/>
          </a:prstGeom>
          <a:ln w="31680">
            <a:solidFill>
              <a:srgbClr val="994d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53BE-060F-47DF-B1E7-858B1E4BA705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4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8D2A-CC6B-4D7B-AF7C-F58C73E33BF3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560" y="304560"/>
            <a:ext cx="448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4824360" cy="50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resentación gráfica de un sistema en el dominio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 Fu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 de velocidad de un a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orque Impulsor del Motor es proporcional a la apertura de la Mariposa del Carburador (y) y a las Revoluciones del Motor (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: m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orque en las Ruedas es proporcional al Torque Impulsor del Motor: m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rza de Empuje es proporcional al Torque en la Ruedas (m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: 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oltaje del Regulador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Velocidad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s proporcional al Voltaje del Tacogenerador (u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 menos la Referencia (w) : u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voltaje del Tacogenerador es  proporcional a las revoluciones del eje de la rueda del vehículo (x): 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Augabe1_1Tb"/>
          <p:cNvPicPr/>
          <p:nvPr/>
        </p:nvPicPr>
        <p:blipFill>
          <a:blip r:embed="rId1"/>
          <a:stretch/>
        </p:blipFill>
        <p:spPr>
          <a:xfrm>
            <a:off x="6084720" y="404640"/>
            <a:ext cx="2889360" cy="215748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  <p:pic>
        <p:nvPicPr>
          <p:cNvPr id="138" name="Picture 6" descr="Augabe1_1Tc"/>
          <p:cNvPicPr/>
          <p:nvPr/>
        </p:nvPicPr>
        <p:blipFill>
          <a:blip r:embed="rId2"/>
          <a:stretch/>
        </p:blipFill>
        <p:spPr>
          <a:xfrm>
            <a:off x="6300720" y="2708280"/>
            <a:ext cx="2457360" cy="176220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  <p:graphicFrame>
        <p:nvGraphicFramePr>
          <p:cNvPr id="139" name="Object 7"/>
          <p:cNvGraphicFramePr/>
          <p:nvPr/>
        </p:nvGraphicFramePr>
        <p:xfrm>
          <a:off x="6613560" y="4519440"/>
          <a:ext cx="1974960" cy="206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13560" y="4519440"/>
                    <a:ext cx="1974960" cy="20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F51E-D674-4A0A-BD09-4DB2D48E07BE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4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5B00-42D4-4285-857D-0974B830F575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acómetro (tacogenerad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4"/>
          <p:cNvGraphicFramePr/>
          <p:nvPr/>
        </p:nvGraphicFramePr>
        <p:xfrm>
          <a:off x="2666880" y="4648320"/>
          <a:ext cx="3276720" cy="17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648320"/>
                    <a:ext cx="3276720" cy="1719000"/>
                  </a:xfrm>
                  <a:prstGeom prst="rect">
                    <a:avLst/>
                  </a:prstGeom>
                  <a:ln w="31680">
                    <a:solidFill>
                      <a:srgbClr val="cc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48" name="Object 5"/>
          <p:cNvGraphicFramePr/>
          <p:nvPr/>
        </p:nvGraphicFramePr>
        <p:xfrm>
          <a:off x="2581200" y="2666880"/>
          <a:ext cx="3068640" cy="18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81200" y="2666880"/>
                    <a:ext cx="30686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285920" y="1856880"/>
            <a:ext cx="4643280" cy="428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stema T</a:t>
            </a:r>
            <a:r>
              <a:rPr b="0" lang="es-EC" sz="2000" spc="-1" strike="noStrike">
                <a:solidFill>
                  <a:srgbClr val="000000"/>
                </a:solidFill>
                <a:latin typeface="Times New Roman"/>
              </a:rPr>
              <a:t>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Times New Roman"/>
              </a:rPr>
              <a:t>La  variación de la temperatura de salida alrededor de su punto de operación podrá ser debida a un cambio en el calor suministrado por el calentador o por un cambio en la temperatura del fluido entrant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lance Energé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or suministrado por calent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or del fluido ent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l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or absorvido por fl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or a traves de pare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dad térmic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cal/</a:t>
            </a: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°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Rt</a:t>
            </a: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Resistencia 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rmica</a:t>
            </a: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°C.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k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ujo líquid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g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or específic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cal/kg.</a:t>
            </a: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°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A210-F265-4311-A1B0-9E61BBA80135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4" name="4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DEF4-C1AB-4A57-AF43-24969D0833A3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5" name="Picture 8" descr=""/>
          <p:cNvPicPr/>
          <p:nvPr/>
        </p:nvPicPr>
        <p:blipFill>
          <a:blip r:embed="rId1"/>
          <a:stretch/>
        </p:blipFill>
        <p:spPr>
          <a:xfrm>
            <a:off x="5857920" y="3000240"/>
            <a:ext cx="30384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517760" y="1857240"/>
            <a:ext cx="2768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 T</a:t>
            </a:r>
            <a:r>
              <a:rPr b="0" lang="es-EC" sz="2400" spc="-1" strike="noStrike">
                <a:solidFill>
                  <a:srgbClr val="000000"/>
                </a:solidFill>
                <a:latin typeface="Times New Roman"/>
              </a:rPr>
              <a:t>ér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 Energé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8E96-C8DA-499A-86BC-800C9F25555E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9" name="4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1CA1-DDE8-4E6D-BDDB-A4F8E84C44E9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460" name="Object 2"/>
          <p:cNvGraphicFramePr/>
          <p:nvPr/>
        </p:nvGraphicFramePr>
        <p:xfrm>
          <a:off x="1663560" y="2973240"/>
          <a:ext cx="7194600" cy="28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3560" y="2973240"/>
                    <a:ext cx="719460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2" name="Picture 3" descr=""/>
          <p:cNvPicPr/>
          <p:nvPr/>
        </p:nvPicPr>
        <p:blipFill>
          <a:blip r:embed="rId3"/>
          <a:stretch/>
        </p:blipFill>
        <p:spPr>
          <a:xfrm>
            <a:off x="4429080" y="2071800"/>
            <a:ext cx="4473720" cy="164304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518F-2D24-44FB-87F5-4B553494EE8D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4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CAE0-C8A0-4713-BE04-A06FA363F97A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1403280" y="1773360"/>
            <a:ext cx="774072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trol de Velocidad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otor de Corriente Continua controlado por armadur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ñal de entrada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alor incremental de velocidad en voltios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ñal de salida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alor de la velocidad en r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nsor de velocidad mediante tacómetro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sidere el efecto de una perturbación de torque en el eje del moto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67" name="Picture 7" descr=""/>
          <p:cNvPicPr/>
          <p:nvPr/>
        </p:nvPicPr>
        <p:blipFill>
          <a:blip r:embed="rId1"/>
          <a:stretch/>
        </p:blipFill>
        <p:spPr>
          <a:xfrm>
            <a:off x="4572000" y="3786120"/>
            <a:ext cx="4143240" cy="29005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8" descr=""/>
          <p:cNvPicPr/>
          <p:nvPr/>
        </p:nvPicPr>
        <p:blipFill>
          <a:blip r:embed="rId2"/>
          <a:stretch/>
        </p:blipFill>
        <p:spPr>
          <a:xfrm>
            <a:off x="1114560" y="4149720"/>
            <a:ext cx="33861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0EDA-03D8-4A06-9DDC-11045E42B147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0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D026-E8A1-4BA9-BD18-F241BA3043B0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trol de Velo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otor de Corriente Continua controlado por arma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Picture 9" descr="DCMotorACSpeed_Osciloscope"/>
          <p:cNvPicPr/>
          <p:nvPr/>
        </p:nvPicPr>
        <p:blipFill>
          <a:blip r:embed="rId1"/>
          <a:stretch/>
        </p:blipFill>
        <p:spPr>
          <a:xfrm>
            <a:off x="4643280" y="2765520"/>
            <a:ext cx="4165920" cy="35431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"/>
          <p:cNvPicPr/>
          <p:nvPr/>
        </p:nvPicPr>
        <p:blipFill>
          <a:blip r:embed="rId2"/>
          <a:stretch/>
        </p:blipFill>
        <p:spPr>
          <a:xfrm>
            <a:off x="2049480" y="2786040"/>
            <a:ext cx="245592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E633-4DF4-42C4-B087-4D24414885A2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6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224F-C16A-4A8B-AE07-216AC1CA98D4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478" name="Object 5"/>
          <p:cNvGraphicFramePr/>
          <p:nvPr/>
        </p:nvGraphicFramePr>
        <p:xfrm>
          <a:off x="2286000" y="4267080"/>
          <a:ext cx="6553080" cy="19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267080"/>
                    <a:ext cx="6553080" cy="1930680"/>
                  </a:xfrm>
                  <a:prstGeom prst="rect">
                    <a:avLst/>
                  </a:prstGeom>
                  <a:ln w="31680">
                    <a:solidFill>
                      <a:srgbClr val="cc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47920" y="1980720"/>
            <a:ext cx="765792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trol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otor de Corriente Continua controlado por arma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ñal de entrada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osición eje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ñal de salida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osición eje de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tector de error a base de potencióme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sidere el efecto de la inercia y fricción de la carga conectada al eje del motor mediante engran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14FD-C313-47F8-9159-884781C0D67E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2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B0D1-A10A-47E6-86C5-D74F0226D794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42640" y="1714680"/>
            <a:ext cx="442908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ntrol de 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tor de Corriente Continua controlado por armad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5720" indent="-1530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imulación del sistema utilizando MATLAB y SIMU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65720" indent="-1530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ncluya el efecto de una perturbación de tor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7" descr=""/>
          <p:cNvPicPr/>
          <p:nvPr/>
        </p:nvPicPr>
        <p:blipFill>
          <a:blip r:embed="rId1"/>
          <a:stretch/>
        </p:blipFill>
        <p:spPr>
          <a:xfrm>
            <a:off x="5786280" y="1214280"/>
            <a:ext cx="3205440" cy="20433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8" descr=""/>
          <p:cNvPicPr/>
          <p:nvPr/>
        </p:nvPicPr>
        <p:blipFill>
          <a:blip r:embed="rId2"/>
          <a:stretch/>
        </p:blipFill>
        <p:spPr>
          <a:xfrm>
            <a:off x="1643040" y="3578400"/>
            <a:ext cx="564372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B50B-9DF7-4F9A-8929-DFE24CC2CADF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8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1AE2-970B-4956-8A10-DA91A00FC510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5214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ntrol de 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tor de Corriente Continua controlado por armad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Picture 9" descr="DCMotorACPosition_Osciloscope"/>
          <p:cNvPicPr/>
          <p:nvPr/>
        </p:nvPicPr>
        <p:blipFill>
          <a:blip r:embed="rId1"/>
          <a:stretch/>
        </p:blipFill>
        <p:spPr>
          <a:xfrm>
            <a:off x="1643040" y="2928960"/>
            <a:ext cx="4143240" cy="34290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8" descr=""/>
          <p:cNvPicPr/>
          <p:nvPr/>
        </p:nvPicPr>
        <p:blipFill>
          <a:blip r:embed="rId2"/>
          <a:stretch/>
        </p:blipFill>
        <p:spPr>
          <a:xfrm>
            <a:off x="5857920" y="2071800"/>
            <a:ext cx="3143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6841-591B-40F9-8693-D002BC99230D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4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592B-FE30-4C5A-BF50-A690AE86187C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42920" y="1773000"/>
            <a:ext cx="3353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odelos de diagramas de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os diagramas de bloques son bloques operacionales y unidireccionales que representan la función de transferencia de las variables de inter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ara representar un sistema con diferentes variables bajo control, se utiliza una interconexión de blo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a transformaciones de diagramas de bloques y las técnicas de reducción se las obtiene aplicando el algebra de las variables del dia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6" name="Object 4"/>
          <p:cNvGraphicFramePr/>
          <p:nvPr/>
        </p:nvGraphicFramePr>
        <p:xfrm>
          <a:off x="4500720" y="1484280"/>
          <a:ext cx="444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484280"/>
                    <a:ext cx="4448160" cy="4724280"/>
                  </a:xfrm>
                  <a:prstGeom prst="rect">
                    <a:avLst/>
                  </a:prstGeom>
                  <a:ln w="25560">
                    <a:solidFill>
                      <a:srgbClr val="cc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3FE9-3A0B-45C4-B48D-F6A275D7CDA2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0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EA3D-47E5-4672-8561-D3D690FB9C94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501" name="Object 4"/>
          <p:cNvGraphicFramePr/>
          <p:nvPr/>
        </p:nvGraphicFramePr>
        <p:xfrm>
          <a:off x="2411280" y="4005360"/>
          <a:ext cx="6096240" cy="22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4005360"/>
                    <a:ext cx="6096240" cy="2273040"/>
                  </a:xfrm>
                  <a:prstGeom prst="rect">
                    <a:avLst/>
                  </a:prstGeom>
                  <a:ln w="31680">
                    <a:solidFill>
                      <a:srgbClr val="cc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76000" y="1773360"/>
            <a:ext cx="747396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odelos de diagramas de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os diagramas de bloques son bloques operacionales y unidireccionales que representan la función de transferencia de las variables de inter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ara representar un sistema con diferentes variables bajo control, se utiliza una interconexión de blo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a transformaciones de diagramas de bloques y las técnicas de reducción se las obtiene aplicando el algebra de las variables del dia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Ejemplo de sistema de control con retroalimentación de circuitos múlti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DFAB-FA32-4DFC-ABCC-821C3E734E7E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2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3E72-BB5B-48CC-BF0B-B4D08F183117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8560" y="304560"/>
            <a:ext cx="4555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3920" y="1785600"/>
            <a:ext cx="4681800" cy="533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resentación gráfica de un sistema en el dominio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 Fu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 de velocidad de un a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Respuesta al Escalón de la  Bobina del Regulador corresponde a un sistema de primer orde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desplazamiento (S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 es proporcional a la Corriente de la Bobina del Regulador (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desplazamiento (S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 es proporcional al desplazamiento (S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apertura de la compuerta de la mariposa del carburador es proporcional al desplazamiento negativo de (S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5"/>
          <p:cNvGraphicFramePr/>
          <p:nvPr/>
        </p:nvGraphicFramePr>
        <p:xfrm>
          <a:off x="5778360" y="4519440"/>
          <a:ext cx="3189600" cy="19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4519440"/>
                    <a:ext cx="318960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Picture 7" descr="Augabe1_1Tb"/>
          <p:cNvPicPr/>
          <p:nvPr/>
        </p:nvPicPr>
        <p:blipFill>
          <a:blip r:embed="rId3"/>
          <a:stretch/>
        </p:blipFill>
        <p:spPr>
          <a:xfrm>
            <a:off x="6084720" y="189000"/>
            <a:ext cx="2889360" cy="215748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  <p:pic>
        <p:nvPicPr>
          <p:cNvPr id="148" name="Picture 8" descr="Augabe1_1Tc"/>
          <p:cNvPicPr/>
          <p:nvPr/>
        </p:nvPicPr>
        <p:blipFill>
          <a:blip r:embed="rId4"/>
          <a:stretch/>
        </p:blipFill>
        <p:spPr>
          <a:xfrm>
            <a:off x="6300720" y="2459160"/>
            <a:ext cx="2457360" cy="176184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3BA0-D365-40AD-BD0C-D4A846183BC3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6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8907-C5A6-4684-B665-119A9CA584E4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507" name="Object 4"/>
          <p:cNvGraphicFramePr/>
          <p:nvPr/>
        </p:nvGraphicFramePr>
        <p:xfrm>
          <a:off x="2771640" y="2852640"/>
          <a:ext cx="4970520" cy="17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852640"/>
                    <a:ext cx="4970520" cy="1739880"/>
                  </a:xfrm>
                  <a:prstGeom prst="rect">
                    <a:avLst/>
                  </a:prstGeom>
                  <a:ln w="31680">
                    <a:solidFill>
                      <a:srgbClr val="cc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9" name="Object 5"/>
          <p:cNvGraphicFramePr/>
          <p:nvPr/>
        </p:nvGraphicFramePr>
        <p:xfrm>
          <a:off x="2771640" y="5013360"/>
          <a:ext cx="5486400" cy="15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5013360"/>
                    <a:ext cx="5486400" cy="1501920"/>
                  </a:xfrm>
                  <a:prstGeom prst="rect">
                    <a:avLst/>
                  </a:prstGeom>
                  <a:ln w="31680">
                    <a:solidFill>
                      <a:srgbClr val="cc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447920" y="184464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odelos de diagramas de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-15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Ejemplo de sistema de control con retroalimentación de circuitos múlti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-15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Aplicación de la regla 4 en el primer grá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-15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Aplicación de las reglas 1 y 6 en el segundo grá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E651-FC58-47A8-A3AD-D0C176281E68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4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F186-E792-4408-AA08-E14093B224D5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58920" y="1773000"/>
            <a:ext cx="7485120" cy="389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odelos de diagramas de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Ejemplo de sistema de control con retroalimentación de circuitos múlti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Aplicación de la regla 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Aplicación de las reglas 1 y 6, la Función de Transferencia resulta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4" descr=""/>
          <p:cNvPicPr/>
          <p:nvPr/>
        </p:nvPicPr>
        <p:blipFill>
          <a:blip r:embed="rId1"/>
          <a:stretch/>
        </p:blipFill>
        <p:spPr>
          <a:xfrm>
            <a:off x="2124000" y="3327480"/>
            <a:ext cx="3888000" cy="1325520"/>
          </a:xfrm>
          <a:prstGeom prst="rect">
            <a:avLst/>
          </a:prstGeom>
          <a:ln w="31680">
            <a:solidFill>
              <a:srgbClr val="cc6600"/>
            </a:solidFill>
            <a:miter/>
          </a:ln>
        </p:spPr>
      </p:pic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2124000" y="5445000"/>
            <a:ext cx="3960720" cy="917640"/>
          </a:xfrm>
          <a:prstGeom prst="rect">
            <a:avLst/>
          </a:prstGeom>
          <a:ln w="3168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0047-F010-4A9B-BBAB-6F6706A66AE3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0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9311-F57F-45F0-84D8-4F234EEB5E81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Gráficos de Flujo de Señ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na gráfica de flujo de señales puede definirse como un método gráfico para representar las relaciones entrada-salida entre las variables de un sistema de ecuaciones algebraicas lin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s una representación causa y efecto de los sistemas lin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los gráficos de flujo de señales se usan puntos de enlace o nodos para representar las variables y se los interconecta mediante segmentos lineales llamados ramas de acuerdo a las ecuaciones de causa y efec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as ramas tienen ganancia y dirección asociadas a e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3" name="Oval 6"/>
          <p:cNvSpPr/>
          <p:nvPr/>
        </p:nvSpPr>
        <p:spPr>
          <a:xfrm>
            <a:off x="3962520" y="525780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4" name="Oval 7"/>
          <p:cNvSpPr/>
          <p:nvPr/>
        </p:nvSpPr>
        <p:spPr>
          <a:xfrm>
            <a:off x="5562720" y="525780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5" name="Line 8"/>
          <p:cNvSpPr/>
          <p:nvPr/>
        </p:nvSpPr>
        <p:spPr>
          <a:xfrm>
            <a:off x="4114800" y="5334120"/>
            <a:ext cx="144792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3512160" y="51814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5721840" y="51814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4573440" y="487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529" name="Object 12"/>
          <p:cNvGraphicFramePr/>
          <p:nvPr/>
        </p:nvGraphicFramePr>
        <p:xfrm>
          <a:off x="4114800" y="5557680"/>
          <a:ext cx="1219320" cy="4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557680"/>
                    <a:ext cx="121932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0B53-6BFC-4FF4-85EE-21C4BCC1E198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2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7929-7EAF-437D-AEEB-746945982EBE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7770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ráficos de Flujo de Señ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Representación causa y efecto de los sistemas lin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os sistemas pueden ser o no ser bidireccion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Una resistencia, bidirec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Un amplificador, (amplificador operacional ideal ), direc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Ganancia infinita, impedancia de entrada infinita, impedancia de salida c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5" descr=""/>
          <p:cNvPicPr/>
          <p:nvPr/>
        </p:nvPicPr>
        <p:blipFill>
          <a:blip r:embed="rId1"/>
          <a:stretch/>
        </p:blipFill>
        <p:spPr>
          <a:xfrm>
            <a:off x="1763640" y="4653000"/>
            <a:ext cx="3009960" cy="1577880"/>
          </a:xfrm>
          <a:prstGeom prst="rect">
            <a:avLst/>
          </a:prstGeom>
          <a:ln w="31680">
            <a:solidFill>
              <a:srgbClr val="cc6600"/>
            </a:solidFill>
            <a:miter/>
          </a:ln>
        </p:spPr>
      </p:pic>
      <p:pic>
        <p:nvPicPr>
          <p:cNvPr id="536" name="Picture 6" descr=""/>
          <p:cNvPicPr/>
          <p:nvPr/>
        </p:nvPicPr>
        <p:blipFill>
          <a:blip r:embed="rId2"/>
          <a:stretch/>
        </p:blipFill>
        <p:spPr>
          <a:xfrm>
            <a:off x="2359080" y="3789360"/>
            <a:ext cx="1708200" cy="650880"/>
          </a:xfrm>
          <a:prstGeom prst="rect">
            <a:avLst/>
          </a:prstGeom>
          <a:ln w="31680">
            <a:solidFill>
              <a:srgbClr val="cc6600"/>
            </a:solidFill>
            <a:miter/>
          </a:ln>
        </p:spPr>
      </p:pic>
      <p:graphicFrame>
        <p:nvGraphicFramePr>
          <p:cNvPr id="537" name="Object 7"/>
          <p:cNvGraphicFramePr/>
          <p:nvPr/>
        </p:nvGraphicFramePr>
        <p:xfrm>
          <a:off x="4975200" y="3500280"/>
          <a:ext cx="3492360" cy="253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5200" y="3500280"/>
                    <a:ext cx="3492360" cy="25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16DB-A6BF-4451-BC9C-518862B3D2EB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0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54F7-8208-42D3-AF7D-86D97B762E8A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447560" y="1828440"/>
            <a:ext cx="75438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Gráficos de Flujo de Señ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efini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Nu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Un punto que representa una señ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Transmita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Una ganancia entre dos pu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R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Une dos nudos y tiene dir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Nudo de En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Solo tiene ramas que sa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Nudo de Sal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Solo tiene ramas que en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Nudo Mix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Tiene ramas que entran y sa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Es un camino cer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azos Disti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No tiene nudos com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Trayecto Dire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Va desde nudo de entrada al nudo de salida pasando una  sola vez por cada nu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anancia de Trayecto Dire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Producto de las transmitancias de las ramas del trayecto dir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A56E-5BA5-41CF-9004-3EAFBB4FA8DD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4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A2FF-39AC-49B1-93CD-55A613DC3689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5019840" cy="1646280"/>
          </a:xfrm>
          <a:prstGeom prst="rect">
            <a:avLst/>
          </a:prstGeom>
          <a:ln w="31680">
            <a:solidFill>
              <a:srgbClr val="cc9900"/>
            </a:solidFill>
            <a:miter/>
          </a:ln>
        </p:spPr>
      </p:pic>
      <p:pic>
        <p:nvPicPr>
          <p:cNvPr id="546" name="Picture 5" descr=""/>
          <p:cNvPicPr/>
          <p:nvPr/>
        </p:nvPicPr>
        <p:blipFill>
          <a:blip r:embed="rId2"/>
          <a:stretch/>
        </p:blipFill>
        <p:spPr>
          <a:xfrm>
            <a:off x="3276720" y="4724280"/>
            <a:ext cx="4038480" cy="1806840"/>
          </a:xfrm>
          <a:prstGeom prst="rect">
            <a:avLst/>
          </a:prstGeom>
          <a:ln w="31680">
            <a:solidFill>
              <a:srgbClr val="cc9900"/>
            </a:solidFill>
            <a:miter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1517760" y="1844640"/>
            <a:ext cx="76262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Gráfico de Flujo de Señales a partir de un Diagrama de Bloques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Darle nombre a todas las variables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or cada variable se identifica un Nodo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2B36-6183-407D-BA20-54392AE67A39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0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4528-276A-4468-B802-B421F3C4C2F7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7581960" cy="31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Gráfico de Flujo de Señales a partir de un Diagrama de Blo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Reducir mediante la eliminación de Nodos no neces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a Función de Trans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3581280" cy="1989000"/>
          </a:xfrm>
          <a:prstGeom prst="rect">
            <a:avLst/>
          </a:prstGeom>
          <a:ln w="31680">
            <a:solidFill>
              <a:srgbClr val="cc9900"/>
            </a:solidFill>
            <a:miter/>
          </a:ln>
        </p:spPr>
      </p:pic>
      <p:graphicFrame>
        <p:nvGraphicFramePr>
          <p:cNvPr id="554" name="Object 7"/>
          <p:cNvGraphicFramePr/>
          <p:nvPr/>
        </p:nvGraphicFramePr>
        <p:xfrm>
          <a:off x="2122560" y="4956120"/>
          <a:ext cx="5905440" cy="16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2560" y="4956120"/>
                    <a:ext cx="590544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9954-2BDA-479C-82DF-0232B80B1662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7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2FD5-23D2-4637-8097-2550AC6D05D6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1599840" y="1752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solución de Gráficos de Flujo de Señales mediante el método de M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Object 5"/>
          <p:cNvGraphicFramePr/>
          <p:nvPr/>
        </p:nvGraphicFramePr>
        <p:xfrm>
          <a:off x="2316240" y="3733920"/>
          <a:ext cx="275904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6240" y="3733920"/>
                    <a:ext cx="275904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1" name="Object 6"/>
          <p:cNvGraphicFramePr/>
          <p:nvPr/>
        </p:nvGraphicFramePr>
        <p:xfrm>
          <a:off x="2214720" y="5029200"/>
          <a:ext cx="547992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14720" y="5029200"/>
                    <a:ext cx="54799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1476360" y="2492280"/>
            <a:ext cx="4343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sideremos el siguiente ejemplo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l sistema se lo puede describir mediante el siguiente conjunto de ecuaciones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mpleando la regla de Crame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65" name="Picture 9" descr=""/>
          <p:cNvPicPr/>
          <p:nvPr/>
        </p:nvPicPr>
        <p:blipFill>
          <a:blip r:embed="rId5"/>
          <a:stretch/>
        </p:blipFill>
        <p:spPr>
          <a:xfrm>
            <a:off x="5867280" y="2276640"/>
            <a:ext cx="2943360" cy="2690640"/>
          </a:xfrm>
          <a:prstGeom prst="rect">
            <a:avLst/>
          </a:prstGeom>
          <a:ln w="3168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B424-BEF6-444E-A4E7-90CCC0CA7439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7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5E8F-5E49-402A-8222-16FBB85EE008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1523880" y="1828800"/>
            <a:ext cx="7467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solución de Gráficos de Flujo de Señales mediante el método de Mason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forma general, la ganancia lineal T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entre la variable independiente x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(variable de entrada) y una variable dependiente x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(variable de salida) está dada por la siguiente expresión, fórmula de Mason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Números de trayectos directos entre la entrada x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y la salida x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Ganancia de la trayectoria directa k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Determinante del grafo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ofactor del trayecto directo P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(es el determinante del grafo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en el que se han removido los elementos del trayecto directo k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570" name="Object 7"/>
          <p:cNvGraphicFramePr/>
          <p:nvPr/>
        </p:nvGraphicFramePr>
        <p:xfrm>
          <a:off x="2608200" y="3352680"/>
          <a:ext cx="272592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8200" y="3352680"/>
                    <a:ext cx="272592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033A-0622-4E0C-9726-898637F11D47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3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AE22-D473-4396-B424-F23A36E7A13F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6"/>
              <p:cNvSpPr txBox="1"/>
              <p:nvPr/>
            </p:nvSpPr>
            <p:spPr>
              <a:xfrm>
                <a:off x="2743200" y="2895480"/>
                <a:ext cx="4640400" cy="23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b</m:t>
                        </m:r>
                        <m:r>
                          <m:t xml:space="preserve">L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r>
                              <m:t xml:space="preserve">e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  <m:r>
                          <m:t xml:space="preserve">e</m:t>
                        </m:r>
                        <m:r>
                          <m:t xml:space="preserve">L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b</m:t>
                        </m:r>
                        <m:r>
                          <m:t xml:space="preserve">L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r>
                              <m:t xml:space="preserve">e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  <m:r>
                          <m:t xml:space="preserve">e</m:t>
                        </m:r>
                        <m:r>
                          <m:t xml:space="preserve">L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517760" y="1828440"/>
            <a:ext cx="7626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solución de Gráficos de Flujo de Señales mediante el método de M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Determinante del gra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8"/>
          <p:cNvSpPr/>
          <p:nvPr/>
        </p:nvSpPr>
        <p:spPr>
          <a:xfrm>
            <a:off x="4495680" y="3809880"/>
            <a:ext cx="4343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Sumatoria de todas las ganancias de lazo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Sumatoria del producto de las ganancias de todas las combinaciones posibles de los lazos distintos de dos en dos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Igual que el caso anterior pero para los lazos distintos de tres en tres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DC5C-BEBC-469A-98CA-950DA8729ACF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0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0D58-754E-4DBF-B614-EE8423DB92AB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773000"/>
            <a:ext cx="4753080" cy="422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resentación gráfica de los sistemas en el dominio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 Fu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 de velocidad de un a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revolución del eje de la rueda del vehículo (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 es proporcional a la velocidad del vehículo (x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revolución del eje del motor (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 es proporcional a la revolución del eje de la rueda del vehículo (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acuerdo a la ley de Newton la velocidad (x) del vehículo es proporcional a la integral de la Fuerza Resultante (f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5940360" y="4514760"/>
          <a:ext cx="302436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4514760"/>
                    <a:ext cx="302436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Picture 7" descr="Augabe1_1Tb"/>
          <p:cNvPicPr/>
          <p:nvPr/>
        </p:nvPicPr>
        <p:blipFill>
          <a:blip r:embed="rId3"/>
          <a:stretch/>
        </p:blipFill>
        <p:spPr>
          <a:xfrm>
            <a:off x="6084720" y="2133720"/>
            <a:ext cx="2889360" cy="215712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B269-DF44-4F5A-B103-0B85D8ED1BA9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9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BF6F-CA2E-4887-8A35-883D9DE9BB53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solución de Gráficos de Flujo de Señales mediante el método de M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sideremos el siguiente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e desea obtener la Función de Transferencia Y(s)/R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Número de caminos directos: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Número de lazos: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Número de lazos distintos: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2386080" y="3335400"/>
            <a:ext cx="5641920" cy="1977840"/>
          </a:xfrm>
          <a:prstGeom prst="rect">
            <a:avLst/>
          </a:prstGeom>
          <a:ln w="3168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7D3E-E91E-4D77-9B91-58B30815430F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4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023D-CFCE-496A-B10A-948B4C33F25A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1476000" y="692280"/>
            <a:ext cx="373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solución de Gráficos de Flujo de Señales mediante el método de M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Caminos directos: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=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=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=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azos: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4643280" y="1773360"/>
            <a:ext cx="450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azos distintos: 4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on  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 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on  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 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on  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87" name="Picture 12" descr=""/>
          <p:cNvPicPr/>
          <p:nvPr/>
        </p:nvPicPr>
        <p:blipFill>
          <a:blip r:embed="rId1"/>
          <a:stretch/>
        </p:blipFill>
        <p:spPr>
          <a:xfrm>
            <a:off x="2700360" y="4724280"/>
            <a:ext cx="5641920" cy="1978200"/>
          </a:xfrm>
          <a:prstGeom prst="rect">
            <a:avLst/>
          </a:prstGeom>
          <a:ln w="3168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0E51-5C92-463F-AB4D-A508D1C7193F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9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62D3-BFC1-463B-ABD1-C335B20BE026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517760" y="1989000"/>
            <a:ext cx="762624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solución de Gráficos de Flujo de Señales mediante el método de M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El determinante del sist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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=1-(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+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+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+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+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+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+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+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)+(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+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+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os cofact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ara P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es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ara P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es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=1-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ara P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es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Finalmente, la Función de Trasferenc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6"/>
              <p:cNvSpPr txBox="1"/>
              <p:nvPr/>
            </p:nvSpPr>
            <p:spPr>
              <a:xfrm>
                <a:off x="2514600" y="5105520"/>
                <a:ext cx="25909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Δ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2E5F-C96E-4AF6-BBDD-7FBEF9D8EBD4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4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99D1-5390-4A16-88EB-6A97E75C0C32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431964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mandos de MAT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Generación de una función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uma de funciones de transfer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Obtención de los Po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Obtención de los C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Gráfico de los Polos y C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Times New Roman"/>
              </a:rPr>
              <a:t>Ejemplo 2.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597" name="Picture 7" descr=""/>
          <p:cNvPicPr/>
          <p:nvPr/>
        </p:nvPicPr>
        <p:blipFill>
          <a:blip r:embed="rId1"/>
          <a:stretch/>
        </p:blipFill>
        <p:spPr>
          <a:xfrm>
            <a:off x="5819760" y="981000"/>
            <a:ext cx="3086280" cy="5616720"/>
          </a:xfrm>
          <a:prstGeom prst="rect">
            <a:avLst/>
          </a:prstGeom>
          <a:ln w="3168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F8A8-7F01-4787-A155-17D72D871281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9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8573-97C4-4827-A295-1793A912BAF9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419640" y="1844640"/>
            <a:ext cx="50400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andos de 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Obtención de los Po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Obtención de los C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Gráfico de los Polos y C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8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2376720" cy="4105080"/>
          </a:xfrm>
          <a:prstGeom prst="rect">
            <a:avLst/>
          </a:prstGeom>
          <a:ln w="31680">
            <a:solidFill>
              <a:srgbClr val="cc6600"/>
            </a:solidFill>
            <a:miter/>
          </a:ln>
        </p:spPr>
      </p:pic>
      <p:pic>
        <p:nvPicPr>
          <p:cNvPr id="603" name="Picture 9" descr=""/>
          <p:cNvPicPr/>
          <p:nvPr/>
        </p:nvPicPr>
        <p:blipFill>
          <a:blip r:embed="rId2"/>
          <a:stretch/>
        </p:blipFill>
        <p:spPr>
          <a:xfrm>
            <a:off x="3419640" y="2995560"/>
            <a:ext cx="2344680" cy="3241800"/>
          </a:xfrm>
          <a:prstGeom prst="rect">
            <a:avLst/>
          </a:prstGeom>
          <a:ln w="31680">
            <a:solidFill>
              <a:srgbClr val="cc6600"/>
            </a:solidFill>
            <a:miter/>
          </a:ln>
        </p:spPr>
      </p:pic>
      <p:pic>
        <p:nvPicPr>
          <p:cNvPr id="604" name="Picture 10" descr=""/>
          <p:cNvPicPr/>
          <p:nvPr/>
        </p:nvPicPr>
        <p:blipFill>
          <a:blip r:embed="rId3"/>
          <a:stretch/>
        </p:blipFill>
        <p:spPr>
          <a:xfrm>
            <a:off x="5867280" y="2986200"/>
            <a:ext cx="31086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E2E3-CEB9-495F-8AB1-B2E73CE179A6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6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EA07-F247-4963-B6D7-ED57A84A6945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andos de MA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Cascada de dos funciones de trans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Sistema de realimentación uni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Función de transferencia del sistema de realimentación uni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jercicio 2.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9" name="Object 7"/>
          <p:cNvGraphicFramePr/>
          <p:nvPr/>
        </p:nvGraphicFramePr>
        <p:xfrm>
          <a:off x="2286000" y="4267080"/>
          <a:ext cx="380988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267080"/>
                    <a:ext cx="3809880" cy="1203480"/>
                  </a:xfrm>
                  <a:prstGeom prst="rect">
                    <a:avLst/>
                  </a:prstGeom>
                  <a:ln w="31680">
                    <a:solidFill>
                      <a:srgbClr val="cc99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11" name="Picture 11" descr=""/>
          <p:cNvPicPr/>
          <p:nvPr/>
        </p:nvPicPr>
        <p:blipFill>
          <a:blip r:embed="rId3"/>
          <a:stretch/>
        </p:blipFill>
        <p:spPr>
          <a:xfrm>
            <a:off x="6364440" y="1484280"/>
            <a:ext cx="2600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CC95-B8FC-4F32-B730-307F1830381B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3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686A-7470-46AF-B559-BBE72548A82F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615" name="Object 5"/>
          <p:cNvGraphicFramePr/>
          <p:nvPr/>
        </p:nvGraphicFramePr>
        <p:xfrm>
          <a:off x="6348240" y="2133720"/>
          <a:ext cx="24624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8240" y="2133720"/>
                    <a:ext cx="2462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479240" y="1981080"/>
            <a:ext cx="46926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mandos de MAT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scada de dos funciones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stema de realimentación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unción de transferencia del sistema de realimentación uni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1851-B84F-4D9E-AE4F-A1423B56E4A0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9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A63C-6E97-4FE3-8421-4BD1319E5715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1479600" y="1828800"/>
            <a:ext cx="7664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andos de MA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implificación de Diagramas de Blo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plicar las reglas de re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rimer reducción, mover 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delante de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Segunda reducción, resolver lazo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y 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Tercera reducción, resolver lazo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, G de la segunda reducción y G de la primer 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uarta reducción, resolver lazo de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, G de la tercer reducción y 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622" name="Object 5"/>
          <p:cNvGraphicFramePr/>
          <p:nvPr/>
        </p:nvGraphicFramePr>
        <p:xfrm>
          <a:off x="2627280" y="4292640"/>
          <a:ext cx="609588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4292640"/>
                    <a:ext cx="6095880" cy="2273400"/>
                  </a:xfrm>
                  <a:prstGeom prst="rect">
                    <a:avLst/>
                  </a:prstGeom>
                  <a:ln w="31680">
                    <a:solidFill>
                      <a:srgbClr val="cc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05A4-2F8F-40A3-9CC6-C34F175E9F05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5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9255-7247-402E-93C6-799604F72412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13880" y="1785960"/>
            <a:ext cx="39308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andos de MA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implificación de Diagramas de Blo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plicar las reglas de re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jercicio 2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rimer reducción, mover 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delante de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Segunda reducción, resolver lazo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y 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Tercera reducción, resolver lazo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, G de la segunda reducción y G de la primer 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uarta reducción, resolver lazo de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, G de la tercer reducción y 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7" descr=""/>
          <p:cNvPicPr/>
          <p:nvPr/>
        </p:nvPicPr>
        <p:blipFill>
          <a:blip r:embed="rId1"/>
          <a:stretch/>
        </p:blipFill>
        <p:spPr>
          <a:xfrm>
            <a:off x="4602240" y="1268280"/>
            <a:ext cx="4233960" cy="493092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776D-E5D6-498B-86A7-1BD07BD65167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0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1F4E-8244-4756-A79A-F333AF46C1FE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andos de MA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implificación de Diagramas de Blo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plicar las reglas de re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rimer reducción, mover 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delante de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Segunda reducción, resolver lazo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y 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Tercera reducción, resolver lazo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, G de la segunda reducción y G de la primer 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uarta reducción, resolver lazo de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, G de la tercer reducción y 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Picture 7" descr=""/>
          <p:cNvPicPr/>
          <p:nvPr/>
        </p:nvPicPr>
        <p:blipFill>
          <a:blip r:embed="rId1"/>
          <a:stretch/>
        </p:blipFill>
        <p:spPr>
          <a:xfrm>
            <a:off x="2556000" y="4581360"/>
            <a:ext cx="6113160" cy="107964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C07B-4349-4E92-BCC3-D8BAC5E4AEF7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7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527E-3E0E-4353-BBA6-1AE99D1D2232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7760" y="1844640"/>
            <a:ext cx="7626240" cy="11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presentación gráfica de los sistemas en el dominio d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agrama Fu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ntrol de velocidad de un au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3059280" y="2674800"/>
            <a:ext cx="5113080" cy="3943440"/>
          </a:xfrm>
          <a:prstGeom prst="rect">
            <a:avLst/>
          </a:prstGeom>
          <a:ln w="3168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8BD2-515D-4DB9-A4DA-C2AB0BFAF0FE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5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4FEF-FC2B-4D03-BBE3-938B62AE83A8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andos de MA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implificación de Diagramas de Blo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plicar las reglas de re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Simplificación de la función de transferencia al eliminar los polos y ceros de igual val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Uso de la función “minreal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7" descr=""/>
          <p:cNvPicPr/>
          <p:nvPr/>
        </p:nvPicPr>
        <p:blipFill>
          <a:blip r:embed="rId1"/>
          <a:stretch/>
        </p:blipFill>
        <p:spPr>
          <a:xfrm>
            <a:off x="2846520" y="3857760"/>
            <a:ext cx="5038560" cy="266688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0CEB-202A-4C80-83CB-DA5D9313D84C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2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6266-93CB-49D0-8AFE-AE5CF37D631F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79240" y="1844280"/>
            <a:ext cx="69800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mportamiento Diná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agrama Func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cuación diferencial del sist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6"/>
          <p:cNvGraphicFramePr/>
          <p:nvPr/>
        </p:nvGraphicFramePr>
        <p:xfrm>
          <a:off x="2627280" y="4149720"/>
          <a:ext cx="5977080" cy="21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4149720"/>
                    <a:ext cx="597708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Picture 8" descr=""/>
          <p:cNvPicPr/>
          <p:nvPr/>
        </p:nvPicPr>
        <p:blipFill>
          <a:blip r:embed="rId3"/>
          <a:stretch/>
        </p:blipFill>
        <p:spPr>
          <a:xfrm>
            <a:off x="2700360" y="2781360"/>
            <a:ext cx="5238720" cy="1368360"/>
          </a:xfrm>
          <a:prstGeom prst="rect">
            <a:avLst/>
          </a:prstGeom>
          <a:ln w="3168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82D6-0362-4E1F-A6EC-40DE6EB3E6A7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4DE3-789F-4B02-A41E-0C67D9F74572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920" y="1828440"/>
            <a:ext cx="716256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delo del sistema es el resultado del conocimiento referente a la transferencia, almacenamiento, conversión y disipación de energía y en los métodos de interconexión de los ele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stema Diná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cuaciones Difer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ine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ransformada de Laplace (Función de Transferen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stemas fís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éc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ecánicos de traslación y ro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idráu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ér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Neu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1:59:43Z</dcterms:created>
  <dc:creator>Juan F. del Pozo L.</dc:creator>
  <dc:description/>
  <dc:language>en-US</dc:language>
  <cp:lastModifiedBy>Dennys Dick Cortez Alvarez</cp:lastModifiedBy>
  <dcterms:modified xsi:type="dcterms:W3CDTF">2012-10-22T14:39:27Z</dcterms:modified>
  <cp:revision>190</cp:revision>
  <dc:subject/>
  <dc:title>CONTROL AUTOMATICO</dc:title>
</cp:coreProperties>
</file>