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59.wmf" ContentType="image/x-wmf"/>
  <Override PartName="/ppt/media/image58.wmf" ContentType="image/x-wmf"/>
  <Override PartName="/ppt/media/image54.png" ContentType="image/png"/>
  <Override PartName="/ppt/media/image11.wmf" ContentType="image/x-wmf"/>
  <Override PartName="/ppt/media/image53.wmf" ContentType="image/x-wmf"/>
  <Override PartName="/ppt/media/image51.wmf" ContentType="image/x-wmf"/>
  <Override PartName="/ppt/media/image94.png" ContentType="image/png"/>
  <Override PartName="/ppt/media/image49.wmf" ContentType="image/x-wmf"/>
  <Override PartName="/ppt/media/image100.wmf" ContentType="image/x-wmf"/>
  <Override PartName="/ppt/media/image47.png" ContentType="image/png"/>
  <Override PartName="/ppt/media/image46.wmf" ContentType="image/x-wmf"/>
  <Override PartName="/ppt/media/image89.png" ContentType="image/png"/>
  <Override PartName="/ppt/media/image45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86.png" ContentType="image/png"/>
  <Override PartName="/ppt/media/image40.wmf" ContentType="image/x-wmf"/>
  <Override PartName="/ppt/media/image83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33.wmf" ContentType="image/x-wmf"/>
  <Override PartName="/ppt/media/image37.wmf" ContentType="image/x-wmf"/>
  <Override PartName="/ppt/media/image30.jpeg" ContentType="image/jpeg"/>
  <Override PartName="/ppt/media/image6.wmf" ContentType="image/x-wmf"/>
  <Override PartName="/ppt/media/image18.wmf" ContentType="image/x-wmf"/>
  <Override PartName="/ppt/media/image112.png" ContentType="image/png"/>
  <Override PartName="/ppt/media/image52.png" ContentType="image/png"/>
  <Override PartName="/ppt/media/image13.wmf" ContentType="image/x-wmf"/>
  <Override PartName="/ppt/media/image56.png" ContentType="image/png"/>
  <Override PartName="/ppt/media/image41.wmf" ContentType="image/x-wmf"/>
  <Override PartName="/ppt/media/image84.png" ContentType="image/png"/>
  <Override PartName="/ppt/media/image38.png" ContentType="image/png"/>
  <Override PartName="/ppt/media/image60.wmf" ContentType="image/x-wmf"/>
  <Override PartName="/ppt/media/image8.jpeg" ContentType="image/jpeg"/>
  <Override PartName="/ppt/media/image26.png" ContentType="image/png"/>
  <Override PartName="/ppt/media/image91.png" ContentType="image/png"/>
  <Override PartName="/ppt/media/image31.jpeg" ContentType="image/jpeg"/>
  <Override PartName="/ppt/media/image28.wmf" ContentType="image/x-wmf"/>
  <Override PartName="/ppt/media/image93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4.png" ContentType="image/png"/>
  <Override PartName="/ppt/media/image7.jpeg" ContentType="image/jpeg"/>
  <Override PartName="/ppt/media/image16.png" ContentType="image/png"/>
  <Override PartName="/ppt/media/image81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36.wmf" ContentType="image/x-wmf"/>
  <Override PartName="/ppt/media/image79.png" ContentType="image/png"/>
  <Override PartName="/ppt/media/image19.jpeg" ContentType="image/jpeg"/>
  <Override PartName="/ppt/media/image39.wmf" ContentType="image/x-wmf"/>
  <Override PartName="/ppt/media/image66.png" ContentType="image/png"/>
  <Override PartName="/ppt/media/image67.png" ContentType="image/png"/>
  <Override PartName="/ppt/media/image70.png" ContentType="image/png"/>
  <Override PartName="/ppt/media/image68.wmf" ContentType="image/x-wmf"/>
  <Override PartName="/ppt/media/image114.png" ContentType="image/png"/>
  <Override PartName="/ppt/media/image71.png" ContentType="image/png"/>
  <Override PartName="/ppt/media/image69.wmf" ContentType="image/x-wmf"/>
  <Override PartName="/ppt/media/image72.png" ContentType="image/png"/>
  <Override PartName="/ppt/media/image73.png" ContentType="image/png"/>
  <Override PartName="/ppt/media/image74.wmf" ContentType="image/x-wmf"/>
  <Override PartName="/ppt/media/image103.png" ContentType="image/png"/>
  <Override PartName="/ppt/media/image20.wmf" ContentType="image/x-wmf"/>
  <Override PartName="/ppt/media/image32.jpeg" ContentType="image/jpeg"/>
  <Override PartName="/ppt/media/image82.png" ContentType="image/png"/>
  <Override PartName="/ppt/media/image101.wmf" ContentType="image/x-wmf"/>
  <Override PartName="/ppt/media/image64.wmf" ContentType="image/x-wmf"/>
  <Override PartName="/ppt/media/image110.png" ContentType="image/png"/>
  <Override PartName="/ppt/media/image24.png" ContentType="image/png"/>
  <Override PartName="/ppt/media/image99.wmf" ContentType="image/x-wmf"/>
  <Override PartName="/ppt/media/image62.wmf" ContentType="image/x-wmf"/>
  <Override PartName="/ppt/media/image105.png" ContentType="image/png"/>
  <Override PartName="/ppt/media/image76.wmf" ContentType="image/x-wmf"/>
  <Override PartName="/ppt/media/image113.png" ContentType="image/png"/>
  <Override PartName="/ppt/media/image98.wmf" ContentType="image/x-wmf"/>
  <Override PartName="/ppt/media/image88.png" ContentType="image/png"/>
  <Override PartName="/ppt/media/image90.png" ContentType="image/png"/>
  <Override PartName="/ppt/media/image108.png" ContentType="image/png"/>
  <Override PartName="/ppt/media/image25.wmf" ContentType="image/x-wmf"/>
  <Override PartName="/ppt/media/image107.png" ContentType="image/png"/>
  <Override PartName="/ppt/media/image106.png" ContentType="image/png"/>
  <Override PartName="/ppt/media/image102.wmf" ContentType="image/x-wmf"/>
  <Override PartName="/ppt/media/image97.wmf" ContentType="image/x-wmf"/>
  <Override PartName="/ppt/media/image57.png" ContentType="image/png"/>
  <Override PartName="/ppt/media/image96.wmf" ContentType="image/x-wmf"/>
  <Override PartName="/ppt/media/image95.png" ContentType="image/png"/>
  <Override PartName="/ppt/media/image63.wmf" ContentType="image/x-wmf"/>
  <Override PartName="/ppt/media/image27.png" ContentType="image/png"/>
  <Override PartName="/ppt/media/image92.png" ContentType="image/png"/>
  <Override PartName="/ppt/media/image21.jpeg" ContentType="image/jpeg"/>
  <Override PartName="/ppt/media/image65.png" ContentType="image/png"/>
  <Override PartName="/ppt/media/image109.png" ContentType="image/png"/>
  <Override PartName="/ppt/media/image12.png" ContentType="image/png"/>
  <Override PartName="/ppt/media/image75.png" ContentType="image/png"/>
  <Override PartName="/ppt/media/image22.jpeg" ContentType="image/jpeg"/>
  <Override PartName="/ppt/media/image23.jpeg" ContentType="image/jpeg"/>
  <Override PartName="/ppt/media/image42.wmf" ContentType="image/x-wmf"/>
  <Override PartName="/ppt/media/image85.png" ContentType="image/png"/>
  <Override PartName="/ppt/media/image17.wmf" ContentType="image/x-wmf"/>
  <Override PartName="/ppt/media/image111.png" ContentType="image/png"/>
  <Override PartName="/ppt/media/image55.wmf" ContentType="image/x-wmf"/>
  <Override PartName="/ppt/media/image1.png" ContentType="image/png"/>
  <Override PartName="/ppt/media/image29.wmf" ContentType="image/x-wmf"/>
  <Override PartName="/ppt/media/image61.png" ContentType="image/png"/>
  <Override PartName="/ppt/media/image5.jpeg" ContentType="image/jpeg"/>
  <Override PartName="/ppt/media/image48.wmf" ContentType="image/x-wmf"/>
  <Override PartName="/ppt/media/image104.wmf" ContentType="image/x-wmf"/>
  <Override PartName="/ppt/media/image50.png" ContentType="image/png"/>
  <Override PartName="/ppt/media/image115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0907-5454-4EFE-BEED-4324DFA400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7DBD-8230-403E-B241-FC049AD6919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3 Marcador de número de diapositiva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CF39-F0D4-4408-93B6-4407649A5D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3 Marcador de número de diapositiva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8AEB-E470-4510-AB8B-83C4410F545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0AA-ABE2-4ABE-96C3-9C58D1C9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B6C-95B4-4143-A079-D89DF653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619-BB3E-44FA-85C6-071EC8B3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799-BF77-4FF4-A362-6B2D188E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F6CD-FF4B-4B93-88B1-54924C1A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B53B-E193-4697-BB2F-5D91A8C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08C1-221A-4EBC-91BC-A058879C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B26F-CEA8-42F3-81E6-0E45C7A9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7C36-0213-43CE-A139-1F6BB405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FB8B-310E-4302-8775-06FFFEF7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4117-9741-41EE-84B8-563A37E7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EEF-3233-4479-A9C0-73D21AC4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D5BE-B973-4844-B44C-37A1A99F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E4E9-119F-4526-803A-9125A8EF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BD65-E38E-403A-BA86-3DBCFA9F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F51A-4CCE-4183-9B33-33DC6A0D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0A0D-F78A-4F61-B213-D22A1076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5A6-9386-4897-B00B-9F2CEBC1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486-752E-4D8A-9A9E-8C0DA1F8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8A3-786E-4E06-9F14-FB3A92F7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C14-F63E-40DE-8B84-E305F1A1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886-3C83-4510-8ACE-06C5DDED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41A-0CB4-4F4F-B56B-5F6810D5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CBA8-83E4-4D10-B20C-2D7F3B93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7BA3-A485-4EAF-BC86-8C6FAB1083CA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8B6D-0E96-4C0B-B148-DFC9BBA2B85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4947-2E10-4B3D-8FBD-1B6665FA2F9B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5599-AD4D-44FD-B3C2-F4CB00BEEE76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9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6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image" Target="../media/image9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image" Target="../media/image103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ng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2854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CONTROL AUTOMATIC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APITULO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ODELOS MATEMATICOS DE LOS 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g. Juan F. del Pozo 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3357720" y="1509840"/>
            <a:ext cx="32004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EEF8-88FC-432E-BB62-9EEE9C348B54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4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B17A-E18B-4467-8A0E-3BE94503D1C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714680" y="2214720"/>
            <a:ext cx="6759360" cy="41148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7 Rectángulo"/>
          <p:cNvSpPr/>
          <p:nvPr/>
        </p:nvSpPr>
        <p:spPr>
          <a:xfrm>
            <a:off x="1714680" y="185724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oximación lineal de un sistema físico en estado estacionario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8FD3-0495-494C-8D74-54BA98977AA3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4ABA-74CA-41EC-8639-E353DDD20496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7760" y="1773000"/>
            <a:ext cx="762624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"/>
          </a:bodyPr>
          <a:p>
            <a:pPr marL="30600" indent="-3060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proximación lineal de un sistema físico en estado estacion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-25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sarrollo de la serie de Taylor en el punto de operación de la curva continua en el intervalo de inte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-25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Times New Roman"/>
              </a:rPr>
              <a:t>NOTA: a partir de ahora los valores incrementales se los representará sin el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657840" y="3780000"/>
          <a:ext cx="223524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7840" y="3780000"/>
                    <a:ext cx="2235240" cy="193824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3" name="Object 7"/>
          <p:cNvGraphicFramePr/>
          <p:nvPr/>
        </p:nvGraphicFramePr>
        <p:xfrm>
          <a:off x="2392200" y="2600280"/>
          <a:ext cx="4719960" cy="350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92200" y="2600280"/>
                    <a:ext cx="471996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4D6F-B533-4E8F-84BD-D1AAAE0D5206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C3AE-D7E1-4186-9A5F-0A96ACF04A5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269120" cy="18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proximación lineal de un sistema 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sarrollo de la serie de Taylor en el punto de operación de la curva continua en el intervalo de inte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 la variable dependiente depende de varias variables de exc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ara la aproximación lineal de la serie de Tay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2193840" y="3622680"/>
          <a:ext cx="6842160" cy="26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3840" y="3622680"/>
                    <a:ext cx="684216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304D-C9F0-4E69-90E4-10D5731F432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EC1A-9D65-447D-8367-78831531DE02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48512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proximación lineal de un sistema fí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sarrollo de la serie de Taylor en el punto de operación de la curva continua en el interval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la variable dependiente depende de varias variables de exc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ra la aproximación lineal de la serie de Tay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Bild2"/>
          <p:cNvPicPr/>
          <p:nvPr/>
        </p:nvPicPr>
        <p:blipFill>
          <a:blip r:embed="rId1"/>
          <a:stretch/>
        </p:blipFill>
        <p:spPr>
          <a:xfrm>
            <a:off x="4413240" y="4149720"/>
            <a:ext cx="4551480" cy="209880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  <p:graphicFrame>
        <p:nvGraphicFramePr>
          <p:cNvPr id="196" name="Object 5"/>
          <p:cNvGraphicFramePr/>
          <p:nvPr/>
        </p:nvGraphicFramePr>
        <p:xfrm>
          <a:off x="1835280" y="4056120"/>
          <a:ext cx="2477880" cy="203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4056120"/>
                    <a:ext cx="247788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8122-0F9F-4454-B65E-6DD701EC29A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0FB2-2D24-4B0D-A40D-1534B146B74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7760" y="1844640"/>
            <a:ext cx="762624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ortamiento Estático de un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ortamiento estático de un gene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 constante:      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oltaje de referencia:      U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rriente de armadura:    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rriente de excitación:   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=0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ortamiento del Regu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2" name="Picture 6" descr="Bild2"/>
          <p:cNvPicPr/>
          <p:nvPr/>
        </p:nvPicPr>
        <p:blipFill>
          <a:blip r:embed="rId1"/>
          <a:stretch/>
        </p:blipFill>
        <p:spPr>
          <a:xfrm>
            <a:off x="2627280" y="4060800"/>
            <a:ext cx="3240000" cy="2392560"/>
          </a:xfrm>
          <a:prstGeom prst="rect">
            <a:avLst/>
          </a:prstGeom>
          <a:ln w="31680">
            <a:solidFill>
              <a:srgbClr val="cc9900"/>
            </a:solidFill>
            <a:miter/>
          </a:ln>
        </p:spPr>
      </p:pic>
      <p:pic>
        <p:nvPicPr>
          <p:cNvPr id="203" name="Picture 7" descr="Bild2"/>
          <p:cNvPicPr/>
          <p:nvPr/>
        </p:nvPicPr>
        <p:blipFill>
          <a:blip r:embed="rId2"/>
          <a:stretch/>
        </p:blipFill>
        <p:spPr>
          <a:xfrm>
            <a:off x="6372360" y="4078440"/>
            <a:ext cx="1911240" cy="2374920"/>
          </a:xfrm>
          <a:prstGeom prst="rect">
            <a:avLst/>
          </a:prstGeom>
          <a:ln w="3168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666A-7AFE-4E73-A8D3-463D4F4CB01B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E6C4-A11E-4DBA-95BE-8964958E7930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4389480" cy="50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ortamiento Estático de un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ortamiento estático de un gene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ón en lazo abierto: u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 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oltaje Terminales lazo abiert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0 A,    U=115 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60 A,  U=76 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ón en lazo cerra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oltaje de Referencia: 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100 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0 A,    U=104 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60 A,  U=93 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actor de Regulación: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=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(lazo cerrado)/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(lazo abier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=(104-93)/(115-76)=0.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= 2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8" name="Picture 5" descr="Bild2"/>
          <p:cNvPicPr/>
          <p:nvPr/>
        </p:nvPicPr>
        <p:blipFill>
          <a:blip r:embed="rId1"/>
          <a:stretch/>
        </p:blipFill>
        <p:spPr>
          <a:xfrm>
            <a:off x="5651640" y="2276640"/>
            <a:ext cx="3267000" cy="4086000"/>
          </a:xfrm>
          <a:prstGeom prst="rect">
            <a:avLst/>
          </a:prstGeom>
          <a:ln w="3168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9BED-E896-42A8-A77C-54A35957D1E1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EF0F-CF1C-4923-B3FF-76D4D7FE3AA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41672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ortamiento estático de un genera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btención del modelo a partir de la linearización de su Curva Característica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 =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+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/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|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=const.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(100-77)/(0.6-0) = 38.3 v./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/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|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=const.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= (100-77)/(30-60 = -0.76 v./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stante del Regulad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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/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 (0.6-0)/(0-10)= - 0.06 A/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tector de Err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u – 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; pero 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0 debido a que 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co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3071880" y="4429080"/>
            <a:ext cx="50958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BEE8-4420-4F23-A199-2DBC88A0AC09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DC7B-D1B0-44D9-B822-6C60BCC35AFB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74072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ortamiento estático de un genera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actor de Regulación: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= 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cerrado)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 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abier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zo Abiert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abierto)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+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 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 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,  debido a:  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zo Cerrado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cerrado)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+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 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cerrado)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– 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cerrado)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,  debido a:  u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 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cerrad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(lazo cerrado)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(1-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). i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 = 1/(1-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. K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) = 1/(1+38.3*0.06) = 0.30 ; 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1"/>
          <a:stretch/>
        </p:blipFill>
        <p:spPr>
          <a:xfrm>
            <a:off x="3071880" y="4572000"/>
            <a:ext cx="50958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0AA5-62E6-4012-8757-6742C2A6510C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627F-5CF3-4C06-8EE4-79788D0F693E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3949560" cy="16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ortamiento dinámico de un generador de corriente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6"/>
          <p:cNvGraphicFramePr/>
          <p:nvPr/>
        </p:nvGraphicFramePr>
        <p:xfrm>
          <a:off x="1951200" y="3214800"/>
          <a:ext cx="441324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0" y="3214800"/>
                    <a:ext cx="441324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Picture 9" descr=""/>
          <p:cNvPicPr/>
          <p:nvPr/>
        </p:nvPicPr>
        <p:blipFill>
          <a:blip r:embed="rId3"/>
          <a:stretch/>
        </p:blipFill>
        <p:spPr>
          <a:xfrm>
            <a:off x="5214960" y="2857680"/>
            <a:ext cx="3259080" cy="222876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CAE6-3809-4736-A3D9-86327F3FA611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7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0FA5-51B7-48D2-8DC1-77FD804DE6D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6956280" cy="4572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6823-6350-4D51-B7A7-D42E2D996E6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4E05-1395-441A-8107-077E1E4DD3F0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16280"/>
            <a:ext cx="4532400" cy="41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resentación gráfica de un sistema en el dominio del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s 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ñ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ifurcación de Señ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unto de sumas de Señ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versión de Pola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loques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Tabla1_1"/>
          <p:cNvPicPr/>
          <p:nvPr/>
        </p:nvPicPr>
        <p:blipFill>
          <a:blip r:embed="rId1"/>
          <a:stretch/>
        </p:blipFill>
        <p:spPr>
          <a:xfrm>
            <a:off x="5867280" y="1125360"/>
            <a:ext cx="2791080" cy="542304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E5C2-39E5-4C5E-9C56-7BD8645BEA6F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1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EF0C-F9D9-46A6-BD67-38DE48A0796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523520" y="1904760"/>
            <a:ext cx="747396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unción de Transferencia de un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sistema de control puede ser descrito mediante ecuaciones difer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eficient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iciones iniciales 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419720" y="4876920"/>
            <a:ext cx="1295280" cy="6858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3429000" y="5105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5715000" y="5105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203640" y="4648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x(t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6175440" y="46483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4803840" y="44197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(t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3200400" y="54100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X(s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4804200" y="563868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(s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175080" y="54100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Y(s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2923560" y="4114800"/>
            <a:ext cx="42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ominio del tiempo:    Ecuaciones Diferenciales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2916360" y="6019920"/>
            <a:ext cx="442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ominio del plano “s”:    Ecuaciones Algebraicas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5" name="AutoShape 16"/>
          <p:cNvSpPr/>
          <p:nvPr/>
        </p:nvSpPr>
        <p:spPr>
          <a:xfrm>
            <a:off x="2819520" y="480060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6934320" y="472428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7" name="Text Box 18"/>
          <p:cNvSpPr/>
          <p:nvPr/>
        </p:nvSpPr>
        <p:spPr>
          <a:xfrm>
            <a:off x="1373400" y="4876920"/>
            <a:ext cx="1445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ransformada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irecta de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place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7240680" y="4724280"/>
            <a:ext cx="1445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ransformada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rsa de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place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9820-0428-4785-9677-FCB55B2B98F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F54F-A998-4C23-97D3-1966D3783C4B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unción de Transferencia de un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sistema de control puede ser descrito mediante ecuaciones difer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eficient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iciones iniciales 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7"/>
              <p:cNvSpPr txBox="1"/>
              <p:nvPr/>
            </p:nvSpPr>
            <p:spPr>
              <a:xfrm>
                <a:off x="2362320" y="3962520"/>
                <a:ext cx="60195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n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o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o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5" name="Object 8"/>
          <p:cNvGraphicFramePr/>
          <p:nvPr/>
        </p:nvGraphicFramePr>
        <p:xfrm>
          <a:off x="2008080" y="5715000"/>
          <a:ext cx="680580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5715000"/>
                    <a:ext cx="68058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AutoShape 9"/>
          <p:cNvSpPr/>
          <p:nvPr/>
        </p:nvSpPr>
        <p:spPr>
          <a:xfrm>
            <a:off x="5257800" y="4648320"/>
            <a:ext cx="304920" cy="976320"/>
          </a:xfrm>
          <a:prstGeom prst="downArrow">
            <a:avLst>
              <a:gd name="adj1" fmla="val 50000"/>
              <a:gd name="adj2" fmla="val 80047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9" name="Text Box 11"/>
          <p:cNvSpPr/>
          <p:nvPr/>
        </p:nvSpPr>
        <p:spPr>
          <a:xfrm>
            <a:off x="3811680" y="487692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ransformada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e Laplace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2230-4ADA-4DAC-A0D2-CAF6C76C5165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1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27D1-F38A-4DF7-A076-AC5FB231FCBF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unción de Transferencia de un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Object 6"/>
          <p:cNvGraphicFramePr/>
          <p:nvPr/>
        </p:nvGraphicFramePr>
        <p:xfrm>
          <a:off x="2425680" y="3200400"/>
          <a:ext cx="41958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3200400"/>
                    <a:ext cx="41958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3348000" y="4221000"/>
                <a:ext cx="2209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8"/>
              <p:cNvSpPr txBox="1"/>
              <p:nvPr/>
            </p:nvSpPr>
            <p:spPr>
              <a:xfrm>
                <a:off x="3429000" y="5638680"/>
                <a:ext cx="20574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AutoShape 9"/>
          <p:cNvSpPr/>
          <p:nvPr/>
        </p:nvSpPr>
        <p:spPr>
          <a:xfrm>
            <a:off x="3962520" y="4648320"/>
            <a:ext cx="304560" cy="976320"/>
          </a:xfrm>
          <a:prstGeom prst="downArrow">
            <a:avLst>
              <a:gd name="adj1" fmla="val 50000"/>
              <a:gd name="adj2" fmla="val 80142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573800" y="4724280"/>
            <a:ext cx="1445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ransformada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rsa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e Laplace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6023520" y="4267080"/>
            <a:ext cx="16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Multiplicación”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6020640" y="556272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nvolución”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D5C3-E92C-4007-8BD6-58AC8A50C348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3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ED9A-FE1C-40B7-92B0-5B15D2EE59C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517760" y="1844280"/>
            <a:ext cx="7446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proximación lineal de un sistema fí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gran mayoría de sistemas físicos se comportan como lineales dentro de algún intervalo de las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sistema está en reposo, para ser considerado lineal debe cumpl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el teorema de superposición y homogene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4419720" y="4876920"/>
            <a:ext cx="1295280" cy="6858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3429000" y="5105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5715000" y="5105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844720" y="450864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(t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2279880" y="4991040"/>
            <a:ext cx="110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t)+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2820960" y="54864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(t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6859440" y="45720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6867720" y="5029200"/>
            <a:ext cx="1105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t)+y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859440" y="54864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y(t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8560" y="30456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4306680" cy="45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Motor de Corriente Contin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estator,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r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olos principales y auxili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vanado i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rotor, indu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lector, del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vanado in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C" sz="1800" spc="-1" strike="noStrike">
                <a:solidFill>
                  <a:srgbClr val="000000"/>
                </a:solidFill>
                <a:latin typeface="Times New Roman"/>
              </a:rPr>
              <a:t>úcleo del in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escobil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5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5D86-29A7-4585-B997-622A7A14E9D5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8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C72E-746E-4575-A018-B975DB80327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89" name="Picture 2" descr="C:\Users\Juan\Documents\Espol\Control\Fotos_Cursos\IMG_1360.jpg"/>
          <p:cNvPicPr/>
          <p:nvPr/>
        </p:nvPicPr>
        <p:blipFill>
          <a:blip r:embed="rId1"/>
          <a:stretch/>
        </p:blipFill>
        <p:spPr>
          <a:xfrm>
            <a:off x="6143760" y="250020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C:\Users\Juan\Documents\Espol\Control\Fotos_Cursos\IMG_1362.jpg"/>
          <p:cNvPicPr/>
          <p:nvPr/>
        </p:nvPicPr>
        <p:blipFill>
          <a:blip r:embed="rId2"/>
          <a:stretch/>
        </p:blipFill>
        <p:spPr>
          <a:xfrm>
            <a:off x="6143760" y="42876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C:\Users\Juan\Documents\Espol\Control\Fotos_Cursos\IMG_1363.jpg"/>
          <p:cNvPicPr/>
          <p:nvPr/>
        </p:nvPicPr>
        <p:blipFill>
          <a:blip r:embed="rId3"/>
          <a:stretch/>
        </p:blipFill>
        <p:spPr>
          <a:xfrm>
            <a:off x="6215040" y="4572000"/>
            <a:ext cx="25956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5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CBFD-08C5-40ED-947D-5BCD0811F08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3" name="7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A92A-9826-492E-8F5D-E8F03B688DA0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58920" y="1773360"/>
            <a:ext cx="44640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tor de Corriente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otor ideal, sin pérdi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otencia eléctrica desarrollada igual a la potencia mecá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l voltaje contraelectromotriz es proporcional al flujo y velocidad angul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l flujo es proporcional a la corriente de camp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Object 10"/>
          <p:cNvGraphicFramePr/>
          <p:nvPr/>
        </p:nvGraphicFramePr>
        <p:xfrm>
          <a:off x="1835280" y="3645000"/>
          <a:ext cx="863640" cy="2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645000"/>
                    <a:ext cx="8636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Object 4"/>
          <p:cNvGraphicFramePr/>
          <p:nvPr/>
        </p:nvGraphicFramePr>
        <p:xfrm>
          <a:off x="2484360" y="2924280"/>
          <a:ext cx="244476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2924280"/>
                    <a:ext cx="24447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Rectangle 7"/>
          <p:cNvSpPr/>
          <p:nvPr/>
        </p:nvSpPr>
        <p:spPr>
          <a:xfrm>
            <a:off x="3203640" y="3429000"/>
            <a:ext cx="129528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tor CC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2700360" y="3573360"/>
            <a:ext cx="504720" cy="501840"/>
          </a:xfrm>
          <a:prstGeom prst="rightArrow">
            <a:avLst>
              <a:gd name="adj1" fmla="val 50000"/>
              <a:gd name="adj2" fmla="val 2514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2" name="AutoShape 9"/>
          <p:cNvSpPr/>
          <p:nvPr/>
        </p:nvSpPr>
        <p:spPr>
          <a:xfrm>
            <a:off x="4500720" y="357336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303" name="Object 12"/>
          <p:cNvGraphicFramePr/>
          <p:nvPr/>
        </p:nvGraphicFramePr>
        <p:xfrm>
          <a:off x="4932360" y="3716280"/>
          <a:ext cx="936720" cy="3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2360" y="3716280"/>
                    <a:ext cx="93672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16"/>
          <p:cNvGraphicFramePr/>
          <p:nvPr/>
        </p:nvGraphicFramePr>
        <p:xfrm>
          <a:off x="2484360" y="5013360"/>
          <a:ext cx="2119320" cy="37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5013360"/>
                    <a:ext cx="21193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17"/>
          <p:cNvGraphicFramePr/>
          <p:nvPr/>
        </p:nvGraphicFramePr>
        <p:xfrm>
          <a:off x="2484360" y="5950080"/>
          <a:ext cx="162576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5950080"/>
                    <a:ext cx="162576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Picture 15" descr=""/>
          <p:cNvPicPr/>
          <p:nvPr/>
        </p:nvPicPr>
        <p:blipFill>
          <a:blip r:embed="rId11"/>
          <a:stretch/>
        </p:blipFill>
        <p:spPr>
          <a:xfrm>
            <a:off x="5919840" y="2638440"/>
            <a:ext cx="2952720" cy="357660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2168-EA9B-4947-8DCF-2BBC8393763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1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6F68-6068-4FE4-BB78-7A449FDB1F9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0040" cy="51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otor de Corriente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5"/>
          <p:cNvGraphicFramePr/>
          <p:nvPr/>
        </p:nvGraphicFramePr>
        <p:xfrm>
          <a:off x="2060640" y="2492280"/>
          <a:ext cx="294948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0640" y="2492280"/>
                    <a:ext cx="294948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Picture 15" descr=""/>
          <p:cNvPicPr/>
          <p:nvPr/>
        </p:nvPicPr>
        <p:blipFill>
          <a:blip r:embed="rId3"/>
          <a:stretch/>
        </p:blipFill>
        <p:spPr>
          <a:xfrm>
            <a:off x="5643720" y="2643120"/>
            <a:ext cx="2952720" cy="357660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7663-EBF3-4845-9AD1-9E578F6CE6BC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8" name="7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6DB2-AF97-4668-8EC4-D1D48C171279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475308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otor de Corriente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ideal, sin pérd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e presentan dos cas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antener constante la corriente de campo, “control de armadur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antener constante la corriente de armadura, “control de camp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Object 11"/>
          <p:cNvGraphicFramePr/>
          <p:nvPr/>
        </p:nvGraphicFramePr>
        <p:xfrm>
          <a:off x="2428920" y="5143680"/>
          <a:ext cx="357012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5143680"/>
                    <a:ext cx="357012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14"/>
          <p:cNvGraphicFramePr/>
          <p:nvPr/>
        </p:nvGraphicFramePr>
        <p:xfrm>
          <a:off x="2428920" y="6072120"/>
          <a:ext cx="3457440" cy="4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6072120"/>
                    <a:ext cx="345744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16"/>
          <p:cNvGraphicFramePr/>
          <p:nvPr/>
        </p:nvGraphicFramePr>
        <p:xfrm>
          <a:off x="2000160" y="2786040"/>
          <a:ext cx="4176720" cy="13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0160" y="2786040"/>
                    <a:ext cx="417672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15" descr=""/>
          <p:cNvPicPr/>
          <p:nvPr/>
        </p:nvPicPr>
        <p:blipFill>
          <a:blip r:embed="rId7"/>
          <a:stretch/>
        </p:blipFill>
        <p:spPr>
          <a:xfrm>
            <a:off x="6218280" y="3000240"/>
            <a:ext cx="2654280" cy="321480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342C-D59A-4262-A491-6C6994E4D60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B0F2-3E9B-4A2E-BC7A-40F661862EF3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76000" y="1844640"/>
            <a:ext cx="7196040" cy="4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de Corriente Continua controlado por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Object 6"/>
          <p:cNvGraphicFramePr/>
          <p:nvPr/>
        </p:nvGraphicFramePr>
        <p:xfrm>
          <a:off x="1908000" y="2276640"/>
          <a:ext cx="2305080" cy="27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6640"/>
                    <a:ext cx="2305080" cy="27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7"/>
          <p:cNvGraphicFramePr/>
          <p:nvPr/>
        </p:nvGraphicFramePr>
        <p:xfrm>
          <a:off x="6477120" y="2573280"/>
          <a:ext cx="1839960" cy="239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2573280"/>
                    <a:ext cx="1839960" cy="23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AutoShape 8"/>
          <p:cNvSpPr/>
          <p:nvPr/>
        </p:nvSpPr>
        <p:spPr>
          <a:xfrm>
            <a:off x="4952880" y="365760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5117400" y="3962520"/>
            <a:ext cx="36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338" name="Object 11"/>
          <p:cNvGraphicFramePr/>
          <p:nvPr/>
        </p:nvGraphicFramePr>
        <p:xfrm>
          <a:off x="2050920" y="5084640"/>
          <a:ext cx="648180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5084640"/>
                    <a:ext cx="6481800" cy="125568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1FCF-DA45-4EED-8CBB-561DBA8BA56B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1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A9E1-0D66-46BB-9B65-268B28D3BC03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741348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de Corriente Continua controlado por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6"/>
          <p:cNvGraphicFramePr/>
          <p:nvPr/>
        </p:nvGraphicFramePr>
        <p:xfrm>
          <a:off x="1749600" y="3048120"/>
          <a:ext cx="5422680" cy="7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3048120"/>
                    <a:ext cx="542268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8"/>
          <p:cNvGraphicFramePr/>
          <p:nvPr/>
        </p:nvGraphicFramePr>
        <p:xfrm>
          <a:off x="3059280" y="4292640"/>
          <a:ext cx="3736800" cy="19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4292640"/>
                    <a:ext cx="3736800" cy="195588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6CB5-C942-4087-BA03-4E918BAC6B0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2034-5517-49CF-80C4-A69DE5DB5727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31640" y="1844280"/>
            <a:ext cx="43196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esentación gráfica de un sistema en el dominio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velocidad de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rza debido al viento es proporcional a la velocidad: 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rza debido a fricción de las llantas es proporcional a la velocidad: 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rza debido al peso en dirección del movimiento, es proporcional a la pendiente: 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rza de Empuje: 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rza Resultante: 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Augabe1_1Ta"/>
          <p:cNvPicPr/>
          <p:nvPr/>
        </p:nvPicPr>
        <p:blipFill>
          <a:blip r:embed="rId1"/>
          <a:stretch/>
        </p:blipFill>
        <p:spPr>
          <a:xfrm>
            <a:off x="5580000" y="4653000"/>
            <a:ext cx="3338640" cy="156852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  <p:graphicFrame>
        <p:nvGraphicFramePr>
          <p:cNvPr id="131" name="Object 7"/>
          <p:cNvGraphicFramePr/>
          <p:nvPr/>
        </p:nvGraphicFramePr>
        <p:xfrm>
          <a:off x="6024600" y="2244600"/>
          <a:ext cx="2419200" cy="194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24600" y="2244600"/>
                    <a:ext cx="241920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E9D7-32B4-440F-BD58-EEF2A85F7A90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9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704A-452C-451D-AF26-FD7C3929947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76000" y="1773000"/>
            <a:ext cx="7413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Object 6"/>
          <p:cNvGraphicFramePr/>
          <p:nvPr/>
        </p:nvGraphicFramePr>
        <p:xfrm>
          <a:off x="1887480" y="2133720"/>
          <a:ext cx="272880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7480" y="2133720"/>
                    <a:ext cx="27288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7"/>
          <p:cNvGraphicFramePr/>
          <p:nvPr/>
        </p:nvGraphicFramePr>
        <p:xfrm>
          <a:off x="6154560" y="2286000"/>
          <a:ext cx="2559240" cy="26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4560" y="2286000"/>
                    <a:ext cx="25592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AutoShape 9"/>
          <p:cNvSpPr/>
          <p:nvPr/>
        </p:nvSpPr>
        <p:spPr>
          <a:xfrm>
            <a:off x="4952880" y="3352680"/>
            <a:ext cx="976320" cy="381240"/>
          </a:xfrm>
          <a:prstGeom prst="rightArrow">
            <a:avLst>
              <a:gd name="adj1" fmla="val 50000"/>
              <a:gd name="adj2" fmla="val 64023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5181480" y="365760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843280" y="4941720"/>
          <a:ext cx="5327640" cy="169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4941720"/>
                    <a:ext cx="5327640" cy="169704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949F-8BB1-4D8A-8789-D3FF1140CC3F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1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B223-ECBD-4DDA-B867-8B5961AC41C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48512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unción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Object 6"/>
          <p:cNvGraphicFramePr/>
          <p:nvPr/>
        </p:nvGraphicFramePr>
        <p:xfrm>
          <a:off x="2357280" y="3000240"/>
          <a:ext cx="4842000" cy="6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000240"/>
                    <a:ext cx="484200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8"/>
          <p:cNvGraphicFramePr/>
          <p:nvPr/>
        </p:nvGraphicFramePr>
        <p:xfrm>
          <a:off x="2428920" y="3786120"/>
          <a:ext cx="3736800" cy="20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28920" y="3786120"/>
                    <a:ext cx="3736800" cy="207648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A800-6462-4931-BF0A-D8C99585BAD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605F-4FAF-4698-BA24-47081E6201F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371240" y="18284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mplificador Rotativo de dos Etapas, Amplid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NOTA: El flujo de reacción de armadura es compensado por el flujo de la bobina 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Object 5"/>
          <p:cNvGraphicFramePr/>
          <p:nvPr/>
        </p:nvGraphicFramePr>
        <p:xfrm>
          <a:off x="2241720" y="2733840"/>
          <a:ext cx="3020760" cy="35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2733840"/>
                    <a:ext cx="3020760" cy="35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6"/>
          <p:cNvGraphicFramePr/>
          <p:nvPr/>
        </p:nvGraphicFramePr>
        <p:xfrm>
          <a:off x="5486400" y="3429000"/>
          <a:ext cx="3048120" cy="217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429000"/>
                    <a:ext cx="304812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28C4-515D-4C59-A1A1-F90ECE67C9D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7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5D0F-3B63-4941-A6E6-A7D9E7C0EAA6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00120" y="1857240"/>
            <a:ext cx="4572000" cy="18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egulador Hidráulico, servomotor hidráu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audal del ac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iferencia de 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esplazamiento de la válvula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Desplazamiento del cilindro de po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Object 6"/>
          <p:cNvGraphicFramePr/>
          <p:nvPr/>
        </p:nvGraphicFramePr>
        <p:xfrm>
          <a:off x="2089080" y="4000680"/>
          <a:ext cx="3768840" cy="19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9080" y="4000680"/>
                    <a:ext cx="376884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7"/>
          <p:cNvGraphicFramePr/>
          <p:nvPr/>
        </p:nvGraphicFramePr>
        <p:xfrm>
          <a:off x="5952960" y="4214880"/>
          <a:ext cx="2994120" cy="22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2960" y="4214880"/>
                    <a:ext cx="2994120" cy="225432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84" name="Picture 8" descr=""/>
          <p:cNvPicPr/>
          <p:nvPr/>
        </p:nvPicPr>
        <p:blipFill>
          <a:blip r:embed="rId5"/>
          <a:stretch/>
        </p:blipFill>
        <p:spPr>
          <a:xfrm>
            <a:off x="6000840" y="2000160"/>
            <a:ext cx="2952720" cy="2067120"/>
          </a:xfrm>
          <a:prstGeom prst="rect">
            <a:avLst/>
          </a:prstGeom>
          <a:ln w="31680">
            <a:solidFill>
              <a:srgbClr val="994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D434-D212-4AB1-9C5B-00DFB83DFAF1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6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C7C5-1BD5-48D5-B4EB-E9040A72DBB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517760" y="1981080"/>
            <a:ext cx="76262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gulador Hidráulico, servomotor hidráu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-11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uperficie del pist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440" indent="-11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 Función de Transfere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Object 6"/>
          <p:cNvGraphicFramePr/>
          <p:nvPr/>
        </p:nvGraphicFramePr>
        <p:xfrm>
          <a:off x="2239920" y="2724120"/>
          <a:ext cx="16826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920" y="2724120"/>
                    <a:ext cx="16826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7"/>
          <p:cNvGraphicFramePr/>
          <p:nvPr/>
        </p:nvGraphicFramePr>
        <p:xfrm>
          <a:off x="6145200" y="3030480"/>
          <a:ext cx="2327400" cy="15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3030480"/>
                    <a:ext cx="232740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AutoShape 8"/>
          <p:cNvSpPr/>
          <p:nvPr/>
        </p:nvSpPr>
        <p:spPr>
          <a:xfrm>
            <a:off x="4495680" y="350532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4724280" y="3962520"/>
            <a:ext cx="3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395" name="Object 10"/>
          <p:cNvGraphicFramePr/>
          <p:nvPr/>
        </p:nvGraphicFramePr>
        <p:xfrm>
          <a:off x="2340000" y="5562720"/>
          <a:ext cx="460548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5562720"/>
                    <a:ext cx="460548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7C5B-EDC8-4FA5-B311-FDE02A85CC95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8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03D6-8517-49E7-940E-C67F88D1430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403236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gulador Hidráulico, servomotor hidráu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ncuentre la Función de Transferencia Y(s)/E(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e que la barra ABC es flotante, no tiene punto fij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La Función de Transferencia del servomotor hidráulico puede se aproximada en: Y(s)/X(s)= K/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Observe que el desplazamiento en x es:  x = f(e,y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Aplique superposició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X(s) = Ke.E(s) + Ky.Y(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402" name="Object 6"/>
          <p:cNvGraphicFramePr/>
          <p:nvPr/>
        </p:nvGraphicFramePr>
        <p:xfrm>
          <a:off x="5580000" y="1197000"/>
          <a:ext cx="295272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197000"/>
                    <a:ext cx="2952720" cy="295272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04" name="Object 10"/>
          <p:cNvGraphicFramePr/>
          <p:nvPr/>
        </p:nvGraphicFramePr>
        <p:xfrm>
          <a:off x="6072120" y="4357800"/>
          <a:ext cx="2158920" cy="19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72120" y="4357800"/>
                    <a:ext cx="215892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FF79-36F4-4A6C-8AD4-8E41197B5DAB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7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E05D-9681-46A1-8A02-B05AB208683B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02920" y="1773360"/>
            <a:ext cx="438804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stema de engrana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Sistema ideal, potencia de entrada es igual a la potencia de salida, no tiene pérd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os dos engranajes recorren la misma distancia li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El tamaño de los dientes es igual en ambos engranaj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a velocidad angular es proporcional al desplazamiento angular en cada engran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0" name="Object 6"/>
          <p:cNvGraphicFramePr/>
          <p:nvPr/>
        </p:nvGraphicFramePr>
        <p:xfrm>
          <a:off x="3514680" y="2590920"/>
          <a:ext cx="1658880" cy="31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4680" y="2590920"/>
                    <a:ext cx="1658880" cy="31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2" name="Object 7"/>
              <p:cNvSpPr txBox="1"/>
              <p:nvPr/>
            </p:nvSpPr>
            <p:spPr>
              <a:xfrm>
                <a:off x="3648240" y="3800520"/>
                <a:ext cx="9889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1</m:t>
                        </m:r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r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2</m:t>
                        </m:r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r</m:t>
                        </m:r>
                        <m:r>
                          <m:t xml:space="preserve">2</m:t>
                        </m:r>
                      </m:e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13" name="Object 8"/>
          <p:cNvGraphicFramePr/>
          <p:nvPr/>
        </p:nvGraphicFramePr>
        <p:xfrm>
          <a:off x="3511440" y="3200400"/>
          <a:ext cx="151308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11440" y="3200400"/>
                    <a:ext cx="15130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3635280" y="5661000"/>
                <a:ext cx="25941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θ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θ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ω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16" name="Object 11"/>
          <p:cNvGraphicFramePr/>
          <p:nvPr/>
        </p:nvGraphicFramePr>
        <p:xfrm>
          <a:off x="5796000" y="2924280"/>
          <a:ext cx="2876400" cy="23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6000" y="2924280"/>
                    <a:ext cx="2876400" cy="2387520"/>
                  </a:xfrm>
                  <a:prstGeom prst="rect">
                    <a:avLst/>
                  </a:prstGeom>
                  <a:ln w="31680">
                    <a:solidFill>
                      <a:srgbClr val="99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0333-0881-41B7-8F9B-7AE979A72014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E5FE-04EF-4FDB-B917-47143B733C53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447560" y="1752480"/>
            <a:ext cx="423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stema de engran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Se incluye la fricción viscosa y la ine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Referir el sistema al eje del mo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6"/>
              <p:cNvSpPr txBox="1"/>
              <p:nvPr/>
            </p:nvSpPr>
            <p:spPr>
              <a:xfrm>
                <a:off x="2193840" y="2895480"/>
                <a:ext cx="5213520" cy="353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J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θ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θ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θ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θ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nθ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J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θ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J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θ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J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nθ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B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θ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nT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)</m:t>
                        </m:r>
                        <m:r>
                          <m:t xml:space="preserve">θ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23" name="Object 7"/>
          <p:cNvGraphicFramePr/>
          <p:nvPr/>
        </p:nvGraphicFramePr>
        <p:xfrm>
          <a:off x="5562720" y="1905120"/>
          <a:ext cx="3409920" cy="27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905120"/>
                    <a:ext cx="340992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479240" y="1980720"/>
            <a:ext cx="3521160" cy="41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800" spc="-1" strike="noStrike">
                <a:solidFill>
                  <a:srgbClr val="000000"/>
                </a:solidFill>
                <a:latin typeface="Times New Roman"/>
              </a:rPr>
              <a:t>Sistema Hidráu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Sistema ideal, potencia de entrada es igual a la potencia de sal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La presión hidráulica es la misma, principio de Pa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E61C-3913-4A3E-BBB0-DEA7DE6C8879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8" name="4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97C0-C15E-447C-8D7A-50545411058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5072040" y="3429000"/>
            <a:ext cx="3800520" cy="2400480"/>
          </a:xfrm>
          <a:prstGeom prst="rect">
            <a:avLst/>
          </a:prstGeom>
          <a:ln w="31680">
            <a:solidFill>
              <a:srgbClr val="e57300"/>
            </a:solidFill>
            <a:miter/>
          </a:ln>
        </p:spPr>
      </p:pic>
      <p:graphicFrame>
        <p:nvGraphicFramePr>
          <p:cNvPr id="430" name="Object 6"/>
          <p:cNvGraphicFramePr/>
          <p:nvPr/>
        </p:nvGraphicFramePr>
        <p:xfrm>
          <a:off x="2214720" y="3571920"/>
          <a:ext cx="2622240" cy="7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4720" y="3571920"/>
                    <a:ext cx="262224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Object 3"/>
          <p:cNvGraphicFramePr/>
          <p:nvPr/>
        </p:nvGraphicFramePr>
        <p:xfrm>
          <a:off x="2286000" y="5572080"/>
          <a:ext cx="2219400" cy="31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5572080"/>
                    <a:ext cx="22194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1CB0-FDB6-400E-ACDD-2866F70D3AD2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5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65B5-CDB7-4950-B694-D089FB49F669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1000080" y="1928880"/>
            <a:ext cx="76262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tector de Error utilizando Potenció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otenciómetros de 360</a:t>
            </a:r>
            <a:r>
              <a:rPr b="1" lang="es-MX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, sin t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579680" y="456840"/>
            <a:ext cx="463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16292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15"/>
              <p:cNvSpPr txBox="1"/>
              <p:nvPr/>
            </p:nvSpPr>
            <p:spPr>
              <a:xfrm>
                <a:off x="1433520" y="3276720"/>
                <a:ext cx="3638520" cy="27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  <m:r>
                              <m:t xml:space="preserve">o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</m:den>
                        </m:f>
                        <m:r>
                          <m:t xml:space="preserve">θ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</m:den>
                        </m:f>
                        <m:r>
                          <m:t xml:space="preserve">θ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  <m:r>
                              <m:t xml:space="preserve">o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e>
                              <m:sup>
                                <m:r>
                                  <m:t xml:space="preserve">o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40" name="Picture 17" descr=""/>
          <p:cNvPicPr/>
          <p:nvPr/>
        </p:nvPicPr>
        <p:blipFill>
          <a:blip r:embed="rId1"/>
          <a:stretch/>
        </p:blipFill>
        <p:spPr>
          <a:xfrm>
            <a:off x="6215040" y="142920"/>
            <a:ext cx="2743200" cy="161928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  <p:pic>
        <p:nvPicPr>
          <p:cNvPr id="441" name="Picture 18" descr=""/>
          <p:cNvPicPr/>
          <p:nvPr/>
        </p:nvPicPr>
        <p:blipFill>
          <a:blip r:embed="rId2"/>
          <a:stretch/>
        </p:blipFill>
        <p:spPr>
          <a:xfrm>
            <a:off x="5429160" y="2357280"/>
            <a:ext cx="3395880" cy="157176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  <p:pic>
        <p:nvPicPr>
          <p:cNvPr id="442" name="Picture 10" descr=""/>
          <p:cNvPicPr/>
          <p:nvPr/>
        </p:nvPicPr>
        <p:blipFill>
          <a:blip r:embed="rId3"/>
          <a:stretch/>
        </p:blipFill>
        <p:spPr>
          <a:xfrm>
            <a:off x="5572080" y="4030560"/>
            <a:ext cx="3200400" cy="2570400"/>
          </a:xfrm>
          <a:prstGeom prst="rect">
            <a:avLst/>
          </a:prstGeom>
          <a:ln w="31680">
            <a:solidFill>
              <a:srgbClr val="994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1BF0-68F1-497C-AAFE-8CCCA811C92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52A1-6423-409D-AE75-E0DC3E83276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560" y="304560"/>
            <a:ext cx="448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4824360" cy="50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esentación gráfica de un sistema en el dominio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velocidad de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orque Impulsor del Motor es proporcional a la apertura de la Mariposa del Carburador (y) y a las Revoluciones del Motor (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: m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orque en las Ruedas es proporcional al Torque Impulsor del Motor: m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rza de Empuje es proporcional al Torque en la Ruedas (m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: 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oltaje del Regulador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Velocidad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 proporcional al Voltaje del Tacogenerador (u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menos la Referencia (w) : u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voltaje del Tacogenerador es  proporcional a las revoluciones del eje de la rueda del vehículo (x): 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Augabe1_1Tb"/>
          <p:cNvPicPr/>
          <p:nvPr/>
        </p:nvPicPr>
        <p:blipFill>
          <a:blip r:embed="rId1"/>
          <a:stretch/>
        </p:blipFill>
        <p:spPr>
          <a:xfrm>
            <a:off x="6084720" y="404640"/>
            <a:ext cx="2889360" cy="215748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  <p:pic>
        <p:nvPicPr>
          <p:cNvPr id="138" name="Picture 6" descr="Augabe1_1Tc"/>
          <p:cNvPicPr/>
          <p:nvPr/>
        </p:nvPicPr>
        <p:blipFill>
          <a:blip r:embed="rId2"/>
          <a:stretch/>
        </p:blipFill>
        <p:spPr>
          <a:xfrm>
            <a:off x="6300720" y="2708280"/>
            <a:ext cx="2457360" cy="176220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  <p:graphicFrame>
        <p:nvGraphicFramePr>
          <p:cNvPr id="139" name="Object 7"/>
          <p:cNvGraphicFramePr/>
          <p:nvPr/>
        </p:nvGraphicFramePr>
        <p:xfrm>
          <a:off x="6613560" y="4519440"/>
          <a:ext cx="1974960" cy="206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13560" y="4519440"/>
                    <a:ext cx="1974960" cy="20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0966-6ACF-4173-B73E-274C1EF2201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4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6210-5112-447D-BAAB-301854136486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acómetro (tacogenerad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4"/>
          <p:cNvGraphicFramePr/>
          <p:nvPr/>
        </p:nvGraphicFramePr>
        <p:xfrm>
          <a:off x="2666880" y="4648320"/>
          <a:ext cx="3276720" cy="17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648320"/>
                    <a:ext cx="3276720" cy="171900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8" name="Object 5"/>
          <p:cNvGraphicFramePr/>
          <p:nvPr/>
        </p:nvGraphicFramePr>
        <p:xfrm>
          <a:off x="2581200" y="2666880"/>
          <a:ext cx="306864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81200" y="2666880"/>
                    <a:ext cx="30686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285920" y="1856880"/>
            <a:ext cx="4643280" cy="428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stema T</a:t>
            </a: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600" spc="-1" strike="noStrike">
                <a:solidFill>
                  <a:srgbClr val="000000"/>
                </a:solidFill>
                <a:latin typeface="Times New Roman"/>
              </a:rPr>
              <a:t>La  variación de la temperatura de salida alrededor de su punto de operación podrá ser debida a un cambio en el calor suministrado por el calentador o por un cambio en la temperatura del fluido entrant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lance Energé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or suministrado por calent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or del fluido ent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l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or absorvido por fl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or a traves de pare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dad térmic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cal/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°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Rt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Resistencia 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rmica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°C.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k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lujo líquid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g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or específic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cal/kg.</a:t>
            </a:r>
            <a:r>
              <a:rPr b="0" lang="es-EC" sz="1400" spc="-1" strike="noStrike">
                <a:solidFill>
                  <a:srgbClr val="000000"/>
                </a:solidFill>
                <a:latin typeface="Times New Roman"/>
              </a:rPr>
              <a:t>°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81B6-A582-4B3B-8A1A-6015ED9BAEB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4" name="4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A2FC-4F61-4A1A-ABFA-BCD7FE2AED22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5" name="Picture 8" descr=""/>
          <p:cNvPicPr/>
          <p:nvPr/>
        </p:nvPicPr>
        <p:blipFill>
          <a:blip r:embed="rId1"/>
          <a:stretch/>
        </p:blipFill>
        <p:spPr>
          <a:xfrm>
            <a:off x="5857920" y="3000240"/>
            <a:ext cx="30384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517760" y="1857240"/>
            <a:ext cx="2768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T</a:t>
            </a:r>
            <a:r>
              <a:rPr b="0" lang="es-EC" sz="2400" spc="-1" strike="noStrike">
                <a:solidFill>
                  <a:srgbClr val="000000"/>
                </a:solidFill>
                <a:latin typeface="Times New Roman"/>
              </a:rPr>
              <a:t>ér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 Energé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9481-4180-441E-90FF-19EA566C918A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9" name="4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A716-C9DF-4023-A983-23A3FDD32E8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460" name="Object 2"/>
          <p:cNvGraphicFramePr/>
          <p:nvPr/>
        </p:nvGraphicFramePr>
        <p:xfrm>
          <a:off x="1663560" y="2973240"/>
          <a:ext cx="719460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3560" y="2973240"/>
                    <a:ext cx="719460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2" name="Picture 3" descr=""/>
          <p:cNvPicPr/>
          <p:nvPr/>
        </p:nvPicPr>
        <p:blipFill>
          <a:blip r:embed="rId3"/>
          <a:stretch/>
        </p:blipFill>
        <p:spPr>
          <a:xfrm>
            <a:off x="4429080" y="2071800"/>
            <a:ext cx="4473720" cy="164304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4E88-BF7B-46F9-BD98-C27E121FEAD7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4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D685-393A-4F59-86BA-E63FB86D76CB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1403280" y="1773360"/>
            <a:ext cx="774072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trol de Velocidad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ñal de entrada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alor incremental de velocidad en voltios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ñal de salida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Valor de la velocidad en r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nsor de velocidad mediante tacómetro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sidere el efecto de una perturbación de torque en el eje del moto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67" name="Picture 7" descr=""/>
          <p:cNvPicPr/>
          <p:nvPr/>
        </p:nvPicPr>
        <p:blipFill>
          <a:blip r:embed="rId1"/>
          <a:stretch/>
        </p:blipFill>
        <p:spPr>
          <a:xfrm>
            <a:off x="4572000" y="3786120"/>
            <a:ext cx="4143240" cy="29005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8" descr=""/>
          <p:cNvPicPr/>
          <p:nvPr/>
        </p:nvPicPr>
        <p:blipFill>
          <a:blip r:embed="rId2"/>
          <a:stretch/>
        </p:blipFill>
        <p:spPr>
          <a:xfrm>
            <a:off x="1114560" y="4149720"/>
            <a:ext cx="33861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19ED-D12D-4C44-99D4-BFFBF0B0C618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453B-A930-47C0-9735-0EEEB680C87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trol de 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Picture 9" descr="DCMotorACSpeed_Osciloscope"/>
          <p:cNvPicPr/>
          <p:nvPr/>
        </p:nvPicPr>
        <p:blipFill>
          <a:blip r:embed="rId1"/>
          <a:stretch/>
        </p:blipFill>
        <p:spPr>
          <a:xfrm>
            <a:off x="4643280" y="2765520"/>
            <a:ext cx="4165920" cy="3543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"/>
          <p:cNvPicPr/>
          <p:nvPr/>
        </p:nvPicPr>
        <p:blipFill>
          <a:blip r:embed="rId2"/>
          <a:stretch/>
        </p:blipFill>
        <p:spPr>
          <a:xfrm>
            <a:off x="2049480" y="2786040"/>
            <a:ext cx="24559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33C6-82D7-42E7-801F-E3061EA85B85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6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57B9-EB76-4DFA-A2F1-82A9F08A087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478" name="Object 5"/>
          <p:cNvGraphicFramePr/>
          <p:nvPr/>
        </p:nvGraphicFramePr>
        <p:xfrm>
          <a:off x="2286000" y="4267080"/>
          <a:ext cx="6553080" cy="19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267080"/>
                    <a:ext cx="6553080" cy="193068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76579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trol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ñal de entrada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osición eje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ñal de salida: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osición eje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tector de error a base de potenció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sidere el efecto de la inercia y fricción de la carga conectada al eje del motor mediante engran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1EC5-B57D-43A8-8986-5D12E90E4394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2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AFD5-EB5E-4ABD-A772-AD9E45B39BD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42640" y="1714680"/>
            <a:ext cx="442908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trol de 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720" indent="-153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mulación del sistema utilizando MATLAB y SIMU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720" indent="-1530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ncluya el efecto de una perturbación de tor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7" descr=""/>
          <p:cNvPicPr/>
          <p:nvPr/>
        </p:nvPicPr>
        <p:blipFill>
          <a:blip r:embed="rId1"/>
          <a:stretch/>
        </p:blipFill>
        <p:spPr>
          <a:xfrm>
            <a:off x="5786280" y="1214280"/>
            <a:ext cx="3205440" cy="20433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"/>
          <p:cNvPicPr/>
          <p:nvPr/>
        </p:nvPicPr>
        <p:blipFill>
          <a:blip r:embed="rId2"/>
          <a:stretch/>
        </p:blipFill>
        <p:spPr>
          <a:xfrm>
            <a:off x="1643040" y="3578400"/>
            <a:ext cx="56437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AD50-DBA6-442B-B8E2-20E5EB87648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8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4936-AADA-45C9-8450-6B7F309855EE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85880" y="1785960"/>
            <a:ext cx="5214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trol de 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tor de Corriente Continua controlado por armad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Picture 9" descr="DCMotorACPosition_Osciloscope"/>
          <p:cNvPicPr/>
          <p:nvPr/>
        </p:nvPicPr>
        <p:blipFill>
          <a:blip r:embed="rId1"/>
          <a:stretch/>
        </p:blipFill>
        <p:spPr>
          <a:xfrm>
            <a:off x="1643040" y="2928960"/>
            <a:ext cx="4143240" cy="3429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"/>
          <p:cNvPicPr/>
          <p:nvPr/>
        </p:nvPicPr>
        <p:blipFill>
          <a:blip r:embed="rId2"/>
          <a:stretch/>
        </p:blipFill>
        <p:spPr>
          <a:xfrm>
            <a:off x="5857920" y="2071800"/>
            <a:ext cx="3143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9855-85F5-4992-AE3C-BB4ECCAE41BA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4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F495-53DA-4CB1-9C9C-115AAC117D1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3353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delos de diagrama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os diagramas de bloques son bloques operacionales y unidireccionales que representan la función de transferencia de las variables de inte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ara representar un sistema con diferentes variables bajo control, se utiliza una interconexión de blo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 transformaciones de diagramas de bloques y las técnicas de reducción se las obtiene aplicando el algebra de las variables del dia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Object 4"/>
          <p:cNvGraphicFramePr/>
          <p:nvPr/>
        </p:nvGraphicFramePr>
        <p:xfrm>
          <a:off x="4500720" y="1484280"/>
          <a:ext cx="444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84280"/>
                    <a:ext cx="4448160" cy="4724280"/>
                  </a:xfrm>
                  <a:prstGeom prst="rect">
                    <a:avLst/>
                  </a:prstGeom>
                  <a:ln w="2556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F120-0A0B-4EA0-AC95-157DDBF74D16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607E-C1FA-40BE-B43A-245E450B859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501" name="Object 4"/>
          <p:cNvGraphicFramePr/>
          <p:nvPr/>
        </p:nvGraphicFramePr>
        <p:xfrm>
          <a:off x="2411280" y="4005360"/>
          <a:ext cx="6096240" cy="22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4005360"/>
                    <a:ext cx="6096240" cy="227304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74739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delos de diagrama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os diagramas de bloques son bloques operacionales y unidireccionales que representan la función de transferencia de las variables de inter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ara representar un sistema con diferentes variables bajo control, se utiliza una interconexión de blo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 transformaciones de diagramas de bloques y las técnicas de reducción se las obtiene aplicando el algebra de las variables del dia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Ejemplo de sistema de control con retroalimentación de circuitos múlti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D868-294A-48FF-A82A-FC7312AF433C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A2AE-8F74-4C8A-9B84-348C5CB19F70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560" y="304560"/>
            <a:ext cx="455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3920" y="1785600"/>
            <a:ext cx="4681800" cy="533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esentación gráfica de un sistema en el dominio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velocidad de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Respuesta al Escalón de la  Bobina del Regulador corresponde a un sistema de primer ord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desplazamiento (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es proporcional a la Corriente de la Bobina del Regulador (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desplazamiento (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es proporcional al desplazamiento (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apertura de la compuerta de la mariposa del carburador es proporcional al desplazamiento negativo de (S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5"/>
          <p:cNvGraphicFramePr/>
          <p:nvPr/>
        </p:nvGraphicFramePr>
        <p:xfrm>
          <a:off x="5778360" y="4519440"/>
          <a:ext cx="3189600" cy="19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360" y="4519440"/>
                    <a:ext cx="318960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Picture 7" descr="Augabe1_1Tb"/>
          <p:cNvPicPr/>
          <p:nvPr/>
        </p:nvPicPr>
        <p:blipFill>
          <a:blip r:embed="rId3"/>
          <a:stretch/>
        </p:blipFill>
        <p:spPr>
          <a:xfrm>
            <a:off x="6084720" y="189000"/>
            <a:ext cx="2889360" cy="215748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  <p:pic>
        <p:nvPicPr>
          <p:cNvPr id="148" name="Picture 8" descr="Augabe1_1Tc"/>
          <p:cNvPicPr/>
          <p:nvPr/>
        </p:nvPicPr>
        <p:blipFill>
          <a:blip r:embed="rId4"/>
          <a:stretch/>
        </p:blipFill>
        <p:spPr>
          <a:xfrm>
            <a:off x="6300720" y="2459160"/>
            <a:ext cx="2457360" cy="176184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BE8A-7DC4-4C2F-A588-C3E9149EF94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6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9411-E025-4ED8-9CE5-B0CAAC5C160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2771640" y="2852640"/>
          <a:ext cx="497052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852640"/>
                    <a:ext cx="4970520" cy="173988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2771640" y="5013360"/>
          <a:ext cx="5486400" cy="15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5013360"/>
                    <a:ext cx="5486400" cy="150192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447920" y="184464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delos de diagrama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Ejemplo de sistema de control con retroalimentación de circuitos múlti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plicación de la regla 4 en el primer g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plicación de las reglas 1 y 6 en el segundo grá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4A88-A03A-416D-B0E6-07F7DACCEDC5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4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5EE4-3A28-4914-9292-E0C1F3B5DFA9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58920" y="1773000"/>
            <a:ext cx="7485120" cy="38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delos de diagramas de blo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jemplo de sistema de control con retroalimentación de circuitos múltip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Aplicación de la regla 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Aplicación de las reglas 1 y 6, la Función de Transferencia result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1"/>
          <a:stretch/>
        </p:blipFill>
        <p:spPr>
          <a:xfrm>
            <a:off x="2124000" y="3327480"/>
            <a:ext cx="3888000" cy="132552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2124000" y="5445000"/>
            <a:ext cx="3960720" cy="91764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577D-F128-4A38-BE3D-31BE0405307F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52C4-E325-4050-8641-C7B8496F6A3C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ráficos de Flujo de Señ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na gráfica de flujo de señales puede definirse como un método gráfico para representar las relaciones entrada-salida entre las variables de un sistema de ecuaciones algebraicas lin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 una representación causa y efecto de los sistemas lin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los gráficos de flujo de señales se usan puntos de enlace o nodos para representar las variables y se los interconecta mediante segmentos lineales llamados ramas de acuerdo a las ecuaciones de causa y efe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as ramas tienen ganancia y dirección asociadas a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3" name="Oval 6"/>
          <p:cNvSpPr/>
          <p:nvPr/>
        </p:nvSpPr>
        <p:spPr>
          <a:xfrm>
            <a:off x="3962520" y="525780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4" name="Oval 7"/>
          <p:cNvSpPr/>
          <p:nvPr/>
        </p:nvSpPr>
        <p:spPr>
          <a:xfrm>
            <a:off x="5562720" y="525780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5" name="Line 8"/>
          <p:cNvSpPr/>
          <p:nvPr/>
        </p:nvSpPr>
        <p:spPr>
          <a:xfrm>
            <a:off x="4114800" y="5334120"/>
            <a:ext cx="1447920" cy="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3512160" y="5181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5721840" y="51814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457344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529" name="Object 12"/>
          <p:cNvGraphicFramePr/>
          <p:nvPr/>
        </p:nvGraphicFramePr>
        <p:xfrm>
          <a:off x="4114800" y="5557680"/>
          <a:ext cx="1219320" cy="4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557680"/>
                    <a:ext cx="121932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32A8-C415-4431-94B8-760A355C34D6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2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24B4-9E8F-4AED-A42E-34CFA415D82F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770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ráficos de Flujo de Señ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epresentación causa y efecto de los sistemas lin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os sistemas pueden ser o no ser bidireccion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Una resistencia, bidirec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Un amplificador, (amplificador operacional ideal ), direc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Ganancia infinita, impedancia de entrada infinita, impedancia de salida c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1"/>
          <a:stretch/>
        </p:blipFill>
        <p:spPr>
          <a:xfrm>
            <a:off x="1763640" y="4653000"/>
            <a:ext cx="3009960" cy="157788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  <p:pic>
        <p:nvPicPr>
          <p:cNvPr id="536" name="Picture 6" descr=""/>
          <p:cNvPicPr/>
          <p:nvPr/>
        </p:nvPicPr>
        <p:blipFill>
          <a:blip r:embed="rId2"/>
          <a:stretch/>
        </p:blipFill>
        <p:spPr>
          <a:xfrm>
            <a:off x="2359080" y="3789360"/>
            <a:ext cx="1708200" cy="65088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  <p:graphicFrame>
        <p:nvGraphicFramePr>
          <p:cNvPr id="537" name="Object 7"/>
          <p:cNvGraphicFramePr/>
          <p:nvPr/>
        </p:nvGraphicFramePr>
        <p:xfrm>
          <a:off x="4975200" y="3500280"/>
          <a:ext cx="3492360" cy="253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5200" y="3500280"/>
                    <a:ext cx="349236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CB6B-C773-47ED-A645-60EF81B734B6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1808-954A-4594-8591-65124B24CA6F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7543800" cy="476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Gráficos de Flujo de Señ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Defini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Nu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Un punto que representa una señ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mita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Una ganancia entre dos pu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Une dos nudos y tiene 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Nudo de En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Solo tiene ramas que sa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Nudo de Sal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Solo tiene ramas que en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Nudo Mix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Tiene ramas que entran y sa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a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Es un camino cer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azos Disti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No tiene nudos com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yecto Dir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Va desde nudo de entrada al nudo de salida pasando una  sola vez por cada nu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anancia de Trayecto Dir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Producto de las transmitancias de las ramas del trayecto dir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2E96-2918-4643-A6BB-96793BC67A69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4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6763-EDA8-4E34-B248-B6D6B40EF71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5019840" cy="1646280"/>
          </a:xfrm>
          <a:prstGeom prst="rect">
            <a:avLst/>
          </a:prstGeom>
          <a:ln w="31680">
            <a:solidFill>
              <a:srgbClr val="cc9900"/>
            </a:solidFill>
            <a:miter/>
          </a:ln>
        </p:spPr>
      </p:pic>
      <p:pic>
        <p:nvPicPr>
          <p:cNvPr id="546" name="Picture 5" descr=""/>
          <p:cNvPicPr/>
          <p:nvPr/>
        </p:nvPicPr>
        <p:blipFill>
          <a:blip r:embed="rId2"/>
          <a:stretch/>
        </p:blipFill>
        <p:spPr>
          <a:xfrm>
            <a:off x="3276720" y="4724280"/>
            <a:ext cx="4038480" cy="1806840"/>
          </a:xfrm>
          <a:prstGeom prst="rect">
            <a:avLst/>
          </a:prstGeom>
          <a:ln w="31680">
            <a:solidFill>
              <a:srgbClr val="cc9900"/>
            </a:solidFill>
            <a:miter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1517760" y="1844640"/>
            <a:ext cx="76262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Gráfico de Flujo de Señales a partir de un Diagrama de Bloques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arle nombre a todas las variables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or cada variable se identifica un Nodo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49E8-C951-4C16-9C89-603C33BF4B32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A571-D25D-443C-8B72-67FC35BDF89C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581960" cy="31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Gráfico de Flujo de Señales a partir de un Diagrama de Blo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Reducir mediante la eliminación de Nodos no neces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 Función de Trans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3581280" cy="1989000"/>
          </a:xfrm>
          <a:prstGeom prst="rect">
            <a:avLst/>
          </a:prstGeom>
          <a:ln w="31680">
            <a:solidFill>
              <a:srgbClr val="cc9900"/>
            </a:solidFill>
            <a:miter/>
          </a:ln>
        </p:spPr>
      </p:pic>
      <p:graphicFrame>
        <p:nvGraphicFramePr>
          <p:cNvPr id="554" name="Object 7"/>
          <p:cNvGraphicFramePr/>
          <p:nvPr/>
        </p:nvGraphicFramePr>
        <p:xfrm>
          <a:off x="2122560" y="4956120"/>
          <a:ext cx="5905440" cy="164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2560" y="4956120"/>
                    <a:ext cx="5905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4506-73FE-470B-99AF-83D4C58A2349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7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D122-9563-488C-B5B5-854BD23A99F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599840" y="1752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olución de Gráficos de Flujo de Señales mediante el método de M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Object 5"/>
          <p:cNvGraphicFramePr/>
          <p:nvPr/>
        </p:nvGraphicFramePr>
        <p:xfrm>
          <a:off x="2316240" y="3733920"/>
          <a:ext cx="275904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6240" y="3733920"/>
                    <a:ext cx="27590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6"/>
          <p:cNvGraphicFramePr/>
          <p:nvPr/>
        </p:nvGraphicFramePr>
        <p:xfrm>
          <a:off x="2214720" y="5029200"/>
          <a:ext cx="547992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4720" y="5029200"/>
                    <a:ext cx="54799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1476360" y="2492280"/>
            <a:ext cx="4343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sideremos el siguiente ejemplo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l sistema se lo puede describir mediante el siguiente conjunto de ecuaciones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mpleando la regla de Crame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65" name="Picture 9" descr=""/>
          <p:cNvPicPr/>
          <p:nvPr/>
        </p:nvPicPr>
        <p:blipFill>
          <a:blip r:embed="rId5"/>
          <a:stretch/>
        </p:blipFill>
        <p:spPr>
          <a:xfrm>
            <a:off x="5867280" y="2276640"/>
            <a:ext cx="2943360" cy="269064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335C-D5DE-4322-A75A-76C87698CF4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7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4F3F-DFD3-4410-8F52-2F4408959B1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1523880" y="1828800"/>
            <a:ext cx="7467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olución de Gráficos de Flujo de Señales mediante el método de Mason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 forma general, la ganancia lineal T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entre la variable independiente 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(variable de entrada) y una variable dependiente x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(variable de salida) está dada por la siguiente expresión, fórmula de Mason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Números de trayectos directos entre la entrada x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y la salida x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anancia de la trayectoria directa k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eterminante del grafo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factor del trayecto directo P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(es el determinante del grafo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en el que se han removido los elementos del trayecto directo k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570" name="Object 7"/>
          <p:cNvGraphicFramePr/>
          <p:nvPr/>
        </p:nvGraphicFramePr>
        <p:xfrm>
          <a:off x="2608200" y="3352680"/>
          <a:ext cx="272592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8200" y="3352680"/>
                    <a:ext cx="272592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F6F5-1B39-4307-B83A-9A292635322A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3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A7DB-E6DF-430A-828A-609C3A782EE3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6"/>
              <p:cNvSpPr txBox="1"/>
              <p:nvPr/>
            </p:nvSpPr>
            <p:spPr>
              <a:xfrm>
                <a:off x="2743200" y="2895480"/>
                <a:ext cx="4640400" cy="23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b</m:t>
                        </m:r>
                        <m:r>
                          <m:t xml:space="preserve">L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  <m:r>
                          <m:t xml:space="preserve">e</m:t>
                        </m:r>
                        <m:r>
                          <m:t xml:space="preserve">L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b</m:t>
                        </m:r>
                        <m:r>
                          <m:t xml:space="preserve">L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  <m:r>
                              <m:t xml:space="preserve">,</m:t>
                            </m:r>
                            <m:r>
                              <m:t xml:space="preserve">e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d</m:t>
                        </m:r>
                        <m:r>
                          <m:t xml:space="preserve">L</m:t>
                        </m:r>
                        <m:r>
                          <m:t xml:space="preserve">e</m:t>
                        </m:r>
                        <m:r>
                          <m:t xml:space="preserve">L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517760" y="1828440"/>
            <a:ext cx="7626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olución de Gráficos de Flujo de Señales mediante el método de M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Determinante del gra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4495680" y="3809880"/>
            <a:ext cx="4343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umatoria de todas las ganancias de lazo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umatoria del producto de las ganancias de todas las combinaciones posibles de los lazos distintos de dos en dos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gual que el caso anterior pero para los lazos distintos de tres en tres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74F6-EDB4-4CBF-884B-17CD8FC3C64C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F917-E009-426E-91DD-55F81D16B39C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773000"/>
            <a:ext cx="4753080" cy="422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resentación gráfica de los sistemas en el dominio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agrama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velocidad de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revolución del eje de la rueda del vehículo (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es proporcional a la velocidad del vehículo (x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revolución del eje del motor (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 es proporcional a la revolución del eje de la rueda del vehículo (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acuerdo a la ley de Newton la velocidad (x) del vehículo es proporcional a la integral de la Fuerza Resultante (f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5940360" y="4514760"/>
          <a:ext cx="302436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4514760"/>
                    <a:ext cx="302436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Picture 7" descr="Augabe1_1Tb"/>
          <p:cNvPicPr/>
          <p:nvPr/>
        </p:nvPicPr>
        <p:blipFill>
          <a:blip r:embed="rId3"/>
          <a:stretch/>
        </p:blipFill>
        <p:spPr>
          <a:xfrm>
            <a:off x="6084720" y="2133720"/>
            <a:ext cx="2889360" cy="215712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A37A-FEF8-420D-8597-C6A017015E6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5442-9040-4B20-A7F5-75F85A752C35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olución de Gráficos de Flujo de Señales mediante el método de M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sideremos el siguiente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e desea obtener la Función de Transferencia Y(s)/R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Número de caminos directos: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Número de lazos: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Número de lazos distintos: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2386080" y="3335400"/>
            <a:ext cx="5641920" cy="197784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13A6-959E-4FAF-A092-D685FBF8F4D1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4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9F52-1E78-4E04-9674-1C4F018884CD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1476000" y="692280"/>
            <a:ext cx="373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solución de Gráficos de Flujo de Señales mediante el método de M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aminos directos: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azos: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"/>
          <p:cNvSpPr/>
          <p:nvPr/>
        </p:nvSpPr>
        <p:spPr>
          <a:xfrm>
            <a:off x="4643280" y="1773360"/>
            <a:ext cx="4500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azos distintos: 4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n  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n  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n  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 -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87" name="Picture 12" descr=""/>
          <p:cNvPicPr/>
          <p:nvPr/>
        </p:nvPicPr>
        <p:blipFill>
          <a:blip r:embed="rId1"/>
          <a:stretch/>
        </p:blipFill>
        <p:spPr>
          <a:xfrm>
            <a:off x="2700360" y="4724280"/>
            <a:ext cx="5641920" cy="197820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F5C3-ADF3-4EBD-A23C-CB70B18C8BFC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11E8-86BB-4AF9-96D9-6ACA0EB11526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517760" y="1989000"/>
            <a:ext cx="76262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solución de Gráficos de Flujo de Señales mediante el método de Ma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l determinante del siste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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1-(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)+(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+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Los cofact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ara P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es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ara P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es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1-L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ara P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es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Finalmente, la Función de Trasfer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Object 6"/>
              <p:cNvSpPr txBox="1"/>
              <p:nvPr/>
            </p:nvSpPr>
            <p:spPr>
              <a:xfrm>
                <a:off x="2514600" y="5105520"/>
                <a:ext cx="25909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Δ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BEA9-6EA3-4E7B-9303-6A99FDC1C2F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4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7211-D71A-45B0-8720-0C1990B7EA2C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431964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Generación de una función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uma de funciones de transfer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btención de los Po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Obtención de los C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Gráfico de los Polos y C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000000"/>
                </a:solidFill>
                <a:latin typeface="Times New Roman"/>
              </a:rPr>
              <a:t>Ejemplo 2.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597" name="Picture 7" descr=""/>
          <p:cNvPicPr/>
          <p:nvPr/>
        </p:nvPicPr>
        <p:blipFill>
          <a:blip r:embed="rId1"/>
          <a:stretch/>
        </p:blipFill>
        <p:spPr>
          <a:xfrm>
            <a:off x="5819760" y="981000"/>
            <a:ext cx="3086280" cy="561672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DFF9-E477-484E-9B09-96BC59E12689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3B25-0A3D-46BC-BF58-B8979830649F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419640" y="1844640"/>
            <a:ext cx="50400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Obtención de los Po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Obtención de los C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Gráfico de los Polos y C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8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376720" cy="410508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  <p:pic>
        <p:nvPicPr>
          <p:cNvPr id="603" name="Picture 9" descr=""/>
          <p:cNvPicPr/>
          <p:nvPr/>
        </p:nvPicPr>
        <p:blipFill>
          <a:blip r:embed="rId2"/>
          <a:stretch/>
        </p:blipFill>
        <p:spPr>
          <a:xfrm>
            <a:off x="3419640" y="2995560"/>
            <a:ext cx="2344680" cy="324180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  <p:pic>
        <p:nvPicPr>
          <p:cNvPr id="604" name="Picture 10" descr=""/>
          <p:cNvPicPr/>
          <p:nvPr/>
        </p:nvPicPr>
        <p:blipFill>
          <a:blip r:embed="rId3"/>
          <a:stretch/>
        </p:blipFill>
        <p:spPr>
          <a:xfrm>
            <a:off x="5867280" y="2986200"/>
            <a:ext cx="31086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B034-221A-4039-AE2B-02F80AF9FB0F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6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C5C9-ED34-45A4-A88D-7931E2DF41BA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ascada de dos funciones de trans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Sistema de realimentación 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Función de transferencia del sistema de realimentación uni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jercicio 2.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Object 7"/>
          <p:cNvGraphicFramePr/>
          <p:nvPr/>
        </p:nvGraphicFramePr>
        <p:xfrm>
          <a:off x="2286000" y="4267080"/>
          <a:ext cx="380988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267080"/>
                    <a:ext cx="3809880" cy="120348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1" name="Picture 11" descr=""/>
          <p:cNvPicPr/>
          <p:nvPr/>
        </p:nvPicPr>
        <p:blipFill>
          <a:blip r:embed="rId3"/>
          <a:stretch/>
        </p:blipFill>
        <p:spPr>
          <a:xfrm>
            <a:off x="6364440" y="1484280"/>
            <a:ext cx="2600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66C9-F815-4247-9BD7-E9AD099F0733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3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9186-564F-48FF-8164-6E52373BC06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615" name="Object 5"/>
          <p:cNvGraphicFramePr/>
          <p:nvPr/>
        </p:nvGraphicFramePr>
        <p:xfrm>
          <a:off x="6348240" y="2133720"/>
          <a:ext cx="24624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8240" y="2133720"/>
                    <a:ext cx="2462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479240" y="1981080"/>
            <a:ext cx="46926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scada de dos funciones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stema de realimentación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unción de transferencia del sistema de realimentación uni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476A-16E5-4676-B7AF-D68E6AB990CD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ADFF-8E1E-4BBD-832A-112D7AD0683B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479600" y="1828800"/>
            <a:ext cx="7664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mplificación de Diagramas de Bl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plicar las reglas de re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rimer reducción, mover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delante de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egunda reducción, resolver lazo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y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ercera reducción, resolver lazo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 de la segunda reducción y G de la primer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uarta reducción, resolver lazo de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 de la tercer reducción y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622" name="Object 5"/>
          <p:cNvGraphicFramePr/>
          <p:nvPr/>
        </p:nvGraphicFramePr>
        <p:xfrm>
          <a:off x="2627280" y="4292640"/>
          <a:ext cx="609588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292640"/>
                    <a:ext cx="6095880" cy="2273400"/>
                  </a:xfrm>
                  <a:prstGeom prst="rect">
                    <a:avLst/>
                  </a:prstGeom>
                  <a:ln w="3168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0EAE-3A70-4733-9D47-05E66263DC86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5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06E3-21B7-4140-9F1C-EFCC4DAA56EF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13880" y="1785960"/>
            <a:ext cx="39308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mplificación de Diagramas de Bl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plicar las reglas de re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jercicio 2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rimer reducción, mover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delante de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egunda reducción, resolver lazo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y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ercera reducción, resolver lazo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 de la segunda reducción y G de la primer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uarta reducción, resolver lazo de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 de la tercer reducción y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7" descr=""/>
          <p:cNvPicPr/>
          <p:nvPr/>
        </p:nvPicPr>
        <p:blipFill>
          <a:blip r:embed="rId1"/>
          <a:stretch/>
        </p:blipFill>
        <p:spPr>
          <a:xfrm>
            <a:off x="4602240" y="1268280"/>
            <a:ext cx="4233960" cy="493092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9148-3B4A-4B35-A0A0-E402FE579780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0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079B-25F4-445D-BA0B-068C577A9473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mplificación de Diagramas de Bl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plicar las reglas de re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rimer reducción, mover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delante de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egunda reducción, resolver lazo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y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Tercera reducción, resolver lazo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 de la segunda reducción y G de la primer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uarta reducción, resolver lazo de G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, G de la tercer reducción y H</a:t>
            </a:r>
            <a:r>
              <a:rPr b="1" lang="es-MX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7" descr=""/>
          <p:cNvPicPr/>
          <p:nvPr/>
        </p:nvPicPr>
        <p:blipFill>
          <a:blip r:embed="rId1"/>
          <a:stretch/>
        </p:blipFill>
        <p:spPr>
          <a:xfrm>
            <a:off x="2556000" y="4581360"/>
            <a:ext cx="6113160" cy="107964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19E6-59C5-4062-B52E-17FBC4434981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05D9-F087-4DC5-B9D9-D251682D9C1F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7760" y="1844640"/>
            <a:ext cx="7626240" cy="11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presentación gráfica de los sistemas en el dominio d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agrama Fu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ntrol de velocidad de un a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3059280" y="2674800"/>
            <a:ext cx="5113080" cy="394344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D74A-AC71-49BA-98A7-62C681F2A36C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5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DE5F-948A-44A8-B181-F12B772A5F0E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andos de 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mplificación de Diagramas de Bl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plicar las reglas de re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implificación de la función de transferencia al eliminar los polos y ceros de igual val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Uso de la función “minrea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7" descr=""/>
          <p:cNvPicPr/>
          <p:nvPr/>
        </p:nvPicPr>
        <p:blipFill>
          <a:blip r:embed="rId1"/>
          <a:stretch/>
        </p:blipFill>
        <p:spPr>
          <a:xfrm>
            <a:off x="2846520" y="3857760"/>
            <a:ext cx="5038560" cy="2666880"/>
          </a:xfrm>
          <a:prstGeom prst="rect">
            <a:avLst/>
          </a:prstGeom>
          <a:ln w="3168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4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2245-F0E9-46C2-A859-9E390CB78565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6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4032-4F83-4406-B56D-58AEC4268B71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240" y="1844280"/>
            <a:ext cx="69800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portamiento Diná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agrama Func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cuación diferencial del sist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6"/>
          <p:cNvGraphicFramePr/>
          <p:nvPr/>
        </p:nvGraphicFramePr>
        <p:xfrm>
          <a:off x="2627280" y="4149720"/>
          <a:ext cx="597708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149720"/>
                    <a:ext cx="597708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Picture 8" descr=""/>
          <p:cNvPicPr/>
          <p:nvPr/>
        </p:nvPicPr>
        <p:blipFill>
          <a:blip r:embed="rId3"/>
          <a:stretch/>
        </p:blipFill>
        <p:spPr>
          <a:xfrm>
            <a:off x="2700360" y="2781360"/>
            <a:ext cx="5238720" cy="1368360"/>
          </a:xfrm>
          <a:prstGeom prst="rect">
            <a:avLst/>
          </a:prstGeom>
          <a:ln w="3168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fecha"/>
          <p:cNvSpPr/>
          <p:nvPr/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A499-527F-4EEB-A8C7-A8D4A515B6FE}" type="datetime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5 Marcador de número de diapositiva"/>
          <p:cNvSpPr/>
          <p:nvPr/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3B94-E8A1-4405-B826-940640AD44A4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996633"/>
                </a:solidFill>
                <a:latin typeface="Times New Roman"/>
              </a:rPr>
              <a:t>MODELOS MATEMATICOS DE LOS SISTEMAS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920" y="1828440"/>
            <a:ext cx="716256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odelo del sistema es el resultado del conocimiento referente a la transferencia, almacenamiento, conversión y disipación de energía y en los métodos de interconexión de los ele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stema Diná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cuaciones Difer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ine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ransformada de Laplace (Función de Transfere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stemas físic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éc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ecánicos de traslación y r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idráu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ér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Neu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1:59:43Z</dcterms:created>
  <dc:creator>Juan F. del Pozo L.</dc:creator>
  <dc:description/>
  <dc:language>en-US</dc:language>
  <cp:lastModifiedBy>Dennys Dick Cortez Alvarez</cp:lastModifiedBy>
  <dcterms:modified xsi:type="dcterms:W3CDTF">2012-10-22T14:39:27Z</dcterms:modified>
  <cp:revision>190</cp:revision>
  <dc:subject/>
  <dc:title>CONTROL AUTOMATICO</dc:title>
</cp:coreProperties>
</file>