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3B6-7F0D-4824-81D0-C08FC3D7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71D-3775-4F05-8770-66D7F23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EA9-8786-469A-A6B0-A5096788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9E1-EF8C-4CEB-BDA4-267FFEC9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5E4-945D-4874-BC20-47FF4D9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EB3-3586-4076-A9DE-0BCD110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9BB-3CF6-4E54-BEE6-35AA682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109-880A-4FEE-B31F-8E058CE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7CE-4386-4833-938C-99C72C3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CC1-7F7E-40EF-A6F0-F4199D4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374-420F-440D-9DFC-6694C47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D10-4928-485F-BA6B-DFB012F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EF82C-FE90-4EF2-ABB8-EC39F7ED2E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EA11C-E5E3-42B5-8D19-077BDBDFA0D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19:07Z</dcterms:created>
  <dc:creator>최봉수</dc:creator>
  <dc:description/>
  <dc:language>en-US</dc:language>
  <cp:lastModifiedBy>맛있다 군만두</cp:lastModifiedBy>
  <dcterms:modified xsi:type="dcterms:W3CDTF">2023-07-13T08:06:01Z</dcterms:modified>
  <cp:revision>3</cp:revision>
  <dc:subject/>
  <dc:title>슬라이드 1</dc:title>
</cp:coreProperties>
</file>