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A56-BE60-400A-80FC-98E24FC4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95E-D3F2-4E72-956D-B2029C47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E0F-475F-4EB4-B623-36206BC8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FF3-E14C-4A2B-A7D4-EFAF0EE9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567-E136-45FF-9100-30C6841E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590-91D8-42D1-87CF-76AE585B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A8A-A108-4C45-B1FE-212C8642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16F-18A3-4E03-8CFB-47F76228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F21-1136-4FA0-8523-DE081127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426-318F-4AD6-99AA-897F221E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03D-A412-467A-A7D0-9E5065AC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7DE-761F-422F-B3F2-FD7368B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D9E9D-1D81-4545-943F-FF37FBA01C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81533-E6E8-47CA-AE99-9CE013A5C26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4:19:07Z</dcterms:created>
  <dc:creator>최봉수</dc:creator>
  <dc:description/>
  <dc:language>en-US</dc:language>
  <cp:lastModifiedBy>맛있다 군만두</cp:lastModifiedBy>
  <dcterms:modified xsi:type="dcterms:W3CDTF">2023-07-13T08:06:01Z</dcterms:modified>
  <cp:revision>3</cp:revision>
  <dc:subject/>
  <dc:title>슬라이드 1</dc:title>
</cp:coreProperties>
</file>