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106-BAA6-4BD8-8A2B-CB76A75C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E46-4E53-4AFA-94EF-FC492272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861-EFE8-48ED-9E2B-D9CC0C1A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478-7FEC-44B0-8031-E2452E2D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B6E4-31FF-442B-85C7-F631414E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79E-C201-4815-B25E-BCCB53D9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01E-5BE9-42EF-B9E7-7C6BD9D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C33-5002-40B2-ABA0-3B6B6F6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C377-5CF2-44A2-B143-1B57FA37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838-9B44-4D96-BE40-84F33503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86A-B19C-4A5A-93CB-A89383B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98E-CD90-4247-B2E4-FAB386F4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9A40-3920-4B55-A6B3-EE5F23A5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A983-6249-40F9-A81E-3C7A74B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72E-CB95-4702-8DC3-D60EBE23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6A0-927B-468F-AC73-3ACBBFE8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C24F-9877-4B1B-8FDF-29A01D22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52B-27FA-4EBA-AA75-C16A679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E66-CAB3-45FF-8573-F82A43B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2DD-D092-4E23-A4AC-5C9F204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514-1893-4104-A92F-91564AC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4CC-87E1-4BBB-B69B-038B7A5E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366-329B-4585-A64A-241CDF8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B54-A8A5-43D1-8B33-D640529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11C-4148-43AD-9BCF-87D01E1F1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8B5-2326-4781-BBB8-73B73069C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. A. ZIDOUR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Square Summable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quare summab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505320" y="3352680"/>
                <a:ext cx="23270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Finite and Infinite Energy 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nerg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f a sequence x[n] is defined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29000" y="3429000"/>
                <a:ext cx="2327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72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quare-summable sequence has finite energy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addi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is a sample-by-sample addition given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 + 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 = 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+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multiplic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is a sample-by-sample multiplication given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 .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scaling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this operation, each sample is multiplied by a scalar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shifting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this operation, each sample of {x[n]} is shifted by an amount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o obtain a shifted sequence 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[n]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}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[n -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hematic representations of some of the above operations are shown in the following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2193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9045" t="0" r="9582" b="58270"/>
          <a:stretch/>
        </p:blipFill>
        <p:spPr>
          <a:xfrm>
            <a:off x="1371600" y="2743200"/>
            <a:ext cx="617220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hematic representations of some of the above operations are shown in the following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2193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9045" t="39354" r="9582" b="4597"/>
          <a:stretch/>
        </p:blipFill>
        <p:spPr>
          <a:xfrm>
            <a:off x="1447920" y="2514600"/>
            <a:ext cx="6172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15381"/>
          <a:stretch/>
        </p:blipFill>
        <p:spPr>
          <a:xfrm>
            <a:off x="228600" y="13716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0" t="0" r="0" b="-1522"/>
          <a:stretch/>
        </p:blipFill>
        <p:spPr>
          <a:xfrm>
            <a:off x="228600" y="137160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assification of Sequ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ne classification is in terms of the number of samples defining the sequ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nother classification is with respect to the symmetry exhibited by the samples with respect to the time index n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t can also be classified in terms of its other properties such as periodicity, summability, energy, and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37160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6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assification Based o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he discrete-time signal may be a finite-length or an infinite-length sequ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. Finite-Length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inite-length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also called finite-duration or finite-extent) sequence is defined only for a finite time interv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inite Length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1&lt;n&lt;N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∞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&lt; N1 and N2 &lt; </a:t>
            </a: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∞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th N1&lt;N2 The length or duration N of the above finite-length sequence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 = N2 - N1 +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ote that a finite-length sequence can be treated as an infinite-length sequence by adding zero-valued samples for the undefined samples. This is called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ppending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adding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th ze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2860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. Right-Sided, Left-Sided and Two-Sid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re are three types of infinite-length sequences.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ight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x[n] has zero-valued samples for n &lt; N1, i.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x[n] = 0 for n &lt; N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where N1 is a finite integer that can be positive or negative. If N1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≥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a right-sided sequence is usually called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ausal sequenc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219320"/>
            <a:ext cx="64771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Likewise,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left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x[n] has zero-valued samples for n &gt;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i.e. x[n] = 0 for n &gt;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where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is a finite integer that can be positive or negative. If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≤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a left-sided sequence is usually called an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anti-causal sequenc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 general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two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is defined for all values of n in the range -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∞≤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≤∞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fication Based on Period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Periodic and Aperiodic Sequ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x[n] satisf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[n] = x[n + kN] for all 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eriodic sequenc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 period N where N is a positive integer and k is any inte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is called a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periodic sequenc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it is not period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undamental perio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f of a periodic signal is the smallest value of N for which the periodic condition is satis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her Types of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Bounded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ound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each of its samples is of magnitude less than or equal to a finite positive number H, i.e.   |x[n]|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≤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∞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 Types of Class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bsolutly Summable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bsolutely summab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81280" y="4419720"/>
                <a:ext cx="2327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2:53:03Z</dcterms:created>
  <dc:creator> SAAD</dc:creator>
  <dc:description/>
  <dc:language>en-US</dc:language>
  <cp:lastModifiedBy>malek</cp:lastModifiedBy>
  <dcterms:modified xsi:type="dcterms:W3CDTF">2004-09-18T03:57:46Z</dcterms:modified>
  <cp:revision>88</cp:revision>
  <dc:subject/>
  <dc:title>INTRODUCTION</dc:title>
</cp:coreProperties>
</file>