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1F0-D154-471A-81D3-DE99C84D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A6A-0382-4A2C-BD6F-674266E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A0D-E16B-44A0-BBEA-6DD9590A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BAE-BB24-4D95-BAAC-F723BBC1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68D9-A714-46B9-8A7B-B59B978B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2FDB-9BCD-43FA-A6C2-1FB497B7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907B-AE5B-4921-806F-1D781B21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D43F-FA16-4444-B623-54816A9D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2E6E-AF67-402A-B5E0-73AE3CFC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2681-F148-47E2-9BD2-BC50502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488B-E83C-48E8-912C-A5CA1E2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341-D863-4DF9-A49C-D064D6A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27F-723D-4385-977C-BFE3D912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99DB-364A-4DB5-8446-5C45227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5774-144B-46F0-9074-AE5DA3A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0291-184B-439D-AF67-58BA9285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9B56-BFD0-4E31-9D3F-B084F9DE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895-8C73-4092-837D-C6C6E83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EBF-8D80-4A43-9512-2C93AA0A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E00-8617-462F-BD46-F9128EB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FE3-A352-4B07-84E2-E175020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B8F-7B9F-454B-B610-F1EE340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4E2-4022-4FAC-B2F1-7F59BF6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2D6-FD24-468C-935B-0750008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B74-62C9-410E-AB7B-E083605083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FD3B-3B0A-4F1E-B612-CE867E332B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. A. ZIDOUR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Square Summable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equence x[n] is said to b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quare summab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505320" y="3352680"/>
                <a:ext cx="23270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Finite and Infinite Energy 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nerg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f a sequence x[n] is defined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29000" y="3429000"/>
                <a:ext cx="2327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72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quare-summable sequence has finite energy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addi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his is a sample-by-sample addition given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{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} + {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} = {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+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multiplic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his is a sample-by-sample multiplication given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 .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scaling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this operation, each sample is multiplied by a scalar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ahoma"/>
              </a:rPr>
              <a:t>Sequence Oper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Signal shifting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this operation, each sample of {x[n]} is shifted by an amount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o obtain a shifted sequence {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[n]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}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[n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[n -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hematic representations of some of the above operations are shown in the following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2193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9045" t="0" r="9582" b="58270"/>
          <a:stretch/>
        </p:blipFill>
        <p:spPr>
          <a:xfrm>
            <a:off x="1371600" y="2743200"/>
            <a:ext cx="617220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hematic representations of some of the above operations are shown in the following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2193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9045" t="39354" r="9582" b="4597"/>
          <a:stretch/>
        </p:blipFill>
        <p:spPr>
          <a:xfrm>
            <a:off x="1447920" y="2514600"/>
            <a:ext cx="6172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15381"/>
          <a:stretch/>
        </p:blipFill>
        <p:spPr>
          <a:xfrm>
            <a:off x="228600" y="13716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0" t="0" r="0" b="-1522"/>
          <a:stretch/>
        </p:blipFill>
        <p:spPr>
          <a:xfrm>
            <a:off x="228600" y="137160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assification of Sequ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ne classification is in terms of the number of samples defining the sequ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nother classification is with respect to the symmetry exhibited by the samples with respect to the time index n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t can also be classified in terms of its other properties such as periodicity, summability, energy, and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37160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6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assification Based on L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he discrete-time signal may be a finite-length or an infinite-length sequ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1. Finite-Length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inite-length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also called finite-duration or finite-extent) sequence is defined only for a finite time interv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inite Length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1&lt;n&lt;N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∞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&lt; N1 and N2 &lt; </a:t>
            </a:r>
            <a:r>
              <a:rPr b="1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∞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ith N1&lt;N2 The length or duration N of the above finite-length sequence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 = N2 - N1 +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ote that a finite-length sequence can be treated as an infinite-length sequence by adding zero-valued samples for the undefined samples. This is called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appending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adding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ith ze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2860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. Right-Sided, Left-Sided and Two-Sid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ere are three types of infinite-length sequences. A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right-sided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quence x[n] has zero-valued samples for n &lt; N1, i.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x[n] = 0 for n &lt; N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where N1 is a finite integer that can be positive or negative. If N1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≥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 a right-sided sequence is usually called a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ausal sequenc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219320"/>
            <a:ext cx="64771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Likewise, a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left-sided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quence x[n] has zero-valued samples for n &gt;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 i.e. x[n] = 0 for n &gt;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where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is a finite integer that can be positive or negative. If N</a:t>
            </a:r>
            <a:r>
              <a:rPr b="1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≤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, a left-sided sequence is usually called an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anti-causal sequenc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 general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two-sided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quence is defined for all values of n in the range -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∞≤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≤∞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ification Based on Period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Periodic and Aperiodic Sequ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quence x[n] satisf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[n] = x[n + kN] for all 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eriodic sequenc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 period N where N is a positive integer and k is any integ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quence is called a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periodic sequenc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it is not period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undamental perio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f of a periodic signal is the smallest value of N for which the periodic condition is satis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her Types of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Bounded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sequence x[n] is said to be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ound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each of its samples is of magnitude less than or equal to a finite positive number H, i.e.   |x[n]|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≤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∞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Discrete Time Signals and Syste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 Types of Class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Absolutly Summable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equence x[n] is said to b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bsolutely summab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447920"/>
            <a:ext cx="647676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81280" y="4419720"/>
                <a:ext cx="2327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2:53:03Z</dcterms:created>
  <dc:creator> SAAD</dc:creator>
  <dc:description/>
  <dc:language>en-US</dc:language>
  <cp:lastModifiedBy>malek</cp:lastModifiedBy>
  <dcterms:modified xsi:type="dcterms:W3CDTF">2004-09-18T03:57:46Z</dcterms:modified>
  <cp:revision>88</cp:revision>
  <dc:subject/>
  <dc:title>INTRODUCTION</dc:title>
</cp:coreProperties>
</file>