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A361-C58C-40B8-A68E-7E28E3EC2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roduction to wellbore stabil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is relationship is that a failure locus is developed from laboratory triaxial testing. The yield or failure stress is characterized by the above equation. If the in-situ stress conditions are on or above this line (on a plot of shear stress versus normal stress) failure is predi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 computational approach was used to develop the above Figure.  It</a:t>
            </a:r>
            <a:r>
              <a:rPr b="1" lang="en-US" sz="1200" spc="-1" strike="noStrike">
                <a:solidFill>
                  <a:srgbClr val="ff0000"/>
                </a:solidFill>
                <a:latin typeface="Times New Roman"/>
              </a:rPr>
              <a:t> </a:t>
            </a:r>
            <a:r>
              <a:rPr b="0" lang="en-US" sz="1200" spc="-1" strike="noStrike">
                <a:solidFill>
                  <a:srgbClr val="000000"/>
                </a:solidFill>
                <a:latin typeface="Times New Roman"/>
              </a:rPr>
              <a:t>is an example of tolerable pressures to avoid shear failure, based strictly on linear elastic analysis (using Wang and Dusseault’s formulations). The reservoir simulated was assumed to have a depth of 5000 feet, </a:t>
            </a:r>
            <a:r>
              <a:rPr b="0" lang="en-US" sz="1200" spc="-1" strike="noStrike">
                <a:solidFill>
                  <a:srgbClr val="000000"/>
                </a:solidFill>
                <a:latin typeface="Symbol"/>
                <a:ea typeface="Symbol"/>
              </a:rPr>
              <a:t></a:t>
            </a:r>
            <a:r>
              <a:rPr b="0" lang="en-US" sz="1200" spc="-1" strike="noStrike">
                <a:solidFill>
                  <a:srgbClr val="000000"/>
                </a:solidFill>
                <a:latin typeface="Times New Roman"/>
              </a:rPr>
              <a:t>HMAX = 4000 psi, </a:t>
            </a:r>
            <a:r>
              <a:rPr b="0" lang="en-US" sz="1200" spc="-1" strike="noStrike">
                <a:solidFill>
                  <a:srgbClr val="000000"/>
                </a:solidFill>
                <a:latin typeface="Symbol"/>
                <a:ea typeface="Symbol"/>
              </a:rPr>
              <a:t></a:t>
            </a:r>
            <a:r>
              <a:rPr b="0" lang="en-US" sz="1200" spc="-1" strike="noStrike">
                <a:solidFill>
                  <a:srgbClr val="000000"/>
                </a:solidFill>
                <a:latin typeface="Times New Roman"/>
              </a:rPr>
              <a:t>HMIN varied, po = 2165 psi (0.433 psi/ft), </a:t>
            </a:r>
            <a:r>
              <a:rPr b="0" lang="en-US" sz="1200" spc="-1" strike="noStrike">
                <a:solidFill>
                  <a:srgbClr val="000000"/>
                </a:solidFill>
                <a:latin typeface="Symbol"/>
                <a:ea typeface="Symbol"/>
              </a:rPr>
              <a:t></a:t>
            </a:r>
            <a:r>
              <a:rPr b="0" lang="en-US" sz="1200" spc="-1" strike="noStrike">
                <a:solidFill>
                  <a:srgbClr val="000000"/>
                </a:solidFill>
                <a:latin typeface="Times New Roman"/>
              </a:rPr>
              <a:t>= 35</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0.25. The cohesion varied. The figure indicates that cohesion is a dominant parameter and every effort should be made to determine it. It also shows differences between permeable and impermeable reservoirs. Wellbore pressures below the predicted value (psa) indicate instability in s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ensile failure:</a:t>
            </a:r>
            <a:r>
              <a:rPr b="0" lang="en-US" sz="1200" spc="-1" strike="noStrike">
                <a:solidFill>
                  <a:srgbClr val="000000"/>
                </a:solidFill>
                <a:latin typeface="Times New Roman"/>
              </a:rPr>
              <a:t>  This occurs if the maximum tensile stress acting around a wellbore exceed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le strength of the formation. Two types of tensile failure can occur. The first is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ncreasing the wellbore pressure and generating an hydraulic fracture (lost cir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The second type of tensile failure is extensional, where concentric failure surface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round the wellbore if the pressure in the wellbore is reduced and/or if t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 seepage forces due to inflow. This means that material can spall into the wellbore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pushed or dragged” into the wellbore by flowing formation fluids, in an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frictional resistance is reduced because there are no compressive stresses acting (the rad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stresses, at least, are tens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hear failure: </a:t>
            </a:r>
            <a:r>
              <a:rPr b="0" lang="en-US" sz="1200" spc="-1" strike="noStrike">
                <a:solidFill>
                  <a:srgbClr val="000000"/>
                </a:solidFill>
                <a:latin typeface="Times New Roman"/>
              </a:rPr>
              <a:t>In a frictional material, shear failure is governed by the mean stress (arithm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of the principal stresses), the deviatoric stress tensor (representation of the difference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itudes of the in-situ principal stresses) and the shear characteristics of the medium (ofte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r-Coulomb failure envelope, where the governing material parameters are the cohesion -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ent shear strength - and the angle of internal friction). Shear failure can occur in an 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 passiv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atrix/Pore Collapse: </a:t>
            </a:r>
            <a:r>
              <a:rPr b="0" lang="en-US" sz="1200" spc="-1" strike="noStrike">
                <a:solidFill>
                  <a:srgbClr val="000000"/>
                </a:solidFill>
                <a:latin typeface="Times New Roman"/>
              </a:rPr>
              <a:t>This is structural collapse. It is governed by the spherical stress ten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verage) and the matrix isostatic compressive strength (strength under hydrostatic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his failure is associated with a volume reduction and densification of the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 crew may not be able to determine the cause of wellbore failure or wellbore stability, but there are a number of symptoms that stability problems are occurring.  They are listed abo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hales present additional problems from chemical instability.  It is related fundamentally to inadequate mud weight and to the influx of water into the formation, which aggravates instability by increasing the near-wellbore pore pressure and by decreasing shale str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analysis is performed by determining the far-field principal stresses (using whatever methodology is available) calculating the stresses which exists around the wellbore due to this stress field and then then comparing the existing stresses with a failure criterion (representing the strength of the material at particular in-situ stress conditions).  If the stress field concentrated around the wellbore exceeds the failure criterion, yield can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ecessary to define a failure criterion in order to analyze shear failure conditions.  This slide lists five criteria.  It is important to choose one that represents the characteristics of the medium in question.  The Mohr-Coulomb is probably the simplest to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13101-9B6C-4056-AB4E-50BE1BC13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3118-390E-4A16-9FC7-CC553FCE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82532-382B-4252-804E-A4C47242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59146-C15C-4B89-9B1A-0563FC3B3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FB4B0-AEA4-4514-8A12-1F7E54889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43ABD-C363-4F21-AF6C-29E69D0D3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4DF91-23A6-4F61-93CB-10E6C51A0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1B68F-3924-4401-BA44-212EDE29B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E0AD0-14B3-4E5D-BBB4-D05D80EDE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AF5E2-5226-4857-8A3C-A4E58FDE9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34F2-69A5-43B4-9278-E10D134B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9C3FD-7DFB-464C-B844-121E4FDE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A85D-7D2A-4AF5-81ED-EA759A32A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43BDB-D639-486B-92DB-0E573A28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A5AD8-750C-4936-BF31-D85585F82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3857D-A7AB-4900-A5A6-4CC66F4BD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79BB5-18AA-4D94-84FB-7C96BF697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FB1D1-0B60-4BF5-B1DF-C1283200C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1A00F-4CAA-4715-B624-64CD69F0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EE9D-51EC-43D8-83FD-0640C926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14EE-8CE4-4162-84CE-5A654B14F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F9C1-DC26-4B2E-B984-DB5963DB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9431-A2C3-4E58-B000-962838ED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9071-B624-41D2-9F48-14822B666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12-</a:t>
            </a:r>
            <a:fld id="{83FB3C73-B403-42EE-B245-F6F9BD986F7A}"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BC57-4BDE-42B2-88AF-1A6B399387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Wellbore Stability</a:t>
            </a:r>
            <a:endParaRPr b="0" lang="en-US" sz="4800" spc="-1" strike="noStrike">
              <a:solidFill>
                <a:srgbClr val="ffcc66"/>
              </a:solidFill>
              <a:latin typeface="Arial"/>
            </a:endParaRPr>
          </a:p>
        </p:txBody>
      </p:sp>
      <p:sp>
        <p:nvSpPr>
          <p:cNvPr id="96"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12-1</a:t>
            </a:r>
            <a:endParaRPr b="0" lang="en-US" sz="3600" spc="-1" strike="noStrike">
              <a:solidFill>
                <a:srgbClr val="ffffff"/>
              </a:solidFill>
              <a:latin typeface="Times New Roman"/>
            </a:endParaRPr>
          </a:p>
        </p:txBody>
      </p:sp>
      <p:sp>
        <p:nvSpPr>
          <p:cNvPr id="4" name="PlaceHolder 3"/>
          <p:cNvSpPr>
            <a:spLocks noGrp="1"/>
          </p:cNvSpPr>
          <p:nvPr>
            <p:ph type="sldNum" idx="6"/>
          </p:nvPr>
        </p:nvSpPr>
        <p:spPr/>
        <p:txBody>
          <a:bodyPr/>
          <a:p>
            <a:fld id="{7B6F2D03-974F-4187-AF7F-1F2A6CFDC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hr-Coulomb</a:t>
            </a:r>
            <a:endParaRPr b="0" lang="en-US" sz="4400" spc="-1" strike="noStrike">
              <a:solidFill>
                <a:srgbClr val="ffcc66"/>
              </a:solidFill>
              <a:latin typeface="Arial"/>
            </a:endParaRPr>
          </a:p>
        </p:txBody>
      </p:sp>
      <p:sp>
        <p:nvSpPr>
          <p:cNvPr id="11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c</a:t>
            </a:r>
            <a:r>
              <a:rPr b="0" lang="en-US" sz="2800" spc="-1" strike="noStrike" baseline="-25000">
                <a:solidFill>
                  <a:srgbClr val="ffffff"/>
                </a:solidFill>
                <a:latin typeface="Times New Roman"/>
              </a:rPr>
              <a:t>o</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n</a:t>
            </a:r>
            <a:r>
              <a:rPr b="0" lang="en-US" sz="2800" spc="-1" strike="noStrike">
                <a:solidFill>
                  <a:srgbClr val="ffffff"/>
                </a:solidFill>
                <a:latin typeface="Symbol"/>
                <a:ea typeface="Symbol"/>
              </a:rPr>
              <a:t></a:t>
            </a:r>
            <a:r>
              <a:rPr b="0" lang="en-US" sz="2800" spc="-1" strike="noStrike">
                <a:solidFill>
                  <a:srgbClr val="ffffff"/>
                </a:solidFill>
                <a:latin typeface="Times New Roman"/>
              </a:rPr>
              <a:t>tan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shear stress (one-half of the difference between the maximum, and minimum principal stresses)</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 effective normal stress (average of the maximum and minimum effective principal stresses)</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baseline="-25000">
                <a:solidFill>
                  <a:srgbClr val="ffffff"/>
                </a:solidFill>
                <a:latin typeface="Times New Roman"/>
              </a:rPr>
              <a:t>o</a:t>
            </a:r>
            <a:r>
              <a:rPr b="0" lang="en-US" sz="2400" spc="-1" strike="noStrike">
                <a:solidFill>
                  <a:srgbClr val="ffffff"/>
                </a:solidFill>
                <a:latin typeface="Times New Roman"/>
              </a:rPr>
              <a:t>........ cohesion (intercept on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plot), and,</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ngle of internal friction (angle of Mohr-Coulomb locus from th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axis on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plot).</a:t>
            </a:r>
            <a:endParaRPr b="0" lang="en-US" sz="2400" spc="-1" strike="noStrike">
              <a:solidFill>
                <a:srgbClr val="ffffff"/>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54CF02-FE6E-4291-8616-77AAB77FD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0" lang="en-US" sz="4400" spc="-1" strike="noStrike">
                <a:solidFill>
                  <a:srgbClr val="ffcc66"/>
                </a:solidFill>
                <a:latin typeface="Arial"/>
              </a:rPr>
              <a:t>Minimum Tolerable Pressures</a:t>
            </a:r>
            <a:endParaRPr b="0" lang="en-US" sz="4400" spc="-1" strike="noStrike">
              <a:solidFill>
                <a:srgbClr val="ffcc66"/>
              </a:solidFill>
              <a:latin typeface="Arial"/>
            </a:endParaRPr>
          </a:p>
        </p:txBody>
      </p:sp>
      <p:pic>
        <p:nvPicPr>
          <p:cNvPr id="116" name="" descr=""/>
          <p:cNvPicPr/>
          <p:nvPr/>
        </p:nvPicPr>
        <p:blipFill>
          <a:blip r:embed="rId1"/>
          <a:srcRect l="0" t="6402" r="0" b="0"/>
          <a:stretch/>
        </p:blipFill>
        <p:spPr>
          <a:xfrm>
            <a:off x="0" y="1143000"/>
            <a:ext cx="9144000" cy="5570640"/>
          </a:xfrm>
          <a:prstGeom prst="rect">
            <a:avLst/>
          </a:prstGeom>
          <a:ln w="0">
            <a:noFill/>
          </a:ln>
        </p:spPr>
      </p:pic>
      <p:sp>
        <p:nvSpPr>
          <p:cNvPr id="3" name="PlaceHolder 2"/>
          <p:cNvSpPr>
            <a:spLocks noGrp="1"/>
          </p:cNvSpPr>
          <p:nvPr>
            <p:ph type="sldNum" idx="3"/>
          </p:nvPr>
        </p:nvSpPr>
        <p:spPr/>
        <p:txBody>
          <a:bodyPr/>
          <a:p>
            <a:fld id="{895AB11D-248F-4F9F-8DD6-4FE7C1FB72D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ilure Mode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sile Fail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ear Fail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rix/Pore Collaps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7B09D56-DEFC-48B2-BEC9-59413A3570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ymptoms</a:t>
            </a:r>
            <a:endParaRPr b="0" lang="en-US" sz="4400" spc="-1" strike="noStrike">
              <a:solidFill>
                <a:srgbClr val="ffcc66"/>
              </a:solidFill>
              <a:latin typeface="Arial"/>
            </a:endParaRPr>
          </a:p>
        </p:txBody>
      </p:sp>
      <p:sp>
        <p:nvSpPr>
          <p:cNvPr id="100"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The wellbore may slough becaus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ion and/or extension of hydraulic fracture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mobilization of pre-existing faul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Sudden spalling may occur during swabbing or tripping.</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g forces may cause rapid sand produ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Ductile formations such as salt, other evaporites and soft shales can squeeze and restrict the hol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Certain shales can swel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E80641A-0CD1-440B-BAF4-FE3D9EE560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ale Stability</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effected by:</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tim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trate chemistr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nic transpor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hydration (during UB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E39A386-2C0E-4403-B705-FA064994B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ale Stability</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wo most relevant mechanisms ar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hydraulic pressure difference between the wellbore pressure and the shale pore fluid pressu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cal potential differences between the drilling and shale pore fluid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189D0A9-3085-4DF5-AC45-11784BDC1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mectitic Shale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ctile and cre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d wellbore pressure accelerates cre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ly sensitive to mud filtrate’s ionic strengt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bibition can occur with subsequent swelling, and shough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45FB19-A1AD-4357-8F3B-B38B9A176B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mectitic Shale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 gilsonite or polymers can be added to the mud to stabilize these types of shal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ADFB087-E516-4AB6-AB27-4BD3A156C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llitic Shal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quartz content and usually more stable that Smectitic sha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tly more brittle and iner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ssive failure can occur during high pressure drawdown due to the brittleness and stored energy within the pore fluid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5F21310-FE6D-4E60-8C00-0C621EFAD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ilure Criteria</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n Mi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s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hr-Coulom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ker-Prag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ek and Brow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F5C00EA-C3F0-4662-8DE3-82CAB1E13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1:06:16Z</dcterms:created>
  <dc:creator>Jerome Schubert</dc:creator>
  <dc:description/>
  <dc:language>en-US</dc:language>
  <cp:lastModifiedBy>Jerome Schubert</cp:lastModifiedBy>
  <dcterms:modified xsi:type="dcterms:W3CDTF">2003-11-03T00:32:49Z</dcterms:modified>
  <cp:revision>3</cp:revision>
  <dc:subject/>
  <dc:title>Wellbore Stability</dc:title>
</cp:coreProperties>
</file>