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6C3A-93A1-4DC9-A69C-BA384EFF8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B2BB-3521-4561-AE14-A857380C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5E53-9245-4D01-9E60-D73897420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806B-AC1C-4EE5-B7FF-1EB3F26E5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9491-9917-4A70-834E-6219B901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BB65-236A-4ADB-9192-DAD88F5A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0B2F-96CC-4CF0-937D-8E69DB42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5AEB-AFF6-4A46-A4DB-4CFE659D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B5E0-7DCB-455D-84F2-2835AE85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1423-4412-4AEF-94D8-E3E02B6B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BDB9-A42E-42B3-8DEC-627CC7EB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FE09-9FAF-4486-B566-EBD7D759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ECCF-E800-4544-B1E4-AB4B019D2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TICAL APRAISA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ilaian secara kritis,slektif dan detail penilaian terhadap sesuatu untuk menganalisis dan mengevaluas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at bantu untuk memeriksa setiap proses untuk memikirkan apakah proses itu memang tepat dan apaka data alternatif yang lebih bai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KTOR-FAKTOR YANG MEMPENGARUHI EB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kti penelitian yang ba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hlian klinis seorang dok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adaan dan harapan seorang pasi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FAAT DIADAKANYA PB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unculkan keefektifan dan keefesienan ker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antu perkembangn kemmpuan untuk digunakan dalam menemukan menilai dan melaksanakan bukti-bukti dari berbagai s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gembangkan kemampuan untuk menemukan gejala gejala penyakit riwayat pasien kemudian menentukan terapi yang tep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NDALA-KENDALA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B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utuhkan waktu yang lama dan prosesnya lamb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ugas klinik terlalu sibuk dan mempunyai keterbatasan waktu untuk menguasai dan menerapkan kemampuan ba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obaan klinik terkontrol tidak terlalu sempur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abila kita bertanya pada tiga spesialis maka akan didapat tiga atau dua jawaban yang berbe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atu proses untuk menentukan dan men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ai efektifitas dari suatu obat yang dilakukan dengan cara acak dari percobaan terseb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KAH-LANGKAH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2400" spc="-1" strike="noStrike">
                <a:solidFill>
                  <a:srgbClr val="000000"/>
                </a:solidFill>
                <a:latin typeface="Arial"/>
              </a:rPr>
              <a:t>inform concent (persetujuan setelah mendapatkan penjelas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2400" spc="-1" strike="noStrike">
                <a:solidFill>
                  <a:srgbClr val="000000"/>
                </a:solidFill>
                <a:latin typeface="Arial"/>
              </a:rPr>
              <a:t>etical clear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2400" spc="-1" strike="noStrike">
                <a:solidFill>
                  <a:srgbClr val="000000"/>
                </a:solidFill>
                <a:latin typeface="Arial"/>
              </a:rPr>
              <a:t>penelit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entukan luas populasi penelitian yang akan dilakuk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entukan sifat atau kualitas popul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entukan sumber informasi tentang popul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entukan batasan sampel serta karakteristik yang ingin diteliti yang terdapat didalam sam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entukan besarnya sample dengan rumus-rumus yang sesu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entukan teknik sampling yang sesu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CT dibagi menjadi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blind yaitu yang di uji tidak tah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ble blind yaitu yang di uji dan pelaksana yang tidak ta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ple blind yaitu yang di uji,pelaksana dan juga peneliti yang tidak ta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GKAH-LANGKAH CRITICAL APPRAIS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yiapkan sesi analisis krit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gidentifikasi proses yang perlu diperba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FAAT CRITICAL APPRAIS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ingkatkan daya analisis krit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entukan alternatif yang lebih bai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unculkan banyak pertanyaan yang bar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si yang diproleh lebih detail dan lebih pa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peroleh kebenaran darisuatu inform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JUAN CRITICAL APPRAIS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hubungan dengan tujuan kegiatan yang di periksa sera tempatnya tahapanya dan sebagainya ada berapa pertanyaan yang harus dipikirkan dan dijawa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MPAK POSITI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dak mudah terpengaru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dak membedakan baik dengan yang sala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pat mengambil keputusan yang akur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MPAK NEGATI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lalu lama menkaji dan memutuskan suatu informas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JUAN EB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untuk mengembangakn kemampuan berpikir kr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menghasilkan pemikiran yang aku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pemeriksaannya secara teliti agar diagnosisnya tepat untuk memperoleh penyembuhan penyak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KAH –LANGKAH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PB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mengubah keluhan atau gejala pada pasien menjadi pertanyaan untuk mencari informasi yang spesifik (termasuk dalam anamnesis, pemeriksaan fisik, tes diagosis, diagnos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mencari best evidence untuk menjawab pertanyaan dari taha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menilai secara kritis fakta-fakta yang diperoleh dari sudut keabsahan, manfaat dan kemungkinan untuk diterapk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terapkan pada pasien setelah mengintegrasikan penilaian kritis denagn critical expertise dan keadaan yang unik dri pas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evaluasi efektifitas dan efisiensi pada tahap1-4 untuk suatu kemaju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ASAN DIADAKANYA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B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gimbangi IPT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udahkan dalam mengambil suatu  keputusan untuk menyelesaikan masalah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2T01:00:37Z</dcterms:created>
  <dc:creator>user</dc:creator>
  <dc:description/>
  <dc:language>en-US</dc:language>
  <cp:lastModifiedBy>user</cp:lastModifiedBy>
  <dcterms:modified xsi:type="dcterms:W3CDTF">2008-10-25T10:02:31Z</dcterms:modified>
  <cp:revision>16</cp:revision>
  <dc:subject/>
  <dc:title>PENGERTIAN  EBM</dc:title>
</cp:coreProperties>
</file>