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DB9-F60C-4181-B4ED-AC0701FE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4B7-8A1E-43E2-A285-A0EEA27B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701-F25F-4873-BB14-77ACEE16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E95-4FA9-4A6F-8758-3AD1B059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646-CCCD-4F50-8E78-7DFD1D92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396-5FD8-4811-9AAE-19682016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1D9-D71C-49A8-8C41-8E1E9997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EDC-0CC7-46DF-8E7A-544415F3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489-68A4-418C-8BFB-FAD5983E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DB6-452E-402C-98F8-078EB11F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826-B420-48AC-873F-6A1A3C6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12B-0247-44A0-9161-4862673D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A4AB-65CB-4A21-8097-7A4893DC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APRAIS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laian secara kritis,slektif dan detail penilaian terhadap sesuatu untuk menganalisis dan mengevalua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t bantu untuk memeriksa setiap proses untuk memikirkan apakah proses itu memang tepat dan apaka data alternatif yang lebih ba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KTOR-FAKTOR YANG MEMPENGARUHI EB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kti penelitian yang ba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hlian klinis seorang do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adaan dan harapan seorang pasi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FAAT DIADAKANYA P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unculkan keefektifan dan keefesienan ker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antu perkembangn kemmpuan untuk digunakan dalam menemukan menilai dan melaksanakan bukti-bukti dari berbagai s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embangkan kemampuan untuk menemukan gejala gejala penyakit riwayat pasien kemudian menentukan terapi yang te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DALA-KENDAL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utuhkan waktu yang lama dan prosesnya lamb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ugas klinik terlalu sibuk dan mempunyai keterbatasan waktu untuk menguasai dan menerapkan kemampuan ba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obaan klinik terkontrol tidak terlalu sempu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bila kita bertanya pada tiga spesialis maka akan didapat tiga atau dua jawaban yang berb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atu proses untuk menentukan dan men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i efektifitas dari suatu obat yang dilakukan dengan cara acak dari percobaan terse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-LANGKAH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inform concent (persetujuan setelah mendapatkan penjelas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etical clea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penelit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luas populasi penelitian yang akan dilaku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sifat atau kualitas popul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sumber informasi tentang popul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batasan sampel serta karakteristik yang ingin diteliti yang terdapat didalam sam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besarnya sample dengan rumus-rumus yang ses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teknik sampling yang ses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CT dibagi menjadi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blind yaitu yang di uji tidak ta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blind yaitu yang di uji dan pelaksana yang tidak t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 blind yaitu yang di uji,pelaksana dan juga peneliti yang tidak t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KAH-LANGKAH CRITICAL APPRAIS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iapkan sesi analisis kr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identifikasi proses yang perlu diperba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FAAT CRITICAL APPRAIS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ingkatkan daya analisis kr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entukan alternatif yang lebih bai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unculkan banyak pertanyaan yang ba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si yang diproleh lebih detail dan lebih pa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peroleh kebenaran darisuatu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JUAN CRITICAL APPRAI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hubungan dengan tujuan kegiatan yang di periksa sera tempatnya tahapanya dan sebagainya ada berapa pertanyaan yang harus dipikirkan dan dijaw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PAK POSI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k mudah terpengaru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k membedakan baik dengan yang sal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pat mengambil keputusan yang akur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PAK NEGA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lalu lama menkaji dan memutuskan suatu inform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JUAN EB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untuk mengembangakn kemampuan berpikir k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enghasilkan pemikiran yang aku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emeriksaannya secara teliti agar diagnosisnya tepat untuk memperoleh penyembuhan penya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–LANGKA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gubah keluhan atau gejala pada pasien menjadi pertanyaan untuk mencari informasi yang spesifik (termasuk dalam anamnesis, pemeriksaan fisik, tes diagosis, diagno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cari best evidence untuk menjawab pertanyaan dari taha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ilai secara kritis fakta-fakta yang diperoleh dari sudut keabsahan, manfaat dan kemungkinan untuk diterap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terapkan pada pasien setelah mengintegrasikan penilaian kritis denagn critical expertise dan keadaan yang unik dri pas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valuasi efektifitas dan efisiensi pada tahap1-4 untuk suatu kemaj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SAN DIADAKANY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imbangi IPT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udahkan dalam mengambil suatu  keputusan untuk menyelesaikan masala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1:00:37Z</dcterms:created>
  <dc:creator>user</dc:creator>
  <dc:description/>
  <dc:language>en-US</dc:language>
  <cp:lastModifiedBy>user</cp:lastModifiedBy>
  <dcterms:modified xsi:type="dcterms:W3CDTF">2008-10-25T10:02:31Z</dcterms:modified>
  <cp:revision>16</cp:revision>
  <dc:subject/>
  <dc:title>PENGERTIAN  EBM</dc:title>
</cp:coreProperties>
</file>