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19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Nachtigall_Serenade20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46B-D69F-464F-8AB1-4FFB4F92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6D7-CC6A-4FBE-A6D7-9D581018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CBD-BA89-4F0C-9B49-EA479642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B92-010C-45BC-BB7C-46D9358C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248-D507-4C24-9A2D-208A2332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AA9-3528-4C31-9F69-B47978C8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ABF-411B-45CF-B958-EC2DCF20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A9E-B001-40C9-BBC7-BD0BCDEF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4A3-3E69-4C39-AC2B-ABC311A3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A4C-0D40-47E1-B228-2F1E7066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BC6-28FF-4E02-980B-6C82F6F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D92-739C-43BE-81FE-EC972BE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C3EA-ADF8-4357-95D4-49A08C937119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achtigall_Serenade20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56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800" spc="-1" strike="noStrike">
                <a:solidFill>
                  <a:srgbClr val="ffcc00"/>
                </a:solidFill>
                <a:latin typeface="Arial"/>
              </a:rPr>
              <a:t>Music :  Nightengale Serenade  (Sérénade du rossign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-792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Friendship  Bouq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83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9900"/>
                </a:solidFill>
                <a:latin typeface="Arial"/>
              </a:rPr>
              <a:t>BOUQUET DE L’AMIT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  <p:sndAc>
      <p:stSnd>
        <p:snd r:embed="rId2" name="Nachtigall_Serenade2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92720" y="26028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Always remember the compliments that you rece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Forget about the rude re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1600200"/>
            <a:ext cx="23050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Souviens-toi toujours des compliments reç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Oublie les remarques désoblige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2280" y="457200"/>
            <a:ext cx="55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lways remember… when life hands you a lem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lways ask for sugar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2952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Souviens-toi toujours… lorsque la vie te donne un citron, sache en faire une limonade </a:t>
            </a:r>
            <a:r>
              <a:rPr b="0" i="1" lang="fr-CA" sz="2000" spc="-1" strike="noStrike">
                <a:solidFill>
                  <a:srgbClr val="ffffff"/>
                </a:solidFill>
                <a:latin typeface="Arial"/>
              </a:rPr>
              <a:t>(ad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43400" y="3808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66ff"/>
                </a:solidFill>
                <a:latin typeface="Arial"/>
              </a:rPr>
              <a:t>Good friends are like stars, you don’t always see th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66ff"/>
                </a:solidFill>
                <a:latin typeface="Arial"/>
              </a:rPr>
              <a:t>but you know they are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1700280"/>
            <a:ext cx="37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9933ff"/>
                </a:solidFill>
                <a:latin typeface="Arial"/>
              </a:rPr>
              <a:t>Les bons ami(e)s sont comme les étoiles, tu ne les vois pas toujours, mais tu sais qu’ils sont l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-438120"/>
            <a:ext cx="9577440" cy="7296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22860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I would rather have one rose and a kind word from a Friend while I am here, than a whole truckload when I am g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152280"/>
            <a:ext cx="324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ff"/>
                </a:solidFill>
                <a:latin typeface="American Classic Extra Bold"/>
              </a:rPr>
              <a:t>Je préfère recevoir une rose et un mot gentil d’un ami tant que je suis en vie, plutôt qu’un plein camion quand je n’y serai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3808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Happiness keeps you swe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rials keep you st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orrows keep you Hum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Life keeps you hu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3480" y="2152800"/>
            <a:ext cx="30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95480" y="2152800"/>
            <a:ext cx="124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048120"/>
            <a:ext cx="25923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Le bonheur te rend ai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Les épreuves te rendent 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La douleur te rend hu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La vie te garde hum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423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cc"/>
                </a:solidFill>
                <a:latin typeface="Arial"/>
              </a:rPr>
              <a:t>Success keeps you glow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cc"/>
                </a:solidFill>
                <a:latin typeface="Arial"/>
              </a:rPr>
              <a:t>but, only Friends keep you g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685800"/>
            <a:ext cx="37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66cc"/>
                </a:solidFill>
                <a:latin typeface="Arial"/>
              </a:rPr>
              <a:t>Le succès te rend rayonnant, mais seul(e)s les amis(e)s t’aident à ava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5164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68580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Forward this to your friends, and don’t tell me that you are too busy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Don’t you know the phrase : “stop and smell the flowers”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5410080"/>
            <a:ext cx="579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9900"/>
                </a:solidFill>
                <a:latin typeface="Arial"/>
              </a:rPr>
              <a:t>Fais suivre ce diaporama  à tes ami(e)s, et ne me dis pas que tu es trop occupé pour cela ! Ne connais-tu pas l’expression : « arrête-toi pour respirer le parfum des fleur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809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1a15"/>
                </a:solidFill>
                <a:latin typeface="Arial"/>
              </a:rPr>
              <a:t>To my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1a15"/>
                </a:solidFill>
                <a:latin typeface="Arial"/>
              </a:rPr>
              <a:t>for whom I will always find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8769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À mes ami(e)s, pour qui je trouverai toujours le te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1364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ou may not realize this – but the following is 100 %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nk about some part of it da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990720"/>
            <a:ext cx="3276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Tu peux ne pas en avoir conscience mais ce qui suit est vrai à 10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Pense chaque jour à certains de ces mo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re are at least 2 people in this world who you would die for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d …  at least 15 people in this world who love you in som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0666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Il y a au moins, en ce monde, 2 personnes qui donneraient leur vie pour toi </a:t>
            </a:r>
            <a:br>
              <a:rPr sz="2000"/>
            </a:b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et au moins 15 personnes qui, d’une certaine manière, t’a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0492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only reason that anyone would ever hate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s because they want to be just lik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22860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La seule raison pour laquelle quelqu’un pourrait te haïr, c’est parce qu’il voudrait être comme to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396252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smile from you can bring happiness to anyo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ven if they do not lik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5029200"/>
            <a:ext cx="381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Un sourire de toi peut apporter du bonheur à n’importe qui, même s’il ne te connais pas assez pour t’apprécier ou ai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08360" y="49680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5651d"/>
                </a:solidFill>
                <a:latin typeface="Arial"/>
              </a:rPr>
              <a:t>Every night, SOMEONE thinks about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5651d"/>
                </a:solidFill>
                <a:latin typeface="Arial"/>
              </a:rPr>
              <a:t>You mean “the world” to some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601992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Chaque nuit, quelqu’un pense à toi.                    Tu représentes « le monde » pour quelqu’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2080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ou are special and u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meone you don’t even know loves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990720"/>
            <a:ext cx="4038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Tu es spécial(e) et u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Bien que tu n’en saches rien, quelqu’un t’a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71280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When you make the biggest mistake 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something good comes from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72428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cc3300"/>
                </a:solidFill>
                <a:latin typeface="Arial"/>
              </a:rPr>
              <a:t>Quand tu fais la pire erreur de ta vie, quelque chose de bon en déco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15228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think the World has turned it’s back on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ke another l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29528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Quand tu penses que le monde entier t’a tourné le dos, regarde à nouveau, différem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21:54:42Z</dcterms:created>
  <dc:creator>Biddy.Bid...NZ</dc:creator>
  <dc:description/>
  <dc:language>en-US</dc:language>
  <cp:lastModifiedBy>Smets</cp:lastModifiedBy>
  <dcterms:modified xsi:type="dcterms:W3CDTF">2010-10-22T03:41:26Z</dcterms:modified>
  <cp:revision>16</cp:revision>
  <dc:subject/>
  <dc:title>Slide 1</dc:title>
</cp:coreProperties>
</file>