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19.gif" ContentType="image/gif"/>
  <Override PartName="/ppt/media/image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0.gif" ContentType="image/gif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Nachtigall_Serenade20.wav" ContentType="audio/x-wav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662D-F2F1-4EC1-BDB3-A0AC07A71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212E-4010-4D6B-BA92-B9A6268A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AB4D-A204-4B16-BF39-23D5C0EDB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C803-9BE7-4DBD-B3E0-53F7A4B91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43A1-6820-41C7-A104-F774DD97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E03A-9905-4977-891D-A8FB4F42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9372-1AB3-47C5-8A39-F45129223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59B6-F30D-46EE-A845-BEAFD1D9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296A-AB08-4A3E-A802-5985BC90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7309-F493-4899-AE15-D7394B12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6D1F-B9F3-448E-B28A-8ED15B1D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473A-F29D-477A-A359-AB0FD67B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A1A1-E984-4F16-B0B2-EBF2373516AE}" type="slidenum">
              <a:rPr b="0" lang="de-C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Nachtigall_Serenade20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62564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800" spc="-1" strike="noStrike">
                <a:solidFill>
                  <a:srgbClr val="ffcc00"/>
                </a:solidFill>
                <a:latin typeface="Arial"/>
              </a:rPr>
              <a:t>Music :  Nightengale Serenade  (Sérénade du rossign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-7920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00"/>
                </a:solidFill>
                <a:latin typeface="Arial"/>
              </a:rPr>
              <a:t>Friendship  Bouqu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5640" y="836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9900"/>
                </a:solidFill>
                <a:latin typeface="Arial"/>
              </a:rPr>
              <a:t>BOUQUET DE L’AMITI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in"/>
    <p:sndAc>
      <p:stSnd>
        <p:snd r:embed="rId2" name="Nachtigall_Serenade20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292720" y="260280"/>
            <a:ext cx="38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Arial"/>
              </a:rPr>
              <a:t>Always remember the compliments that you recei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Arial"/>
              </a:rPr>
              <a:t>Forget about the rude remar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3080" y="1600200"/>
            <a:ext cx="230508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Arial"/>
              </a:rPr>
              <a:t>Souviens-toi toujours des compliments reç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Arial"/>
              </a:rPr>
              <a:t>Oublie les remarques désoblige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101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52280" y="457200"/>
            <a:ext cx="55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lways remember… when life hands you a lem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lways ask for sugar 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12952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Arial"/>
              </a:rPr>
              <a:t>Souviens-toi toujours… lorsque la vie te donne un citron, sache en faire une limonade </a:t>
            </a:r>
            <a:r>
              <a:rPr b="0" i="1" lang="fr-CA" sz="2000" spc="-1" strike="noStrike">
                <a:solidFill>
                  <a:srgbClr val="ffffff"/>
                </a:solidFill>
                <a:latin typeface="Arial"/>
              </a:rPr>
              <a:t>(adag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343400" y="38088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66ff"/>
                </a:solidFill>
                <a:latin typeface="Arial"/>
              </a:rPr>
              <a:t>Good friends are like stars, you don’t always see the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66ff"/>
                </a:solidFill>
                <a:latin typeface="Arial"/>
              </a:rPr>
              <a:t>but you know they are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35640" y="1700280"/>
            <a:ext cx="370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9933ff"/>
                </a:solidFill>
                <a:latin typeface="Arial"/>
              </a:rPr>
              <a:t>Les bons ami(e)s sont comme les étoiles, tu ne les vois pas toujours, mais tu sais qu’ils sont là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2280" y="-438120"/>
            <a:ext cx="9577440" cy="7296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57200" y="22860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Arial"/>
              </a:rPr>
              <a:t>I would rather have one rose and a kind word from a Friend while I am here, than a whole truckload when I am g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152280"/>
            <a:ext cx="324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ffff"/>
                </a:solidFill>
                <a:latin typeface="American Classic Extra Bold"/>
              </a:rPr>
              <a:t>Je préfère recevoir une rose et un mot gentil d’un ami tant que je suis en vie, plutôt qu’un plein camion quand je n’y serai pl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52280" y="380880"/>
            <a:ext cx="41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Happiness keeps you swee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Trials keep you stro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Sorrows keep you Huma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Life keeps you hum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63480" y="2152800"/>
            <a:ext cx="3044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95480" y="2152800"/>
            <a:ext cx="1244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048120"/>
            <a:ext cx="259236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ff"/>
                </a:solidFill>
                <a:latin typeface="Arial"/>
              </a:rPr>
              <a:t>Le bonheur te rend aim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ff"/>
                </a:solidFill>
                <a:latin typeface="Arial"/>
              </a:rPr>
              <a:t>Les épreuves te rendent f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ff"/>
                </a:solidFill>
                <a:latin typeface="Arial"/>
              </a:rPr>
              <a:t>La douleur te rend hum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ff"/>
                </a:solidFill>
                <a:latin typeface="Arial"/>
              </a:rPr>
              <a:t>La vie te garde hum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95280" y="42372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cc"/>
                </a:solidFill>
                <a:latin typeface="Arial"/>
              </a:rPr>
              <a:t>Success keeps you glowin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cc"/>
                </a:solidFill>
                <a:latin typeface="Arial"/>
              </a:rPr>
              <a:t>but, only Friends keep you go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52880" y="685800"/>
            <a:ext cx="378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66cc"/>
                </a:solidFill>
                <a:latin typeface="Arial"/>
              </a:rPr>
              <a:t>Le succès te rend rayonnant, mais seul(e)s les amis(e)s t’aident à avanc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45164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67080" y="685800"/>
            <a:ext cx="47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Forward this to your friends, and don’t tell me that you are too busy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Don’t you know the phrase : “stop and smell the flowers”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52680" y="5410080"/>
            <a:ext cx="5791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9900"/>
                </a:solidFill>
                <a:latin typeface="Arial"/>
              </a:rPr>
              <a:t>Fais suivre ce diaporama  à tes ami(e)s, et ne me dis pas que tu es trop occupé pour cela ! Ne connais-tu pas l’expression : « arrête-toi pour respirer le parfum des fleurs »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38098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1a15"/>
                </a:solidFill>
                <a:latin typeface="Arial"/>
              </a:rPr>
              <a:t>To my fri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1a15"/>
                </a:solidFill>
                <a:latin typeface="Arial"/>
              </a:rPr>
              <a:t>for whom I will always find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487692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À mes ami(e)s, pour qui je trouverai toujours le tem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blipFill rotWithShape="0">
            <a:blip r:embed="rId2">
              <a:alphaModFix amt="48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 spd="slow">
    <p:zoom dir="in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500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25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79280" y="13644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You may not realize this – but the following is 100 % tr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ink about some part of it dai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15000" y="990720"/>
            <a:ext cx="3276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Arial"/>
              </a:rPr>
              <a:t>Tu peux ne pas en avoir conscience mais ce qui suit est vrai à 100 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Arial"/>
              </a:rPr>
              <a:t>Pense chaque jour à certains de ces mot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ere are at least 2 people in this world who you would die for yo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nd …  at least 15 people in this world who love you in some 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1066680"/>
            <a:ext cx="685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Arial"/>
              </a:rPr>
              <a:t>Il y a au moins, en ce monde, 2 personnes qui donneraient leur vie pour toi </a:t>
            </a:r>
            <a:br>
              <a:rPr sz="2000"/>
            </a:br>
            <a:r>
              <a:rPr b="0" lang="fr-CA" sz="2000" spc="-1" strike="noStrike">
                <a:solidFill>
                  <a:srgbClr val="ffffff"/>
                </a:solidFill>
                <a:latin typeface="Arial"/>
              </a:rPr>
              <a:t>et au moins 15 personnes qui, d’une certaine manière, t’ai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304920"/>
            <a:ext cx="37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e only reason that anyone would ever hate yo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s because they want to be just like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228600"/>
            <a:ext cx="367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Arial"/>
              </a:rPr>
              <a:t>La seule raison pour laquelle quelqu’un pourrait te haïr, c’est parce qu’il voudrait être comme to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4920" y="3962520"/>
            <a:ext cx="33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 smile from you can bring happiness to anyon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ven if they do not like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5029200"/>
            <a:ext cx="3810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Arial"/>
              </a:rPr>
              <a:t>Un sourire de toi peut apporter du bonheur à n’importe qui, même s’il ne te connais pas assez pour t’apprécier ou aim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708360" y="496800"/>
            <a:ext cx="54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5651d"/>
                </a:solidFill>
                <a:latin typeface="Arial"/>
              </a:rPr>
              <a:t>Every night, SOMEONE thinks about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5651d"/>
                </a:solidFill>
                <a:latin typeface="Arial"/>
              </a:rPr>
              <a:t>You mean “the world” to some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6019920"/>
            <a:ext cx="601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Chaque nuit, quelqu’un pense à toi.                    Tu représentes « le monde » pour quelqu’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216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79280" y="20808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You are special and uni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omeone you don’t even know loves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990720"/>
            <a:ext cx="40384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ff"/>
                </a:solidFill>
                <a:latin typeface="Arial"/>
              </a:rPr>
              <a:t>Tu es spécial(e) et uni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ff"/>
                </a:solidFill>
                <a:latin typeface="Arial"/>
              </a:rPr>
              <a:t>Bien que tu n’en saches rien, quelqu’un t’a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50920" y="712800"/>
            <a:ext cx="50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3300"/>
                </a:solidFill>
                <a:latin typeface="Arial"/>
              </a:rPr>
              <a:t>When you make the biggest mistake ev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3300"/>
                </a:solidFill>
                <a:latin typeface="Arial"/>
              </a:rPr>
              <a:t>something good comes from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4724280"/>
            <a:ext cx="338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cc3300"/>
                </a:solidFill>
                <a:latin typeface="Arial"/>
              </a:rPr>
              <a:t>Quand tu fais la pire erreur de ta vie, quelque chose de bon en déco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-8568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3520" y="152280"/>
            <a:ext cx="396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en you think the World has turned it’s back on yo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ake another lo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1295280"/>
            <a:ext cx="4038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Quand tu penses que le monde entier t’a tourné le dos, regarde à nouveau, différem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21:54:42Z</dcterms:created>
  <dc:creator>Biddy.Bid...NZ</dc:creator>
  <dc:description/>
  <dc:language>en-US</dc:language>
  <cp:lastModifiedBy>Smets</cp:lastModifiedBy>
  <dcterms:modified xsi:type="dcterms:W3CDTF">2010-10-22T03:41:26Z</dcterms:modified>
  <cp:revision>16</cp:revision>
  <dc:subject/>
  <dc:title>Slide 1</dc:title>
</cp:coreProperties>
</file>