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C217-9C7C-4F07-8D9D-CFFB833ED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25C3-38ED-4021-AB81-BD3DB5F8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7233-1B33-4FD1-A11B-318537A72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58DB-C711-485C-8199-69C243BB7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955D4-F3BB-4C93-9386-A562628E7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77ACB-8A54-438D-8D1C-C241B55A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BE79-F5F3-4A36-A51E-46AF50D6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810B-615B-4B64-821D-E53F50A1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77AA-381A-4176-A557-ACC28C45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B150-3445-4B39-B1CD-49E69774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FED1-003D-4EEB-9921-C5B98EE2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C670-3971-4468-927E-9C5C75EE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A2B0-367C-446D-853F-7EF9CC4D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FF42-02C1-459E-90F3-5BFD1EAF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C019-1CD6-4912-8434-1179C3E1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B4F4-661B-42E4-8D16-8F759382C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17A9-0410-4755-A235-7F41965A5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3F1A-A937-47E4-8C42-B6FA2BE0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DAB3-B31F-4EE0-A301-ED5D6168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C363-B2DF-4D3B-AB67-D325A80A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6D40-8B6F-47EA-B6C7-6757C6E4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AF4B-6FCD-495D-B7B3-7CE18065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0D0E-DF36-4E7B-BEB2-3B3BB16C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B66F-70BF-494F-B391-94A769F5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2210-05C4-4EB8-B8C2-F07714A8DE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4F6F-F747-4491-BA9C-798C9A194F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1828800"/>
            <a:ext cx="7086600" cy="2209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TETANUS PADA ANAK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gian Ilmu Penyakit Ana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K U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ejala Klini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tensi ur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ktur kolumna vertebral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as biasanya tidak tinggi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ejala Klini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urut beratnya gejala dapat dibedakan 3 stadium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smus (3 cm) tanpa kejang tonik umu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skipun dirangsa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smus (≤3 cm) dengan kejang tonik umum bil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angsa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smus (1 cm) dengan kejang tonik umu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nt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AMBA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baby with tetanus"/>
          <p:cNvPicPr/>
          <p:nvPr/>
        </p:nvPicPr>
        <p:blipFill>
          <a:blip r:embed="rId1"/>
          <a:stretch/>
        </p:blipFill>
        <p:spPr>
          <a:xfrm>
            <a:off x="838080" y="2362320"/>
            <a:ext cx="3581640" cy="2577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slide03a"/>
          <p:cNvPicPr/>
          <p:nvPr/>
        </p:nvPicPr>
        <p:blipFill>
          <a:blip r:embed="rId2"/>
          <a:stretch/>
        </p:blipFill>
        <p:spPr>
          <a:xfrm>
            <a:off x="4648320" y="2362320"/>
            <a:ext cx="38862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IAGNOSTI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valuasi Klinis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mnesis yang terarah dan teliti selain membantu menjelaskan gejala klinis yang kita hadapi juga mempunyai arti diagnostik dan prognostik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emeriksaan Laboratorium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dak kh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IAGNOSA BAND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es parafaring, abses retrofaring, atau abses gig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racunan strikn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pokalsem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ksi obat lain, misalnya phenothiazine dan metoclopram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ENGOBATA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 ser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S 20.000 U/hari selama 2 hari berturut-turut (IM), didahului uji kulit dan m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 konvulsan dan penena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zepam 10 mg intravena untuk anak (dosis diazepam untuk anak 0,3 mg/kgbb/kali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la respon (+), dipertahankan 3-5 hari dan diturunkan secara bertahap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ENGOBATA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 konvulsan dan penena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la respon (-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→ rawat di ICU dengan bius total dgn bantuan ventilator mekani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bioti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1000" indent="0">
              <a:spcBef>
                <a:spcPts val="799"/>
              </a:spcBef>
              <a:buNone/>
              <a:tabLst>
                <a:tab algn="l" pos="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isilin prokain 50.000-100.000/kgbb/hari selama 7 har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ENGOBATA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awatan luka (port d’entrée) dgn peroksida dan nekroto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olasi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cukupi kebutuhan cairan dan nutris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la perlu diberikan oksig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OMPLIKASI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neumonia aspira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fiksi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elektasis karena obstruksi oleh sekr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ktur kompres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OGNOSI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a inkubasi &lt; 7 ha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a lebih muda dan usia lanj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kuensi kejang yang tingg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hu tubuh yang tingg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gobatan yang terlamb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ak jenis luka dan luas kerusakan jaring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 of onset yang pende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sme otot pernafasan dan obstruksi saluran pernafas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endahulua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tanus adalah penyakit akut dan sering fatal, dengan karakteristik diikuti kekakuan diseluruh tubuh dan kejang pada oto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ENCEGAHA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cegahnya terjadi lu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awatan lu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S profilaksis (&lt; 6 jam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unisasi akti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ntikan antitoksin dan toksoid bila luka yg berat dgn riwayat imunisasi 4 thn yg lalu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WordArt 4"/>
          <p:cNvSpPr txBox="1"/>
          <p:nvPr/>
        </p:nvSpPr>
        <p:spPr>
          <a:xfrm>
            <a:off x="2286000" y="2286000"/>
            <a:ext cx="4419720" cy="2076480"/>
          </a:xfrm>
          <a:prstGeom prst="rect">
            <a:avLst/>
          </a:prstGeom>
        </p:spPr>
        <p:txBody>
          <a:bodyPr wrap="none" lIns="90000" rIns="90000" tIns="46800" bIns="46800" anchor="t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ERIMAKASIH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efinisi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tanus (lock jaw) adalah penyakit akut, paralitik spastik tanpa disertai gangguan kesadaran , yang disebabkan oleh eksotoksin (tetanospasmin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tiologi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tridium tetani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rbentuk batang dan bulat diujung  (drumstic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m posit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ligat anaer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mbuh bila oksidasi-reduksi (Eh) yang renda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tiologi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kubasi 5 – 14 ha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ksotoks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bentuk spo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dup di tanah peternakan dan usus binata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Clostridium tetani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9" name="Picture 4" descr="clostridium"/>
          <p:cNvPicPr/>
          <p:nvPr/>
        </p:nvPicPr>
        <p:blipFill>
          <a:blip r:embed="rId1"/>
          <a:stretch/>
        </p:blipFill>
        <p:spPr>
          <a:xfrm>
            <a:off x="1295280" y="2222640"/>
            <a:ext cx="686448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atogenesi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t d’entrée (E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↓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muskular junction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kso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→ kornu anterior m. spinalis → Inhibisi glisin &amp; GABA → sal.anion tdk terbuka → eksitasi neuron post sinaptik → spasme pd otot agonis dan antagon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ejala Klini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lam 48 jam dgn gejala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sm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ku kudu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tegangan otot dinding per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jang toni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sus sardonic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ejala Klini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sukaran menelan, gelisah, mudah terangsang, nyeri kepala, nyeri anggota bad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istotnus, ekstremitas inferior dalam keadaan ekstensi, lengan kaku dan tangan mengepal ku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fiksia dan sianos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13:40:24Z</dcterms:created>
  <dc:creator>Ola</dc:creator>
  <dc:description/>
  <dc:language>en-US</dc:language>
  <cp:lastModifiedBy>fk-uki</cp:lastModifiedBy>
  <dcterms:modified xsi:type="dcterms:W3CDTF">2011-12-09T04:14:36Z</dcterms:modified>
  <cp:revision>7</cp:revision>
  <dc:subject/>
  <dc:title>TETANUS pada ANAK</dc:title>
</cp:coreProperties>
</file>