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BDE-0252-407F-95E8-3EC9F66A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3F1-8FA5-4078-A36F-6275E193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085-E2A6-4331-9D76-042D96CC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7C36-CB09-4442-8B98-37EA0FDC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6682-6C6E-4897-93E5-2229C8E8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79DC-A202-4A57-8623-EECF83EE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1243-E745-42C6-ADB6-0445463D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5777-BF0D-4E02-89BE-094E5934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0324-DECB-4A69-B005-B51C6EB4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E67F-450F-4006-9BC3-63699048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5A51-96D8-403A-9DC5-73E5542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3B3-B325-4AE7-9134-0306E589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D4B8-7AD6-477A-A145-ADCE9751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DEA5-B376-4DC0-A5D0-F023B1B7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E11C-A9EE-4A80-8735-A0196E4A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28A9-F678-4382-B761-071BA16E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6C80-2402-4C43-A28C-B97F48EC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007-8C7F-44D4-9C59-6B609ACF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947-A5B0-470E-BD39-B08A4C63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ECE-B30F-4AC4-ACF6-483C11DE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16D-F5DB-4A1C-9E51-D5DA7F96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51C-C08E-4970-9F58-B853E656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4FA-E0A8-49D2-B926-5D090743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F0D6-C6A1-4DB9-898D-F87CF608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CB13-4300-4636-90A7-85AD78CD46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B434-E6EB-4F31-9ACC-334BAAA5B3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ETANUS PADA ANAK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ian Ilmu Penyakit Ana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K U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jala Klin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ensi ur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ktur kolumna vertebra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as biasanya tidak tinggi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jala Klin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urut beratnya gejala dapat dibedakan 3 stadium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smus (3 cm) tanpa kejang tonik umu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kipun dirangs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smus (≤3 cm) dengan kejang tonik umum bil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angs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smus (1 cm) dengan kejang tonik umu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MB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baby with tetanus"/>
          <p:cNvPicPr/>
          <p:nvPr/>
        </p:nvPicPr>
        <p:blipFill>
          <a:blip r:embed="rId1"/>
          <a:stretch/>
        </p:blipFill>
        <p:spPr>
          <a:xfrm>
            <a:off x="838080" y="2362320"/>
            <a:ext cx="3581640" cy="2577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lide03a"/>
          <p:cNvPicPr/>
          <p:nvPr/>
        </p:nvPicPr>
        <p:blipFill>
          <a:blip r:embed="rId2"/>
          <a:stretch/>
        </p:blipFill>
        <p:spPr>
          <a:xfrm>
            <a:off x="4648320" y="23623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AGNOSTI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valuasi Klini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mnesis yang terarah dan teliti selain membantu menjelaskan gejala klinis yang kita hadapi juga mempunyai arti diagnostik dan prognosti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meriksaan Laboratorium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kh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AGNOSA BAN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s parafaring, abses retrofaring, atau abses gi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acunan strikn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pokalsem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ksi obat lain, misalnya phenothiazine dan metoclopram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NGOBAT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 se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S 20.000 U/hari selama 2 hari berturut-turut (IM), didahului uji kulit dan m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 konvulsan dan penen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zepam 10 mg intravena untuk anak (dosis diazepam untuk anak 0,3 mg/kgbb/kali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a respon (+), dipertahankan 3-5 hari dan diturunkan secara bertahap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NGOBAT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 konvulsan dan penen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a respon (-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rawat di ICU dengan bius total dgn bantuan ventilator mekani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biot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0">
              <a:spcBef>
                <a:spcPts val="799"/>
              </a:spcBef>
              <a:buNone/>
              <a:tabLst>
                <a:tab algn="l" pos="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isilin prokain 50.000-100.000/kgbb/hari selama 7 har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NGOBAT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awatan luka (port d’entrée) dgn peroksida dan nekroto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si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cukupi kebutuhan cairan dan nutris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a perlu diberikan oksi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MPLIKAS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eumonia aspir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fiks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elektasis karena obstruksi oleh sekr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ktur kompres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GN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a inkubasi &lt; 7 ha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a lebih muda dan usia lanj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kuensi kejang yang ting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hu tubuh yang ting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obatan yang terlam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ak jenis luka dan luas kerusakan jarin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 of onset yang pende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sme otot pernafasan dan obstruksi saluran pernafas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ndahulu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tanus adalah penyakit akut dan sering fatal, dengan karakteristik diikuti kekakuan diseluruh tubuh dan kejang pada oto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NCEGAH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cegahnya terjadi lu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awatan lu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S profilaksis (&lt; 6 jam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unisasi akti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tikan antitoksin dan toksoid bila luka yg berat dgn riwayat imunisasi 4 thn yg lalu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2286000" y="2286000"/>
            <a:ext cx="4419720" cy="207648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ERIMAKASIH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finis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tanus (lock jaw) adalah penyakit akut, paralitik spastik tanpa disertai gangguan kesadaran , yang disebabkan oleh eksotoksin (tetanospasmi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tiolog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tridium tetan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bentuk batang dan bulat diujung  (drumstic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 posi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 anaer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mbuh bila oksidasi-reduksi (Eh) yang renda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tiolog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ubasi 5 – 14 ha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sotok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ntuk spo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up di tanah peternakan dan usus binat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lostridium tetani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4" descr="clostridium"/>
          <p:cNvPicPr/>
          <p:nvPr/>
        </p:nvPicPr>
        <p:blipFill>
          <a:blip r:embed="rId1"/>
          <a:stretch/>
        </p:blipFill>
        <p:spPr>
          <a:xfrm>
            <a:off x="1295280" y="2222640"/>
            <a:ext cx="68644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ogene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 d’entrée (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muskular junc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s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kornu anterior m. spinalis → Inhibisi glisin &amp; GABA → sal.anion tdk terbuka → eksitasi neuron post sinaptik → spasme pd otot agonis dan antagon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jala Klin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am 48 jam dgn gejala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s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ku kud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tegangan otot dinding per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jang toni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us sardonic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jala Klin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sukaran menelan, gelisah, mudah terangsang, nyeri kepala, nyeri anggota ba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istotnus, ekstremitas inferior dalam keadaan ekstensi, lengan kaku dan tangan mengepal ku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fiksia dan siano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3:40:24Z</dcterms:created>
  <dc:creator>Ola</dc:creator>
  <dc:description/>
  <dc:language>en-US</dc:language>
  <cp:lastModifiedBy>fk-uki</cp:lastModifiedBy>
  <dcterms:modified xsi:type="dcterms:W3CDTF">2011-12-09T04:14:36Z</dcterms:modified>
  <cp:revision>7</cp:revision>
  <dc:subject/>
  <dc:title>TETANUS pada ANAK</dc:title>
</cp:coreProperties>
</file>