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FB3-2109-40E7-B2D5-E69ACACF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04F-30F0-4C95-9673-9A6C179C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EF6-C05F-4B83-B19A-6E1D0B12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F23-878B-4B18-80CB-401437FA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EAE-E177-4F31-8378-A1C0C387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AFE-9860-475F-B73C-681879CC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580-34EA-4196-B556-BE454E88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579-EE7B-4890-AF06-9DA3FED0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C36-22EB-4438-B20D-752675C0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C3B-8F1B-4D61-AD86-EECDA309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BEC-0E52-42F1-B08C-F41C579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022-5DAE-48E0-9F4B-53F3E12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5CC39-1E78-49E6-BFED-E483996141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50E88-3747-4BF1-8B43-8B03E9326F1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6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5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8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1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4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5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2:26:30Z</dcterms:created>
  <dc:creator>최봉수</dc:creator>
  <dc:description/>
  <dc:language>en-US</dc:language>
  <cp:lastModifiedBy>맛있다 군만두</cp:lastModifiedBy>
  <dcterms:modified xsi:type="dcterms:W3CDTF">2023-07-13T07:22:59Z</dcterms:modified>
  <cp:revision>4</cp:revision>
  <dc:subject/>
  <dc:title>슬라이드 1</dc:title>
</cp:coreProperties>
</file>