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E42-8982-4A99-B57D-7799C804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115-DA25-425C-AE2C-CA605EAD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B9F-723A-47E1-A296-3BE4EB0B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B59-6EE2-47B9-8EB8-16FE9CDD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232-4E5C-4C72-94B5-16F04AB6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8CFD-75F5-43E6-A962-F907482C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40A-855B-4EE9-B271-D57130A8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5A9-2949-413D-AE32-4F617923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97C-BD3F-401F-A492-6BAD89E0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C0E-645A-4441-B25F-AC4B5B0C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5C3-B663-4A68-8040-C2FFD1B1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AA2-9352-4CD3-A222-A817AE59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166E4-3380-44E7-AE7E-15A4B19D253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61A23-B62F-49EF-A4E4-96F39723055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6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4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5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6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8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9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1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2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4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5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2:26:30Z</dcterms:created>
  <dc:creator>최봉수</dc:creator>
  <dc:description/>
  <dc:language>en-US</dc:language>
  <cp:lastModifiedBy>맛있다 군만두</cp:lastModifiedBy>
  <dcterms:modified xsi:type="dcterms:W3CDTF">2023-07-13T07:22:59Z</dcterms:modified>
  <cp:revision>4</cp:revision>
  <dc:subject/>
  <dc:title>슬라이드 1</dc:title>
</cp:coreProperties>
</file>