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CFA2-E54C-4DAD-B639-5815B9A7A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97A8-C864-413B-8E41-F4E88B5D0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C217B86-BD0C-4475-BCFC-A57BF9A07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BFDE2C5-31C7-4A9D-8AF0-6B6AA8E23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DA96B9-E85C-4106-A42E-41A625563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C8E63C-E8DE-473A-8C24-2326D54F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ECE8D2-3529-4CAB-90EF-ABF2792C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48B1A3-95AC-45EB-9D00-F4EA698E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5348DB-FCE4-4093-9A90-DC9382A6C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CDE272-A986-4CCE-9A38-6A8852951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B95125-EC9B-40C9-8C18-5B85164E4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28380EC-66BF-4FFF-AF73-5BE6243B1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1511-48C9-4259-B1AD-6AA3C9EF2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ADF2843-DD26-4E6C-8CA7-BE2FD4E0E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16992D6-5854-4AF4-A4BE-1B6A66CDB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3D227BF-C9D0-49E6-861B-EFB5B2651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176EEB7-900F-4206-A934-CF778A324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BFDFAA5-7934-458D-A4CC-B0C0E5A30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EF16C83-4CD4-4336-A6AA-7A5DF803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29C8C0D-4E34-4626-B513-755E6698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C488493-BDAF-4D76-ADF1-61E5C5D5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374FB8E-ACAC-443F-A5F6-4C7C5FFD1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5C9336A-427B-489E-8A65-C652FE329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80EB-99F1-4A59-BD78-A9EA4D6BF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DA00370-6FA3-4BD8-9073-DB2480FAA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72E03F-1528-4C5F-830A-03BE48216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184804-8B18-4FD3-987F-62B184894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2BE748-A131-4867-A1C7-0264B1C86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23959D-A002-4DA1-B732-329A1F7C6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6B603C-89E0-4495-8C2B-97ACC98F0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1C7AFA-D5EA-42CC-ADB9-78B09560F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FDD1C3-C840-4D7E-9243-A98F4EF3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1F63BC-FFBE-41DB-8B1A-401B8E8F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9C7DC8-D115-452E-90AB-6B11E3B6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9FADD-9AFA-40B5-829D-D86EC9B21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EEA3BA-A6EB-4850-92B9-089DEA19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AC6883-02B2-4C8A-952D-49D933FC4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2241B1-BD1B-4B4C-A679-9953C90D5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EF90AD-7C03-4A97-A1D9-BBFEE55AD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679A17-8357-4EE1-BDA6-C32B3E08E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DE1A73-081C-41C5-AA52-01F93A723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EFC99B-012E-4CF2-BD28-B2704854E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CEA0C3-3DFE-4C17-B1D1-BE2EA53FC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A04674-C1E1-4CBD-BD88-29210E13C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9354F5-BB3B-4974-8345-38B853B6C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42FAC-BF3B-4504-B8C0-663D5910A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4BF983-3DAE-4F93-B796-426B8B97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FC7E3C-15E2-46E7-8B88-89556621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C3B755-AE37-43B1-98EB-9DFDC21DA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36CD88-D39E-422F-B467-713D02C6C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EE7C27-37F4-44B5-A7B0-BBD798103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E9BBF-FD2E-421E-A1CF-998AF538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8BCBC-6C93-4727-A7E5-F11BAAD01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C288C-5F89-4B31-BBDB-429C1FBE1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CE1BA-3296-4052-9201-5E80EDA22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95503-721F-460F-8B00-3F9A33AA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3EB4-B47D-4212-BC0B-9AA9AC32F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A3DCE-7C15-4314-9EC9-EAFBB18B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4FD03-CB8E-4982-9A5B-DD1E29D1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BA4C1-B3AB-4424-B393-E5D5800E6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F72A8-9DBA-4047-9B4E-C3D4A4682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D7586-C204-482C-86A1-3DF159179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C43FDC-EB8E-4574-B300-83A20626C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509466-8775-4866-8690-6634612A9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361118-F01C-4157-A853-8DAD1C4B2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329DE0-9750-4425-A9C2-9EA69706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D5D408-1FFE-4FAA-9847-512C2CFA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A530-80CD-4D7C-9F07-DFAE8A04A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10B27B-B3DC-4D10-A3AE-FCA530566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369A56-CD9B-444F-8933-164ABA3C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AB5329-3CBD-444B-9FB0-3E295E06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BF2CCA-C1C0-45AE-8F70-301DDF18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332493-246D-450B-BEEC-7CCC100D8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69BC05-0290-4D3A-BF19-FEDF10ED3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D3563C-9D98-4950-84B2-63F1B3AF9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D497F-69B4-4282-B9B5-A7BA0F765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CAF7E-F080-4475-A675-7432664CD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90F25-A670-4507-8370-1B6277AB0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7494-7E05-4105-BE29-EB9EF2EF7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B150D-9FDB-482F-8A1F-069952F78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9E9F3-929F-48D4-A2CE-77D6764FB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248B3-D258-4412-B7E1-3642EB907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39D54-908A-4323-A88D-CC822EF9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8E2C3-9F5C-4610-866A-E48A0B13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D58B3-E0B0-43A1-AB68-07A94854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1B8CF-DA66-4C1D-8F02-60B431797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9E3BF-1FD1-4FFD-B04C-4F1A86C35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9C9C6-D678-471B-8826-074380A76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320AB-AE57-4779-8AAF-EAB627CE6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E1ED-0C11-4B75-B50D-DBBAFAE63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B0FBB-49A1-42E6-BF1D-D1B9ADBB9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AA7FD-6C98-4FD5-ABA4-3A0F27153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D4556-28DD-49F7-A642-E3480BE3F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67867-C7F4-468C-B194-90FAD297A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480CD-6446-4E63-88C0-F1A8D0232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CA126-9CE7-4AB3-9168-85EDC668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412AB-1F0C-47BB-BA2C-BC2EA7D2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8B524-453A-4D87-A18F-EB8223B9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C4E49-E814-4AEE-8E87-057F8F299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52843-407E-4347-90CF-FA137D0B6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03CA-0582-4919-A04F-C29C8D021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59107-5225-45B7-B422-FD078F0EB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9CB99-DFFC-4E99-9486-66AB2954A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5119E4-88A2-4287-81CF-BB398405D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F6F3D-9189-43F0-91DD-83D0D9E04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CAFB7-BBF3-4A31-BF68-0349D8A49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72A317-D82B-4EF7-937C-6E2452626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39F27-4EDE-4E06-ABD6-63915BC9B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2156C-2EB2-44DB-93D1-63314661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EEA0E-1924-419D-833E-C8189627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1BCEB3-5830-4C68-8DA9-102C6AEF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189F-F45F-41EA-A48A-3C4A8382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1296A-F18E-4FB5-A6CE-09AE76A05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DE372-7F68-4971-A301-4ED6232F6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2FF991-3E01-48A8-B82D-3905AA8CA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014830-BC70-4CA3-8486-6E8BD2583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4C5721-349D-453D-B427-CE7D1114A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6E0177-3999-440B-B1A9-ED06EC4FC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FB9A00-7032-4EA8-AD8F-AC6CC836D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700B77-4796-4C13-9591-F6C33B01F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60E490-F979-483D-8BD2-9E57EFFDE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CDDA08-3647-46C4-A82E-68C3434D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6981-7C10-4FD9-905F-EA41FFA7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2A868A-F04B-4B77-B5F3-9FFB87DF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B8BD4F-1E39-4CC7-9991-AC8DAAFA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2018AC-F03C-499A-8E34-A6AB51E4B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8BF131-DA28-486B-9F0A-996D73418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CF09E4-BA29-42F8-B0D4-1EB9F6D02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26FA81-2BCD-46AD-988E-16E17CD84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BB08B3-D14D-4CC4-9EAA-9FE2AA426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6D00F9-0F4A-414A-97E8-26388925B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CD973-7C69-4192-80E8-14BEB7135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E92CE-149E-4ED1-AD52-9E7DE795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62B1-B882-4B68-8FD7-D0949E20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CE593-28DD-4DE5-938B-DAFB1421D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F49FF-31BC-45A3-9BA0-0A9519A9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34DF4A-FA46-4D9E-94D3-5A3C1A41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43AE87-A57A-4E9D-A09D-A2F225EC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FF6CCC-B6F7-4F19-9B2A-927D13763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BD5B5-3A90-45E9-BBCB-4EEAC438E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28B193-05D0-4F5E-9F9A-B8B43E470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4A5F3B-3FA7-48A2-937B-7DDA122AD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55113A-2058-47BC-A38E-C64E307F7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E128D24-6343-4BA9-8CF2-7D30FE5BA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StempelGaramond Roman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1" marL="743040" indent="-2858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2" marL="1143000" indent="-22860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3" marL="1600200" indent="-22860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4" marL="2057400" indent="-22860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880" y="1080720"/>
            <a:ext cx="20127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77384-62D5-4341-8960-B25DC14898C8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8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1031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33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906C4-1B05-4552-9F73-4A0BD37C846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Oval 18"/>
          <p:cNvSpPr/>
          <p:nvPr/>
        </p:nvSpPr>
        <p:spPr>
          <a:xfrm>
            <a:off x="8542440" y="2252520"/>
            <a:ext cx="91800" cy="90720"/>
          </a:xfrm>
          <a:prstGeom prst="ellipse">
            <a:avLst/>
          </a:prstGeom>
          <a:noFill/>
          <a:ln cap="rnd"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StempelGaramond Roman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1" marL="743040" indent="-2858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2" marL="1143000" indent="-22860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3" marL="1600200" indent="-22860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4" marL="2057400" indent="-22860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55" name="Straight Connector 6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7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Oval 11"/>
          <p:cNvSpPr/>
          <p:nvPr/>
        </p:nvSpPr>
        <p:spPr>
          <a:xfrm>
            <a:off x="8540640" y="2238480"/>
            <a:ext cx="92160" cy="91800"/>
          </a:xfrm>
          <a:prstGeom prst="ellipse">
            <a:avLst/>
          </a:prstGeom>
          <a:solidFill>
            <a:srgbClr val="ffffff"/>
          </a:solidFill>
          <a:ln cap="sq"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traight Connector 15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28"/>
          </p:nvPr>
        </p:nvSpPr>
        <p:spPr>
          <a:xfrm rot="5400000">
            <a:off x="7589880" y="1080720"/>
            <a:ext cx="20127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B5464-2372-4C46-9795-2D67026D8CC6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sldNum" idx="29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DA664-F62F-4ECA-85F4-1979A3DE233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ftr" idx="30"/>
          </p:nvPr>
        </p:nvSpPr>
        <p:spPr>
          <a:xfrm rot="5400000">
            <a:off x="6989760" y="3738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StempelGaramond Roman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1" marL="743040" indent="-2858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2" marL="1143000" indent="-22860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3" marL="1600200" indent="-22860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4" marL="2057400" indent="-22860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traight Connector 1031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traight Connector 1033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18"/>
          <p:cNvSpPr/>
          <p:nvPr/>
        </p:nvSpPr>
        <p:spPr>
          <a:xfrm>
            <a:off x="8542440" y="2252520"/>
            <a:ext cx="91800" cy="90720"/>
          </a:xfrm>
          <a:prstGeom prst="ellipse">
            <a:avLst/>
          </a:prstGeom>
          <a:noFill/>
          <a:ln cap="rnd"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31"/>
          </p:nvPr>
        </p:nvSpPr>
        <p:spPr>
          <a:xfrm rot="5400000">
            <a:off x="7589880" y="1080720"/>
            <a:ext cx="20127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32"/>
          </p:nvPr>
        </p:nvSpPr>
        <p:spPr>
          <a:xfrm rot="5400000">
            <a:off x="6989760" y="3738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7E971-7CFD-4AE6-8BCD-47B92022463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StempelGaramond Roman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1" marL="743040" indent="-2858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2" marL="1143000" indent="-22860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3" marL="1600200" indent="-22860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4" marL="2057400" indent="-22860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53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traight Connector 1031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Straight Connector 1033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Oval 18"/>
          <p:cNvSpPr/>
          <p:nvPr/>
        </p:nvSpPr>
        <p:spPr>
          <a:xfrm>
            <a:off x="8542440" y="2252520"/>
            <a:ext cx="91800" cy="90720"/>
          </a:xfrm>
          <a:prstGeom prst="ellipse">
            <a:avLst/>
          </a:prstGeom>
          <a:noFill/>
          <a:ln cap="rnd"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dt" idx="34"/>
          </p:nvPr>
        </p:nvSpPr>
        <p:spPr>
          <a:xfrm rot="5400000">
            <a:off x="7589880" y="1080720"/>
            <a:ext cx="20127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ftr" idx="35"/>
          </p:nvPr>
        </p:nvSpPr>
        <p:spPr>
          <a:xfrm rot="5400000">
            <a:off x="6989760" y="3738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sldNum" idx="3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F09E1-C9A9-42F0-8FE1-0A3AD7EE22C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StempelGaramond Roman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1" marL="743040" indent="-2858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2" marL="1143000" indent="-22860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3" marL="1600200" indent="-22860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4" marL="2057400" indent="-22860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10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11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14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16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17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8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9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20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2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4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5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6"/>
          <p:cNvSpPr/>
          <p:nvPr/>
        </p:nvSpPr>
        <p:spPr>
          <a:xfrm>
            <a:off x="8848800" y="2457360"/>
            <a:ext cx="90360" cy="90720"/>
          </a:xfrm>
          <a:prstGeom prst="ellipse">
            <a:avLst/>
          </a:prstGeom>
          <a:noFill/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AC2A6-0A3B-42FD-88D6-FCFB6954C81E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53346-C89B-49A5-A602-6815041D897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StempelGaramond Roman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1" marL="743040" indent="-2858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2" marL="1143000" indent="-22860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3" marL="1600200" indent="-22860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4" marL="2057400" indent="-22860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1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traight Connector 1031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1033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8"/>
          <p:cNvSpPr/>
          <p:nvPr/>
        </p:nvSpPr>
        <p:spPr>
          <a:xfrm>
            <a:off x="8542440" y="2252520"/>
            <a:ext cx="91800" cy="90720"/>
          </a:xfrm>
          <a:prstGeom prst="ellipse">
            <a:avLst/>
          </a:prstGeom>
          <a:noFill/>
          <a:ln cap="rnd"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 rot="5400000">
            <a:off x="7589880" y="1080720"/>
            <a:ext cx="20127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D500F-8401-4483-848F-B786EC9F5F6D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F275-D024-4D6E-9C14-F14F3141310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8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StempelGaramond Roman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StempelGaramond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ffffff"/>
                </a:solidFill>
                <a:latin typeface="StempelGaramond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StempelGaramond Roman"/>
            </a:endParaRPr>
          </a:p>
          <a:p>
            <a:pPr lvl="1" marL="743040" indent="-2858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ffffff"/>
                </a:solidFill>
                <a:latin typeface="StempelGaramond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StempelGaramond Roman"/>
            </a:endParaRPr>
          </a:p>
          <a:p>
            <a:pPr lvl="2" marL="1143000" indent="-22860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ffffff"/>
                </a:solidFill>
                <a:latin typeface="StempelGaramond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StempelGaramond Roman"/>
            </a:endParaRPr>
          </a:p>
          <a:p>
            <a:pPr lvl="3" marL="1600200" indent="-22860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ffffff"/>
                </a:solidFill>
                <a:latin typeface="StempelGaramond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StempelGaramond Roman"/>
            </a:endParaRPr>
          </a:p>
          <a:p>
            <a:pPr lvl="4" marL="2057400" indent="-22860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ffffff"/>
                </a:solidFill>
                <a:latin typeface="StempelGaramond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StempelGaramond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ffffff"/>
                </a:solidFill>
                <a:latin typeface="StempelGaramond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StempelGaramond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ffffff"/>
                </a:solidFill>
                <a:latin typeface="StempelGaramond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StempelGaramond Roman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traight Connector 10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11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traight Connector 14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traight Connector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traight Connector 16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9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2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23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24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25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26"/>
          <p:cNvSpPr/>
          <p:nvPr/>
        </p:nvSpPr>
        <p:spPr>
          <a:xfrm>
            <a:off x="8848800" y="2457360"/>
            <a:ext cx="90360" cy="90720"/>
          </a:xfrm>
          <a:prstGeom prst="ellipse">
            <a:avLst/>
          </a:prstGeom>
          <a:noFill/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94B8F-5B47-44BF-BDBB-7304F9442F5E}" type="datetime"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F1A9F-4FFB-4B4C-BD2B-FFFD65F4D83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StempelGaramond Roman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1" marL="743040" indent="-2858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2" marL="1143000" indent="-22860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3" marL="1600200" indent="-22860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4" marL="2057400" indent="-22860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21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traight Connector 1031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1033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8"/>
          <p:cNvSpPr/>
          <p:nvPr/>
        </p:nvSpPr>
        <p:spPr>
          <a:xfrm>
            <a:off x="8542440" y="2252520"/>
            <a:ext cx="91800" cy="90720"/>
          </a:xfrm>
          <a:prstGeom prst="ellipse">
            <a:avLst/>
          </a:prstGeom>
          <a:noFill/>
          <a:ln cap="rnd"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 rot="5400000">
            <a:off x="7589880" y="1080720"/>
            <a:ext cx="20127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A45B4-4503-477C-9276-374B32E03A1C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4"/>
          </p:nvPr>
        </p:nvSpPr>
        <p:spPr>
          <a:xfrm rot="5400000">
            <a:off x="6989760" y="3738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17D61-1E71-46F9-9679-226DE2E1B9E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StempelGaramond Roman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1" marL="743040" indent="-2858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2" marL="1143000" indent="-22860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3" marL="1600200" indent="-22860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4" marL="2057400" indent="-22860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263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traight Connector 1031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traight Connector 1033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18"/>
          <p:cNvSpPr/>
          <p:nvPr/>
        </p:nvSpPr>
        <p:spPr>
          <a:xfrm>
            <a:off x="8542440" y="2252520"/>
            <a:ext cx="91800" cy="90720"/>
          </a:xfrm>
          <a:prstGeom prst="ellipse">
            <a:avLst/>
          </a:prstGeom>
          <a:noFill/>
          <a:ln cap="rnd"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6"/>
          </p:nvPr>
        </p:nvSpPr>
        <p:spPr>
          <a:xfrm rot="5400000">
            <a:off x="7589880" y="1080720"/>
            <a:ext cx="20127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131BC-0113-4F4C-B6BD-8689881E94DA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7"/>
          </p:nvPr>
        </p:nvSpPr>
        <p:spPr>
          <a:xfrm rot="5400000">
            <a:off x="6989760" y="3738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12837-D3BA-471D-B6D6-9940100B1B6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StempelGaramond Roman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1" marL="743040" indent="-2858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2" marL="1143000" indent="-22860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3" marL="1600200" indent="-22860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4" marL="2057400" indent="-22860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11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traight Connector 1031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traight Connector 1033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18"/>
          <p:cNvSpPr/>
          <p:nvPr/>
        </p:nvSpPr>
        <p:spPr>
          <a:xfrm>
            <a:off x="8542440" y="2252520"/>
            <a:ext cx="91800" cy="90720"/>
          </a:xfrm>
          <a:prstGeom prst="ellipse">
            <a:avLst/>
          </a:prstGeom>
          <a:noFill/>
          <a:ln cap="rnd"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9"/>
          </p:nvPr>
        </p:nvSpPr>
        <p:spPr>
          <a:xfrm rot="5400000">
            <a:off x="7589880" y="1080720"/>
            <a:ext cx="20127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E06E9-A355-4CBA-BD7A-66F868A40CF0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B3E0B-47C6-447D-9B11-77BE23C62B3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8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StempelGaramond Roman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1" marL="743040" indent="-2858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2" marL="1143000" indent="-22860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3" marL="1600200" indent="-22860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4" marL="2057400" indent="-22860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35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traight Connector 1031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traight Connector 1033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18"/>
          <p:cNvSpPr/>
          <p:nvPr/>
        </p:nvSpPr>
        <p:spPr>
          <a:xfrm>
            <a:off x="8542440" y="2252520"/>
            <a:ext cx="91800" cy="90720"/>
          </a:xfrm>
          <a:prstGeom prst="ellipse">
            <a:avLst/>
          </a:prstGeom>
          <a:noFill/>
          <a:ln cap="rnd"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2"/>
          </p:nvPr>
        </p:nvSpPr>
        <p:spPr>
          <a:xfrm rot="5400000">
            <a:off x="7589880" y="1080720"/>
            <a:ext cx="20127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9A4E4-BA72-44D8-A64F-947011851D33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3"/>
          </p:nvPr>
        </p:nvSpPr>
        <p:spPr>
          <a:xfrm rot="5400000">
            <a:off x="6989760" y="3738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7ED76-D829-4C80-859F-08691F033AA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StempelGaramond Roman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1" marL="743040" indent="-2858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2" marL="1143000" indent="-22860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3" marL="1600200" indent="-22860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4" marL="2057400" indent="-22860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406" name="Straight Connector 6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traight Connector 7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traight Connector 8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9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0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traight Connector 11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14"/>
          <p:cNvSpPr/>
          <p:nvPr/>
        </p:nvSpPr>
        <p:spPr>
          <a:xfrm>
            <a:off x="815508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15"/>
          <p:cNvSpPr/>
          <p:nvPr/>
        </p:nvSpPr>
        <p:spPr>
          <a:xfrm>
            <a:off x="8540640" y="2238480"/>
            <a:ext cx="92160" cy="91800"/>
          </a:xfrm>
          <a:prstGeom prst="ellipse">
            <a:avLst/>
          </a:prstGeom>
          <a:solidFill>
            <a:srgbClr val="ffffff"/>
          </a:solidFill>
          <a:ln cap="sq"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5"/>
          </p:nvPr>
        </p:nvSpPr>
        <p:spPr>
          <a:xfrm rot="5400000">
            <a:off x="7589880" y="1080720"/>
            <a:ext cx="20127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8BC02-05C4-440F-97C9-4EB34C209C16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sldNum" idx="2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E2335-55E8-47DB-A797-E47CCA2F81A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ftr" idx="27"/>
          </p:nvPr>
        </p:nvSpPr>
        <p:spPr>
          <a:xfrm rot="5400000">
            <a:off x="6989760" y="3738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904760" y="914040"/>
            <a:ext cx="6553080" cy="189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575f6d"/>
                </a:solidFill>
                <a:latin typeface="StempelGaramond Roman"/>
              </a:rPr>
              <a:t>RECRUITMENT STRATEGY</a:t>
            </a:r>
            <a:br>
              <a:rPr sz="4400"/>
            </a:br>
            <a:endParaRPr b="0" lang="en-US" sz="4400" spc="-1" strike="noStrike">
              <a:solidFill>
                <a:srgbClr val="575f6d"/>
              </a:solidFill>
              <a:latin typeface="StempelGaramon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" descr=""/>
          <p:cNvPicPr/>
          <p:nvPr/>
        </p:nvPicPr>
        <p:blipFill>
          <a:blip r:embed="rId1"/>
          <a:stretch/>
        </p:blipFill>
        <p:spPr>
          <a:xfrm>
            <a:off x="371520" y="609480"/>
            <a:ext cx="79437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Oval 26624"/>
          <p:cNvSpPr/>
          <p:nvPr/>
        </p:nvSpPr>
        <p:spPr>
          <a:xfrm>
            <a:off x="152280" y="1371600"/>
            <a:ext cx="8839440" cy="5334120"/>
          </a:xfrm>
          <a:prstGeom prst="ellipse">
            <a:avLst/>
          </a:prstGeom>
          <a:solidFill>
            <a:srgbClr val="e2e4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Times New Roman"/>
              </a:rPr>
              <a:t>DELIVERY MODEL</a:t>
            </a: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622" name="Pentagon 26626"/>
          <p:cNvSpPr/>
          <p:nvPr/>
        </p:nvSpPr>
        <p:spPr>
          <a:xfrm>
            <a:off x="990720" y="1752480"/>
            <a:ext cx="2209680" cy="45720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4572000"/>
              <a:gd name="textAreaBottom" fmla="*/ 4572360 h 457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ee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" name="Group 8"/>
          <p:cNvGrpSpPr/>
          <p:nvPr/>
        </p:nvGrpSpPr>
        <p:grpSpPr>
          <a:xfrm>
            <a:off x="1066680" y="2590920"/>
            <a:ext cx="1676160" cy="914400"/>
            <a:chOff x="1066680" y="2590920"/>
            <a:chExt cx="1676160" cy="914400"/>
          </a:xfrm>
        </p:grpSpPr>
        <p:sp>
          <p:nvSpPr>
            <p:cNvPr id="624" name="Rectangle 16389"/>
            <p:cNvSpPr/>
            <p:nvPr/>
          </p:nvSpPr>
          <p:spPr>
            <a:xfrm>
              <a:off x="1066680" y="2590920"/>
              <a:ext cx="1676160" cy="304920"/>
            </a:xfrm>
            <a:prstGeom prst="rect">
              <a:avLst/>
            </a:prstGeom>
            <a:solidFill>
              <a:srgbClr val="fe86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efining the Recruit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16390"/>
            <p:cNvSpPr/>
            <p:nvPr/>
          </p:nvSpPr>
          <p:spPr>
            <a:xfrm>
              <a:off x="1066680" y="2895840"/>
              <a:ext cx="1676160" cy="609480"/>
            </a:xfrm>
            <a:prstGeom prst="rect">
              <a:avLst/>
            </a:prstGeom>
            <a:solidFill>
              <a:srgbClr val="bdb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quir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Group 9"/>
          <p:cNvGrpSpPr/>
          <p:nvPr/>
        </p:nvGrpSpPr>
        <p:grpSpPr>
          <a:xfrm>
            <a:off x="1066680" y="4114800"/>
            <a:ext cx="1676160" cy="914400"/>
            <a:chOff x="1066680" y="4114800"/>
            <a:chExt cx="1676160" cy="914400"/>
          </a:xfrm>
        </p:grpSpPr>
        <p:sp>
          <p:nvSpPr>
            <p:cNvPr id="627" name="Rectangle 16393"/>
            <p:cNvSpPr/>
            <p:nvPr/>
          </p:nvSpPr>
          <p:spPr>
            <a:xfrm>
              <a:off x="1066680" y="4114800"/>
              <a:ext cx="1676160" cy="304920"/>
            </a:xfrm>
            <a:prstGeom prst="rect">
              <a:avLst/>
            </a:prstGeom>
            <a:solidFill>
              <a:srgbClr val="fe86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lann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16394"/>
            <p:cNvSpPr/>
            <p:nvPr/>
          </p:nvSpPr>
          <p:spPr>
            <a:xfrm>
              <a:off x="1066680" y="4419720"/>
              <a:ext cx="1676160" cy="609480"/>
            </a:xfrm>
            <a:prstGeom prst="rect">
              <a:avLst/>
            </a:prstGeom>
            <a:solidFill>
              <a:srgbClr val="bdb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efining the proces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etting the Time fram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9" name="Down Arrow 26629"/>
          <p:cNvSpPr/>
          <p:nvPr/>
        </p:nvSpPr>
        <p:spPr>
          <a:xfrm>
            <a:off x="1828800" y="3581280"/>
            <a:ext cx="152280" cy="457200"/>
          </a:xfrm>
          <a:prstGeom prst="downArrow">
            <a:avLst>
              <a:gd name="adj1" fmla="val 50000"/>
              <a:gd name="adj2" fmla="val 75059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entagon 26630"/>
          <p:cNvSpPr/>
          <p:nvPr/>
        </p:nvSpPr>
        <p:spPr>
          <a:xfrm>
            <a:off x="3657600" y="1600200"/>
            <a:ext cx="2286000" cy="4952880"/>
          </a:xfrm>
          <a:custGeom>
            <a:avLst/>
            <a:gdLst>
              <a:gd name="textAreaLeft" fmla="*/ 0 w 2286000"/>
              <a:gd name="textAreaRight" fmla="*/ 2286360 w 2286000"/>
              <a:gd name="textAreaTop" fmla="*/ 0 h 4952880"/>
              <a:gd name="textAreaBottom" fmla="*/ 4952880 h 495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ee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16400"/>
          <p:cNvSpPr/>
          <p:nvPr/>
        </p:nvSpPr>
        <p:spPr>
          <a:xfrm>
            <a:off x="3733920" y="2057400"/>
            <a:ext cx="1676160" cy="30492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pping the Target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16401"/>
          <p:cNvSpPr/>
          <p:nvPr/>
        </p:nvSpPr>
        <p:spPr>
          <a:xfrm>
            <a:off x="3733920" y="2362320"/>
            <a:ext cx="1676160" cy="914400"/>
          </a:xfrm>
          <a:prstGeom prst="rect">
            <a:avLst/>
          </a:prstGeom>
          <a:solidFill>
            <a:srgbClr val="bdb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b 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l Reference EOB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Recruitmen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p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16403"/>
          <p:cNvSpPr/>
          <p:nvPr/>
        </p:nvSpPr>
        <p:spPr>
          <a:xfrm>
            <a:off x="3733920" y="3733920"/>
            <a:ext cx="1676160" cy="38088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ion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16404"/>
          <p:cNvSpPr/>
          <p:nvPr/>
        </p:nvSpPr>
        <p:spPr>
          <a:xfrm>
            <a:off x="3733920" y="4038480"/>
            <a:ext cx="1676160" cy="762120"/>
          </a:xfrm>
          <a:prstGeom prst="rect">
            <a:avLst/>
          </a:prstGeom>
          <a:solidFill>
            <a:srgbClr val="bdb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P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ictive Inde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liminary Int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16405"/>
          <p:cNvSpPr/>
          <p:nvPr/>
        </p:nvSpPr>
        <p:spPr>
          <a:xfrm>
            <a:off x="3733920" y="5257800"/>
            <a:ext cx="1676160" cy="38088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16406"/>
          <p:cNvSpPr/>
          <p:nvPr/>
        </p:nvSpPr>
        <p:spPr>
          <a:xfrm>
            <a:off x="3733920" y="5562720"/>
            <a:ext cx="1676160" cy="761760"/>
          </a:xfrm>
          <a:prstGeom prst="rect">
            <a:avLst/>
          </a:prstGeom>
          <a:solidFill>
            <a:srgbClr val="bdb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 Int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al Check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entagon 26637"/>
          <p:cNvSpPr/>
          <p:nvPr/>
        </p:nvSpPr>
        <p:spPr>
          <a:xfrm>
            <a:off x="6400800" y="1752480"/>
            <a:ext cx="2133720" cy="449604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4496040"/>
              <a:gd name="textAreaBottom" fmla="*/ 4496400 h 4496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ee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16408"/>
          <p:cNvSpPr/>
          <p:nvPr/>
        </p:nvSpPr>
        <p:spPr>
          <a:xfrm>
            <a:off x="6477120" y="2666880"/>
            <a:ext cx="1600200" cy="609840"/>
          </a:xfrm>
          <a:prstGeom prst="rect">
            <a:avLst/>
          </a:prstGeom>
          <a:solidFill>
            <a:srgbClr val="bdb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ilitating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boarding Proc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Down Arrow 26639"/>
          <p:cNvSpPr/>
          <p:nvPr/>
        </p:nvSpPr>
        <p:spPr>
          <a:xfrm>
            <a:off x="4495680" y="3352680"/>
            <a:ext cx="152640" cy="304920"/>
          </a:xfrm>
          <a:prstGeom prst="downArrow">
            <a:avLst>
              <a:gd name="adj1" fmla="val 50000"/>
              <a:gd name="adj2" fmla="val 49941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Down Arrow 26640"/>
          <p:cNvSpPr/>
          <p:nvPr/>
        </p:nvSpPr>
        <p:spPr>
          <a:xfrm>
            <a:off x="4495680" y="4876920"/>
            <a:ext cx="152640" cy="304560"/>
          </a:xfrm>
          <a:prstGeom prst="downArrow">
            <a:avLst>
              <a:gd name="adj1" fmla="val 50000"/>
              <a:gd name="adj2" fmla="val 49882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Down Arrow 26641"/>
          <p:cNvSpPr/>
          <p:nvPr/>
        </p:nvSpPr>
        <p:spPr>
          <a:xfrm>
            <a:off x="7162920" y="335268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16412"/>
          <p:cNvSpPr/>
          <p:nvPr/>
        </p:nvSpPr>
        <p:spPr>
          <a:xfrm>
            <a:off x="6553080" y="4267080"/>
            <a:ext cx="1295640" cy="30492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o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16415"/>
          <p:cNvSpPr/>
          <p:nvPr/>
        </p:nvSpPr>
        <p:spPr>
          <a:xfrm>
            <a:off x="3962520" y="1157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16416"/>
          <p:cNvSpPr/>
          <p:nvPr/>
        </p:nvSpPr>
        <p:spPr>
          <a:xfrm rot="5250600">
            <a:off x="8335440" y="38541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Box 16417"/>
          <p:cNvSpPr/>
          <p:nvPr/>
        </p:nvSpPr>
        <p:spPr>
          <a:xfrm rot="16200000">
            <a:off x="-563400" y="3778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Times New Roman"/>
              </a:rPr>
              <a:t>TECHNOLOGY</a:t>
            </a: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Recruitment system to facilitate the recruitment process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k between the E recruitment system and SAP so as to further smoothen out the process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Times New Roman"/>
              </a:rPr>
              <a:t>TEAM</a:t>
            </a: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Times New Roman"/>
              </a:rPr>
              <a:t>CONTINUOUS IMPROVEMENT</a:t>
            </a: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Obtain feedback from the Users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Review the process.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Modify the processes to make them more user friendly and efficient.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StempelGaramond Roman"/>
              </a:rPr>
              <a:t>STRATEGY FOR TALENT ACQUISITION</a:t>
            </a: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tempelGaramond Roman"/>
              </a:rPr>
              <a:t>Build the best employer brand to attract the most suitable talent</a:t>
            </a:r>
            <a:endParaRPr b="0" lang="en-US" sz="1700" spc="-1" strike="noStrike">
              <a:solidFill>
                <a:srgbClr val="000000"/>
              </a:solidFill>
              <a:latin typeface="StempelGaramond Roman"/>
            </a:endParaRPr>
          </a:p>
          <a:p>
            <a:pPr marL="264600" indent="-264600" algn="just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tempelGaramond Roman"/>
              </a:rPr>
              <a:t>Clearly define the structure &amp; staffing, roles and responsibilities, reporting relationships and capabilities required for the job.</a:t>
            </a:r>
            <a:endParaRPr b="0" lang="en-US" sz="1700" spc="-1" strike="noStrike">
              <a:solidFill>
                <a:srgbClr val="000000"/>
              </a:solidFill>
              <a:latin typeface="StempelGaramond Roman"/>
            </a:endParaRPr>
          </a:p>
          <a:p>
            <a:pPr marL="264600" indent="-264600" algn="just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tempelGaramond Roman"/>
              </a:rPr>
              <a:t>Select the people based on </a:t>
            </a:r>
            <a:r>
              <a:rPr b="1" lang="en-US" sz="1700" spc="-1" strike="noStrike">
                <a:solidFill>
                  <a:srgbClr val="000000"/>
                </a:solidFill>
                <a:latin typeface="StempelGaramond Roman"/>
              </a:rPr>
              <a:t>Personal Qualities and Professional capabilities keeping in mind “Job-fit” and Culture fit</a:t>
            </a:r>
            <a:r>
              <a:rPr b="0" lang="en-US" sz="1700" spc="-1" strike="noStrike">
                <a:solidFill>
                  <a:srgbClr val="000000"/>
                </a:solidFill>
                <a:latin typeface="StempelGaramond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StempelGaramond Roman"/>
            </a:endParaRPr>
          </a:p>
          <a:p>
            <a:pPr marL="264600" indent="-264600" algn="just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tempelGaramond Roman"/>
              </a:rPr>
              <a:t>At top 2 levels just below the CEO recruit people with extraordinary entrepreneurial qualities and tolerance to ambiguity with “can-do and never- say-no attitude”.</a:t>
            </a:r>
            <a:endParaRPr b="0" lang="en-US" sz="1700" spc="-1" strike="noStrike">
              <a:solidFill>
                <a:srgbClr val="000000"/>
              </a:solidFill>
              <a:latin typeface="StempelGaramond Roman"/>
            </a:endParaRPr>
          </a:p>
          <a:p>
            <a:pPr marL="264600" indent="-264600" algn="just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StempelGaramond Roman"/>
              </a:rPr>
              <a:t>Excite people with opportunity of learning, growth and wealth creation through equity compensation</a:t>
            </a:r>
            <a:r>
              <a:rPr b="0" lang="en-US" sz="1700" spc="-1" strike="noStrike">
                <a:solidFill>
                  <a:srgbClr val="000000"/>
                </a:solidFill>
                <a:latin typeface="StempelGaramond Roman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StempelGaramond Roman"/>
            </a:endParaRPr>
          </a:p>
          <a:p>
            <a:pPr marL="264600" indent="-264600" algn="just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tempelGaramond Roman"/>
              </a:rPr>
              <a:t>Tactics: Go for “Leg-down” strategy in compensation and designation i.e. to attract people pay them higher than the market and over 2- 3 years give moderate salary increases so that the average cost is better managed. </a:t>
            </a:r>
            <a:endParaRPr b="0" lang="en-US" sz="1700" spc="-1" strike="noStrike">
              <a:solidFill>
                <a:srgbClr val="000000"/>
              </a:solidFill>
              <a:latin typeface="StempelGaramond Roman"/>
            </a:endParaRPr>
          </a:p>
          <a:p>
            <a:pPr marL="264600" indent="-264600" algn="just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tempelGaramond Roman"/>
              </a:rPr>
              <a:t>Keep an eye on average employee cost – build the staffing pyramid  with the focus on creating the most cost efficient people organization in the world. </a:t>
            </a:r>
            <a:endParaRPr b="0" lang="en-US" sz="1700" spc="-1" strike="noStrike">
              <a:solidFill>
                <a:srgbClr val="000000"/>
              </a:solidFill>
              <a:latin typeface="StempelGaramond Roman"/>
            </a:endParaRPr>
          </a:p>
          <a:p>
            <a:pPr marL="264600" indent="0" algn="just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StempelGaramon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71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StempelGaramond Roman"/>
              </a:rPr>
              <a:t>TALENT SOURCE</a:t>
            </a: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pic>
        <p:nvPicPr>
          <p:cNvPr id="655" name="" descr=""/>
          <p:cNvPicPr/>
          <p:nvPr/>
        </p:nvPicPr>
        <p:blipFill>
          <a:blip r:embed="rId1"/>
          <a:stretch/>
        </p:blipFill>
        <p:spPr>
          <a:xfrm>
            <a:off x="334800" y="2011320"/>
            <a:ext cx="824256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StempelGaramond Roman"/>
              </a:rPr>
              <a:t>RECRUITMENT STRATEGY FOR JUNIOR LEVEL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pic>
        <p:nvPicPr>
          <p:cNvPr id="657" name="" descr=""/>
          <p:cNvPicPr/>
          <p:nvPr/>
        </p:nvPicPr>
        <p:blipFill>
          <a:blip r:embed="rId1"/>
          <a:stretch/>
        </p:blipFill>
        <p:spPr>
          <a:xfrm>
            <a:off x="334800" y="1932120"/>
            <a:ext cx="7712280" cy="17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Completely align the Recruitment Strategy with the business plan, so as to stay head of  the curve with the leaders in recruiting Top Talent from the industry.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title"/>
          </p:nvPr>
        </p:nvSpPr>
        <p:spPr>
          <a:xfrm>
            <a:off x="685440" y="5029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StempelGaramond Roman"/>
              </a:rPr>
              <a:t>MOTTO</a:t>
            </a: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761760" y="35100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StempelGaramond Roman"/>
              </a:rPr>
              <a:t>FLOW</a:t>
            </a: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3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tempelGaramond Roman"/>
              </a:rPr>
              <a:t>Recruitment Strategy</a:t>
            </a:r>
            <a:endParaRPr b="0" lang="en-US" sz="2600" spc="-1" strike="noStrike">
              <a:solidFill>
                <a:srgbClr val="000000"/>
              </a:solidFill>
              <a:latin typeface="StempelGaramond Roman"/>
            </a:endParaRPr>
          </a:p>
          <a:p>
            <a:pPr marL="270000" indent="-270000">
              <a:lnSpc>
                <a:spcPct val="13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tempelGaramond Roman"/>
              </a:rPr>
              <a:t>Process</a:t>
            </a:r>
            <a:endParaRPr b="0" lang="en-US" sz="2600" spc="-1" strike="noStrike">
              <a:solidFill>
                <a:srgbClr val="000000"/>
              </a:solidFill>
              <a:latin typeface="StempelGaramond Roman"/>
            </a:endParaRPr>
          </a:p>
          <a:p>
            <a:pPr marL="270000" indent="-270000">
              <a:lnSpc>
                <a:spcPct val="13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tempelGaramond Roman"/>
              </a:rPr>
              <a:t>Technology</a:t>
            </a:r>
            <a:endParaRPr b="0" lang="en-US" sz="2600" spc="-1" strike="noStrike">
              <a:solidFill>
                <a:srgbClr val="000000"/>
              </a:solidFill>
              <a:latin typeface="StempelGaramond Roman"/>
            </a:endParaRPr>
          </a:p>
          <a:p>
            <a:pPr marL="270000" indent="-270000">
              <a:lnSpc>
                <a:spcPct val="13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tempelGaramond Roman"/>
              </a:rPr>
              <a:t>Team</a:t>
            </a:r>
            <a:endParaRPr b="0" lang="en-US" sz="2600" spc="-1" strike="noStrike">
              <a:solidFill>
                <a:srgbClr val="000000"/>
              </a:solidFill>
              <a:latin typeface="StempelGaramond Roman"/>
            </a:endParaRPr>
          </a:p>
          <a:p>
            <a:pPr marL="270000" indent="-270000">
              <a:lnSpc>
                <a:spcPct val="13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tempelGaramond Roman"/>
              </a:rPr>
              <a:t>Approach to Continuous Improvement</a:t>
            </a:r>
            <a:r>
              <a:rPr b="0" lang="en-US" sz="2200" spc="-1" strike="noStrike">
                <a:solidFill>
                  <a:srgbClr val="000000"/>
                </a:solidFill>
                <a:latin typeface="StempelGaramond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StempelGaramon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StempelGaramond Roman"/>
              </a:rPr>
              <a:t>RECRUITMENT STRATEGY</a:t>
            </a:r>
            <a:r>
              <a:rPr b="1" lang="en-US" sz="3000" spc="-1" strike="noStrike">
                <a:solidFill>
                  <a:srgbClr val="575f6d"/>
                </a:solidFill>
                <a:latin typeface="StempelGaramond Roman"/>
              </a:rPr>
              <a:t>	</a:t>
            </a:r>
            <a:endParaRPr b="0" lang="en-US" sz="3000" spc="-1" strike="noStrike">
              <a:solidFill>
                <a:srgbClr val="575f6d"/>
              </a:solidFill>
              <a:latin typeface="StempelGaramond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Recruitment Strategy for Top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Recruitment Strategy for Managerial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tempelGaramond Roman"/>
              </a:rPr>
              <a:t>Recruitment Strategy for Store Level</a:t>
            </a:r>
            <a:endParaRPr b="0" lang="en-US" sz="2400" spc="-1" strike="noStrike">
              <a:solidFill>
                <a:srgbClr val="000000"/>
              </a:solidFill>
              <a:latin typeface="StempelGaramon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18433"/>
          <p:cNvSpPr/>
          <p:nvPr/>
        </p:nvSpPr>
        <p:spPr>
          <a:xfrm>
            <a:off x="1905120" y="2057400"/>
            <a:ext cx="6094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18434"/>
          <p:cNvSpPr/>
          <p:nvPr/>
        </p:nvSpPr>
        <p:spPr>
          <a:xfrm>
            <a:off x="6781680" y="2057400"/>
            <a:ext cx="7621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" descr=""/>
          <p:cNvPicPr/>
          <p:nvPr/>
        </p:nvPicPr>
        <p:blipFill>
          <a:blip r:embed="rId1"/>
          <a:stretch/>
        </p:blipFill>
        <p:spPr>
          <a:xfrm>
            <a:off x="493560" y="1023840"/>
            <a:ext cx="7882200" cy="2841840"/>
          </a:xfrm>
          <a:prstGeom prst="rect">
            <a:avLst/>
          </a:prstGeom>
          <a:ln w="0">
            <a:noFill/>
          </a:ln>
        </p:spPr>
      </p:pic>
      <p:sp>
        <p:nvSpPr>
          <p:cNvPr id="608" name="TextBox 6"/>
          <p:cNvSpPr/>
          <p:nvPr/>
        </p:nvSpPr>
        <p:spPr>
          <a:xfrm>
            <a:off x="457200" y="274680"/>
            <a:ext cx="8001000" cy="7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StempelGaramond Roman"/>
                <a:ea typeface="StempelGaramond Roman"/>
              </a:rPr>
              <a:t>TALENT SOUR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2"/>
          <a:stretch/>
        </p:blipFill>
        <p:spPr>
          <a:xfrm>
            <a:off x="487440" y="3767040"/>
            <a:ext cx="7943760" cy="1311480"/>
          </a:xfrm>
          <a:prstGeom prst="rect">
            <a:avLst/>
          </a:prstGeom>
          <a:ln w="0">
            <a:noFill/>
          </a:ln>
        </p:spPr>
      </p:pic>
      <p:pic>
        <p:nvPicPr>
          <p:cNvPr id="610" name="" descr=""/>
          <p:cNvPicPr/>
          <p:nvPr/>
        </p:nvPicPr>
        <p:blipFill>
          <a:blip r:embed="rId3"/>
          <a:stretch/>
        </p:blipFill>
        <p:spPr>
          <a:xfrm>
            <a:off x="487440" y="4962600"/>
            <a:ext cx="79437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7956720" cy="4803840"/>
          </a:xfrm>
          <a:prstGeom prst="rect">
            <a:avLst/>
          </a:prstGeom>
          <a:ln w="0">
            <a:noFill/>
          </a:ln>
        </p:spPr>
      </p:pic>
      <p:sp>
        <p:nvSpPr>
          <p:cNvPr id="612" name="TextBox 2"/>
          <p:cNvSpPr/>
          <p:nvPr/>
        </p:nvSpPr>
        <p:spPr>
          <a:xfrm>
            <a:off x="838080" y="457200"/>
            <a:ext cx="74678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StempelGaramond Roman"/>
                <a:ea typeface="StempelGaramond Roman"/>
              </a:rPr>
              <a:t>RECRUITMENT ACTION PL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603360" y="835200"/>
            <a:ext cx="7785000" cy="4498920"/>
          </a:xfrm>
          <a:prstGeom prst="rect">
            <a:avLst/>
          </a:prstGeom>
          <a:ln w="0">
            <a:noFill/>
          </a:ln>
        </p:spPr>
      </p:pic>
      <p:sp>
        <p:nvSpPr>
          <p:cNvPr id="614" name="TextBox 2"/>
          <p:cNvSpPr/>
          <p:nvPr/>
        </p:nvSpPr>
        <p:spPr>
          <a:xfrm>
            <a:off x="457200" y="274680"/>
            <a:ext cx="746748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StempelGaramond Roman"/>
                <a:ea typeface="StempelGaramond Roman"/>
              </a:rPr>
              <a:t>EXPAT RECRUITMENT PRO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" descr=""/>
          <p:cNvPicPr/>
          <p:nvPr/>
        </p:nvPicPr>
        <p:blipFill>
          <a:blip r:embed="rId1"/>
          <a:stretch/>
        </p:blipFill>
        <p:spPr>
          <a:xfrm>
            <a:off x="603360" y="1219320"/>
            <a:ext cx="7785000" cy="4498920"/>
          </a:xfrm>
          <a:prstGeom prst="rect">
            <a:avLst/>
          </a:prstGeom>
          <a:ln w="0">
            <a:noFill/>
          </a:ln>
        </p:spPr>
      </p:pic>
      <p:sp>
        <p:nvSpPr>
          <p:cNvPr id="616" name="TextBox 2"/>
          <p:cNvSpPr/>
          <p:nvPr/>
        </p:nvSpPr>
        <p:spPr>
          <a:xfrm>
            <a:off x="380880" y="274680"/>
            <a:ext cx="8153640" cy="102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StempelGaramond Roman"/>
              </a:rPr>
              <a:t>CORPORATE /GROUP LEADERS , TOP &amp; SENIOR LEADERS </a:t>
            </a:r>
            <a:r>
              <a:rPr b="1" lang="en-US" sz="3000" spc="-1" strike="noStrike">
                <a:solidFill>
                  <a:srgbClr val="575f6d"/>
                </a:solidFill>
                <a:latin typeface="StempelGaramond Roman"/>
                <a:ea typeface="StempelGaramond Roman"/>
              </a:rPr>
              <a:t>RECRUITMENT PRO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" descr=""/>
          <p:cNvPicPr/>
          <p:nvPr/>
        </p:nvPicPr>
        <p:blipFill>
          <a:blip r:embed="rId1"/>
          <a:stretch/>
        </p:blipFill>
        <p:spPr>
          <a:xfrm>
            <a:off x="603360" y="1292400"/>
            <a:ext cx="7785000" cy="4498920"/>
          </a:xfrm>
          <a:prstGeom prst="rect">
            <a:avLst/>
          </a:prstGeom>
          <a:ln w="0">
            <a:noFill/>
          </a:ln>
        </p:spPr>
      </p:pic>
      <p:sp>
        <p:nvSpPr>
          <p:cNvPr id="618" name="TextBox 2"/>
          <p:cNvSpPr/>
          <p:nvPr/>
        </p:nvSpPr>
        <p:spPr>
          <a:xfrm>
            <a:off x="762120" y="274680"/>
            <a:ext cx="746748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StempelGaramond Roman"/>
                <a:ea typeface="StempelGaramond Roman"/>
              </a:rPr>
              <a:t>MIDDLE  &amp; NEW LEADERS RECRUITMENT PRO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0T07:57:39Z</dcterms:created>
  <dc:creator>htl</dc:creator>
  <dc:description/>
  <dc:language>en-US</dc:language>
  <cp:lastModifiedBy>Huy</cp:lastModifiedBy>
  <dcterms:modified xsi:type="dcterms:W3CDTF">2008-09-13T05:11:06Z</dcterms:modified>
  <cp:revision>34</cp:revision>
  <dc:subject/>
  <dc:title>Slide 1</dc:title>
</cp:coreProperties>
</file>