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1BF4-A231-472E-A64B-07EF15F48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F1F6-5953-45A4-9CCC-36A10189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A1D306-C38A-4CBC-B013-A24798BD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61D535-E80B-4686-B9F1-6F419994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653806-CB54-40BC-889E-AC30C798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70ADC3-041B-4DCF-859B-2030B53C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EEAB28-40DC-42AE-B37D-037AD2F7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569CE9-0248-4A4C-BE8A-18289E20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A1A078-45C2-41A1-83B9-CFAC65E5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4B036C-234F-49EB-BAAE-3C3518C91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0980D0-196D-4A4D-A8A9-BCC0FA98D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CA2B28-5DEB-43E2-931D-9CA45BC67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CD9F-4E24-4878-9038-302A1A0BC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4EE3A0-ED50-46F6-BDB3-FA45A4C3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32A1B7-BBF3-4BEF-BB62-779C05DD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9CC498-51AF-4251-A41F-78A27C35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E8511C-56BE-4B12-98ED-F346C64B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242A2B-ED47-4B0D-A068-74A6021B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8EB6DC-8BA8-48B9-98FE-3333F20C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16DA67-7FF0-4870-A088-59321EC2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8C14DA-0941-4D83-A6C8-67F8D36A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7054BE-DA46-404E-BB6C-8BBB5221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32FA74-9877-4511-94F7-BEC0C2A04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685C-82DF-4F51-8E0A-BC49C7925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62E4E5-AF76-4BB6-A456-D537A0DB1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EBE84-4C03-4262-8B87-438288B55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7BE24-A167-4DBE-A164-C2BC413A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FC0D2-544B-49D0-A750-CCEF937F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36344-6274-4A29-A80E-BDE89B33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0166A-FBAD-4F4E-86FA-D3D7359E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AF2E4-48EE-47F7-8B70-70011934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356EB-EC6A-42F7-AF2B-1A71686F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9F205-C08E-449B-AB9F-6C1E3D1B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12474-D2DD-4781-BC95-7CBDE01D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2F36-63AB-4E74-86B1-FB74C9315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F4048-33BF-47E6-B525-93E7A10C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D7299-0470-4EA9-902C-D3CF5D07D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41798-4F7E-4BD4-AB14-2816D8FBD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FF2A89-9071-45D0-BB97-C546D1E2F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D599C7-84D5-464C-B621-73AD5071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D15C36-8266-45E9-9F18-7E433D5C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0381B5-E23B-4E9C-A3C9-9B7EF850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66B8E5-5D8F-479B-8AF5-31D55958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456288-5942-4414-99E0-334DF65D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7ABDB3-6DD9-4A49-940D-1B0EC3C7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E8A6-C12D-467D-9910-D3603ECB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951A9B-BBA7-4370-A494-77495008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71D7EA-A423-4332-884A-661B263F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83DFFF-F5A4-4CAD-893C-FFAB50BC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FDF1A6-D980-4A3E-A660-693CAED1D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8D1B45-7E5B-4051-91BA-BD23FF090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A91D-896B-4661-95CD-E40865A7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FA24-33EA-47BF-879F-4C7AD092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6375-1D09-4A58-9987-0981C117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A332-C927-496B-B9E3-A22C085D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9352-0D4A-41F1-BC00-F7CC7D7D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F780-52F8-4609-BBDD-01F0F839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DC01-0149-4D5B-AE20-6B905CFD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05D7-B81C-4E46-9FCB-9668164E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8836-FFA7-472A-B503-86B43DA5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A3A8-D2B6-4CEE-BCBF-572141E9B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B2511-990B-4015-BFAD-50331A03B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30CDE7-88E1-40D3-A539-306E42D06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B02A23-F82E-4D4A-ADD5-3C05B6DA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7D09EA-2CAF-4272-BF4D-5ABB17E4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5DDAEE-DB9F-4BDE-B54F-30235361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DC9EC5-2FCE-4A6A-8166-82DA30DE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CA1E-465D-4467-8E6D-BA5B1F90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5DF7F7-6719-43AF-8DE5-E9EBE38F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BE7D05-87AF-45EF-B397-D9968408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D3F9C7-4A15-4156-AA96-6251FB3F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FE249F-5D57-4EDB-AB62-8216B75F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C97973-0C47-4712-8FD3-F49F0977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1AAFC0-F690-4744-A172-7B07011B4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B73092-6BD6-4E2E-B4A4-B34BD0B86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A7A6B-42A2-42DB-AA32-4695A43D2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3CF91-1944-41A8-90F7-809A5A8F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B669B-4CA7-45D0-A6E5-13453A00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A8A2-B7AC-4AFA-A0E7-E2B88D61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BA164-C6BB-4516-AB54-9611E5DF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54CBD-38A6-441D-A125-622A394E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BCAB6-154B-445D-B9E7-CCFD1EB1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A0FB7-51C7-4E36-A3C7-C3202A12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76552-EC59-41D3-BE76-6AB89E1D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58F37-72AA-4319-9B17-E938C279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A390A-2D6D-486E-A088-B3C60798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1E1F9-21AF-4619-AC93-720A5C3DF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EEA6D-6DD5-40D9-9931-7BF932A11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6A54E-DC01-4366-933D-D9120471E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0683-319D-4434-8D95-F50DC00A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1AC7D-9008-4DC3-860E-4D685EF4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BB377-B25C-48B1-928C-025B569B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423E6-4C2C-4698-AC18-6BE59A81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E206F-A7CF-4EF1-91A6-FF5C4B2A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ADCF0-64F2-4051-B14B-BAC59073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FCD8E-B444-4615-B13A-BC10F69E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E2BDC-D621-4CE5-A242-7FE094BE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A8916-EE64-42EE-BADA-C25FAEAF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28930-4DF8-42C9-869C-BF84B14C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0BBD1-C13F-4893-85AB-536EE261A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27BB-71F5-44F7-9B67-3F56CF9C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6FCB6-617E-4251-83DC-F608E4136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E06BC-BAE6-4EFE-85FF-385EE2896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D40CA-EF1F-4E61-B223-AE1EEEF6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B4632-F647-449C-BB1E-764C8FA4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13D37-0AF6-47A9-85E8-EBAFD315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ADFDA-3507-4F2F-ADAB-337FD92F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B9718-2074-4180-AE20-66C53B88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CD922-B522-4656-9E08-FA889EEA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C0EA1-65A0-4B5D-B60F-871EC1D8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2E245-67FE-4EC6-8DD4-AC43C1A8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4E93-2263-4EB2-8224-CC2A46B0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9F37E-6FA4-46DD-AC1B-4FED5DA0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5248F-A93F-49F3-9D5D-E0D0AC762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F094F-788F-41F1-A12D-3A469954E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66FF39-49EA-49B6-9B82-A0867512F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6DF22D-4057-4C72-84BF-82A9BE1D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DCE924-8F31-49A2-9A09-6A3EC47C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942DDA-DA3A-42E1-BA25-DE6BB5F6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550FA2-8A9E-48F9-B738-CAFA8F4D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CC529F-2A7F-4DA4-9B4D-1689F563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B6D045-C6D3-4710-A095-7486292F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642D-54FF-4B53-B332-17374185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1AD274-E026-4F03-A96B-770C2415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57DD95-1163-4E71-8B38-29F4E0FF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B855B7-2245-4C81-8F8E-E604F475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FCFEB4-B7D8-47B0-BE71-BA641DD74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160858-89A6-40AC-878C-BCF8DF9E2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EBCDE-AABB-4438-A418-E778E387D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EAA18-0549-45DD-B636-CDE17B17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9437D-4E35-485A-A4CD-D29E45E0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A4648-DB09-4BC8-9EFF-32A2E612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DDCC2-8D12-4F91-8BD6-91F05A77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C48B-2610-4CC7-937A-7648A5F9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C7AE2-894B-4414-A327-9258449F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F957A-90F6-4E02-85AB-4981E82E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88F51-84B6-4309-ABC5-072D2FA0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46276-2198-4DC6-A9E9-395937CE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0350F-8628-460D-B0BA-6EE1FB90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F77FF-7FD6-4054-AD60-6C1FF32ED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9B2D9-9A0B-4650-9EBD-8286EF6CE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FF6896-CB9E-4BF8-862B-0F8FAACB0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5D73F9-4CE7-4A6E-8588-AEBC91CE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64620F-4D95-449F-94B8-4A9895AF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StempelGaramond Roman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1" marL="743040" indent="-2858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2" marL="1143000" indent="-22860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3" marL="1600200" indent="-22860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4" marL="2057400" indent="-22860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880" y="1080720"/>
            <a:ext cx="20127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4087-DADE-4B83-B515-D5688BDF440B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8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1031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33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4F58-8877-47E6-92CF-966874BF3FC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Oval 18"/>
          <p:cNvSpPr/>
          <p:nvPr/>
        </p:nvSpPr>
        <p:spPr>
          <a:xfrm>
            <a:off x="8542440" y="2252520"/>
            <a:ext cx="91800" cy="90720"/>
          </a:xfrm>
          <a:prstGeom prst="ellipse">
            <a:avLst/>
          </a:prstGeom>
          <a:noFill/>
          <a:ln cap="rnd"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StempelGaramond Roman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1" marL="743040" indent="-2858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2" marL="1143000" indent="-22860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3" marL="1600200" indent="-22860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4" marL="2057400" indent="-22860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55" name="Straight Connector 6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7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11"/>
          <p:cNvSpPr/>
          <p:nvPr/>
        </p:nvSpPr>
        <p:spPr>
          <a:xfrm>
            <a:off x="8540640" y="2238480"/>
            <a:ext cx="92160" cy="91800"/>
          </a:xfrm>
          <a:prstGeom prst="ellipse">
            <a:avLst/>
          </a:prstGeom>
          <a:solidFill>
            <a:srgbClr val="ffffff"/>
          </a:solidFill>
          <a:ln cap="sq"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traight Connector 15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8"/>
          </p:nvPr>
        </p:nvSpPr>
        <p:spPr>
          <a:xfrm rot="5400000">
            <a:off x="7589880" y="1080720"/>
            <a:ext cx="20127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67EE-F588-4DFB-B6F5-E3943996605B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sldNum" idx="2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9D90-BC3C-46C0-BF42-2B7D1DBA7F1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ftr" idx="30"/>
          </p:nvPr>
        </p:nvSpPr>
        <p:spPr>
          <a:xfrm rot="5400000">
            <a:off x="6989760" y="3738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StempelGaramond Roman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1" marL="743040" indent="-2858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2" marL="1143000" indent="-22860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3" marL="1600200" indent="-22860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4" marL="2057400" indent="-22860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traight Connector 1031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traight Connector 1033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18"/>
          <p:cNvSpPr/>
          <p:nvPr/>
        </p:nvSpPr>
        <p:spPr>
          <a:xfrm>
            <a:off x="8542440" y="2252520"/>
            <a:ext cx="91800" cy="90720"/>
          </a:xfrm>
          <a:prstGeom prst="ellipse">
            <a:avLst/>
          </a:prstGeom>
          <a:noFill/>
          <a:ln cap="rnd"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1"/>
          </p:nvPr>
        </p:nvSpPr>
        <p:spPr>
          <a:xfrm rot="5400000">
            <a:off x="7589880" y="1080720"/>
            <a:ext cx="20127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2"/>
          </p:nvPr>
        </p:nvSpPr>
        <p:spPr>
          <a:xfrm rot="5400000">
            <a:off x="6989760" y="3738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8C5F-2B78-4EB2-92E9-A80F7AF0682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StempelGaramond Roman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1" marL="743040" indent="-2858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2" marL="1143000" indent="-22860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3" marL="1600200" indent="-22860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4" marL="2057400" indent="-22860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53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traight Connector 1031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traight Connector 1033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18"/>
          <p:cNvSpPr/>
          <p:nvPr/>
        </p:nvSpPr>
        <p:spPr>
          <a:xfrm>
            <a:off x="8542440" y="2252520"/>
            <a:ext cx="91800" cy="90720"/>
          </a:xfrm>
          <a:prstGeom prst="ellipse">
            <a:avLst/>
          </a:prstGeom>
          <a:noFill/>
          <a:ln cap="rnd"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34"/>
          </p:nvPr>
        </p:nvSpPr>
        <p:spPr>
          <a:xfrm rot="5400000">
            <a:off x="7589880" y="1080720"/>
            <a:ext cx="20127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35"/>
          </p:nvPr>
        </p:nvSpPr>
        <p:spPr>
          <a:xfrm rot="5400000">
            <a:off x="6989760" y="3738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3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17D0-B494-4D91-960C-FE8D9685559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StempelGaramond Roman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1" marL="743040" indent="-2858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2" marL="1143000" indent="-22860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3" marL="1600200" indent="-22860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4" marL="2057400" indent="-22860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11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17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8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9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20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4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5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6"/>
          <p:cNvSpPr/>
          <p:nvPr/>
        </p:nvSpPr>
        <p:spPr>
          <a:xfrm>
            <a:off x="8848800" y="2457360"/>
            <a:ext cx="90360" cy="90720"/>
          </a:xfrm>
          <a:prstGeom prst="ellipse">
            <a:avLst/>
          </a:prstGeom>
          <a:noFill/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7541-3C3B-42E6-AA3A-8A3B4D9A3683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E09B-790E-4966-BA55-62EF39F2E18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StempelGaramond Roman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1" marL="743040" indent="-2858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2" marL="1143000" indent="-22860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3" marL="1600200" indent="-22860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4" marL="2057400" indent="-22860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1031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1033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8"/>
          <p:cNvSpPr/>
          <p:nvPr/>
        </p:nvSpPr>
        <p:spPr>
          <a:xfrm>
            <a:off x="8542440" y="2252520"/>
            <a:ext cx="91800" cy="90720"/>
          </a:xfrm>
          <a:prstGeom prst="ellipse">
            <a:avLst/>
          </a:prstGeom>
          <a:noFill/>
          <a:ln cap="rnd"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 rot="5400000">
            <a:off x="7589880" y="1080720"/>
            <a:ext cx="20127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B722-17FB-4721-BA13-761B718AC5DF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9EAA-A7A5-4FE4-B651-5A1706E3F9C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8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StempelGaramond Roman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StempelGaramond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ffffff"/>
                </a:solidFill>
                <a:latin typeface="StempelGaramond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StempelGaramond Roman"/>
            </a:endParaRPr>
          </a:p>
          <a:p>
            <a:pPr lvl="1" marL="743040" indent="-2858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ffffff"/>
                </a:solidFill>
                <a:latin typeface="StempelGaramond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StempelGaramond Roman"/>
            </a:endParaRPr>
          </a:p>
          <a:p>
            <a:pPr lvl="2" marL="1143000" indent="-22860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ffffff"/>
                </a:solidFill>
                <a:latin typeface="StempelGaramond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StempelGaramond Roman"/>
            </a:endParaRPr>
          </a:p>
          <a:p>
            <a:pPr lvl="3" marL="1600200" indent="-22860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ffffff"/>
                </a:solidFill>
                <a:latin typeface="StempelGaramond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StempelGaramond Roman"/>
            </a:endParaRPr>
          </a:p>
          <a:p>
            <a:pPr lvl="4" marL="2057400" indent="-22860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ffffff"/>
                </a:solidFill>
                <a:latin typeface="StempelGaramond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StempelGaramond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ffffff"/>
                </a:solidFill>
                <a:latin typeface="StempelGaramond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StempelGaramond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ffffff"/>
                </a:solidFill>
                <a:latin typeface="StempelGaramond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StempelGaramond Roman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1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23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24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26"/>
          <p:cNvSpPr/>
          <p:nvPr/>
        </p:nvSpPr>
        <p:spPr>
          <a:xfrm>
            <a:off x="8848800" y="2457360"/>
            <a:ext cx="90360" cy="90720"/>
          </a:xfrm>
          <a:prstGeom prst="ellipse">
            <a:avLst/>
          </a:prstGeom>
          <a:noFill/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FB64-8899-4CBE-A00E-7D7254EA1386}" type="datetime"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256B-280A-47EF-A6E7-C4850AA0BDA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StempelGaramond Roman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1" marL="743040" indent="-2858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2" marL="1143000" indent="-22860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3" marL="1600200" indent="-22860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4" marL="2057400" indent="-22860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1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1031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033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8"/>
          <p:cNvSpPr/>
          <p:nvPr/>
        </p:nvSpPr>
        <p:spPr>
          <a:xfrm>
            <a:off x="8542440" y="2252520"/>
            <a:ext cx="91800" cy="90720"/>
          </a:xfrm>
          <a:prstGeom prst="ellipse">
            <a:avLst/>
          </a:prstGeom>
          <a:noFill/>
          <a:ln cap="rnd"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 rot="5400000">
            <a:off x="7589880" y="1080720"/>
            <a:ext cx="20127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32D7-DAD3-4720-A572-546DA7936CFD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4"/>
          </p:nvPr>
        </p:nvSpPr>
        <p:spPr>
          <a:xfrm rot="5400000">
            <a:off x="6989760" y="3738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1EBF-F7D6-4F3C-A36A-252C3513D11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StempelGaramond Roman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1" marL="743040" indent="-2858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2" marL="1143000" indent="-22860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3" marL="1600200" indent="-22860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4" marL="2057400" indent="-22860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63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traight Connector 1031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1033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18"/>
          <p:cNvSpPr/>
          <p:nvPr/>
        </p:nvSpPr>
        <p:spPr>
          <a:xfrm>
            <a:off x="8542440" y="2252520"/>
            <a:ext cx="91800" cy="90720"/>
          </a:xfrm>
          <a:prstGeom prst="ellipse">
            <a:avLst/>
          </a:prstGeom>
          <a:noFill/>
          <a:ln cap="rnd"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6"/>
          </p:nvPr>
        </p:nvSpPr>
        <p:spPr>
          <a:xfrm rot="5400000">
            <a:off x="7589880" y="1080720"/>
            <a:ext cx="20127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673E-6092-44DE-8592-351DCE1A9BCF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7"/>
          </p:nvPr>
        </p:nvSpPr>
        <p:spPr>
          <a:xfrm rot="5400000">
            <a:off x="6989760" y="3738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CB7F-FA30-49EF-B6AF-8B40F5040DC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StempelGaramond Roman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1" marL="743040" indent="-2858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2" marL="1143000" indent="-22860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3" marL="1600200" indent="-22860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4" marL="2057400" indent="-22860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1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traight Connector 1031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traight Connector 1033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8"/>
          <p:cNvSpPr/>
          <p:nvPr/>
        </p:nvSpPr>
        <p:spPr>
          <a:xfrm>
            <a:off x="8542440" y="2252520"/>
            <a:ext cx="91800" cy="90720"/>
          </a:xfrm>
          <a:prstGeom prst="ellipse">
            <a:avLst/>
          </a:prstGeom>
          <a:noFill/>
          <a:ln cap="rnd"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9"/>
          </p:nvPr>
        </p:nvSpPr>
        <p:spPr>
          <a:xfrm rot="5400000">
            <a:off x="7589880" y="1080720"/>
            <a:ext cx="20127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D9F1B-2888-451B-9658-B47EA70ED300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581A-B866-4917-87C8-F0590084C03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8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StempelGaramond Roman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1" marL="743040" indent="-2858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2" marL="1143000" indent="-22860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3" marL="1600200" indent="-22860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4" marL="2057400" indent="-22860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5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traight Connector 1031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traight Connector 1033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18"/>
          <p:cNvSpPr/>
          <p:nvPr/>
        </p:nvSpPr>
        <p:spPr>
          <a:xfrm>
            <a:off x="8542440" y="2252520"/>
            <a:ext cx="91800" cy="90720"/>
          </a:xfrm>
          <a:prstGeom prst="ellipse">
            <a:avLst/>
          </a:prstGeom>
          <a:noFill/>
          <a:ln cap="rnd"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2"/>
          </p:nvPr>
        </p:nvSpPr>
        <p:spPr>
          <a:xfrm rot="5400000">
            <a:off x="7589880" y="1080720"/>
            <a:ext cx="20127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C752-7910-4574-862E-FA174C6D11C0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3"/>
          </p:nvPr>
        </p:nvSpPr>
        <p:spPr>
          <a:xfrm rot="5400000">
            <a:off x="6989760" y="3738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AB30-0891-4A56-A099-EA614718B1B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StempelGaramond Roman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1" marL="743040" indent="-2858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2" marL="1143000" indent="-22860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3" marL="1600200" indent="-22860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4" marL="2057400" indent="-22860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06" name="Straight Connector 6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traight Connector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traight Connector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traight Connector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14"/>
          <p:cNvSpPr/>
          <p:nvPr/>
        </p:nvSpPr>
        <p:spPr>
          <a:xfrm>
            <a:off x="815508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15"/>
          <p:cNvSpPr/>
          <p:nvPr/>
        </p:nvSpPr>
        <p:spPr>
          <a:xfrm>
            <a:off x="8540640" y="2238480"/>
            <a:ext cx="92160" cy="91800"/>
          </a:xfrm>
          <a:prstGeom prst="ellipse">
            <a:avLst/>
          </a:prstGeom>
          <a:solidFill>
            <a:srgbClr val="ffffff"/>
          </a:solidFill>
          <a:ln cap="sq"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5"/>
          </p:nvPr>
        </p:nvSpPr>
        <p:spPr>
          <a:xfrm rot="5400000">
            <a:off x="7589880" y="1080720"/>
            <a:ext cx="20127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261E-51C8-462C-AF52-945E6CBF1771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2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C263-EF1E-4F1C-8F62-1D019BEB58C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ftr" idx="27"/>
          </p:nvPr>
        </p:nvSpPr>
        <p:spPr>
          <a:xfrm rot="5400000">
            <a:off x="6989760" y="3738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904760" y="914040"/>
            <a:ext cx="6553080" cy="189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575f6d"/>
                </a:solidFill>
                <a:latin typeface="StempelGaramond Roman"/>
              </a:rPr>
              <a:t>RECRUITMENT STRATEGY</a:t>
            </a:r>
            <a:br>
              <a:rPr sz="4400"/>
            </a:br>
            <a:endParaRPr b="0" lang="en-US" sz="4400" spc="-1" strike="noStrike">
              <a:solidFill>
                <a:srgbClr val="575f6d"/>
              </a:solidFill>
              <a:latin typeface="StempelGaramon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371520" y="609480"/>
            <a:ext cx="7943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Oval 26624"/>
          <p:cNvSpPr/>
          <p:nvPr/>
        </p:nvSpPr>
        <p:spPr>
          <a:xfrm>
            <a:off x="152280" y="1371600"/>
            <a:ext cx="8839440" cy="5334120"/>
          </a:xfrm>
          <a:prstGeom prst="ellipse">
            <a:avLst/>
          </a:prstGeom>
          <a:solidFill>
            <a:srgbClr val="e2e4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Times New Roman"/>
              </a:rPr>
              <a:t>DELIVERY MODEL</a:t>
            </a: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622" name="Pentagon 26626"/>
          <p:cNvSpPr/>
          <p:nvPr/>
        </p:nvSpPr>
        <p:spPr>
          <a:xfrm>
            <a:off x="990720" y="1752480"/>
            <a:ext cx="2209680" cy="45720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0"/>
              <a:gd name="textAreaBottom" fmla="*/ 4572360 h 45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ee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Group 8"/>
          <p:cNvGrpSpPr/>
          <p:nvPr/>
        </p:nvGrpSpPr>
        <p:grpSpPr>
          <a:xfrm>
            <a:off x="1066680" y="2590920"/>
            <a:ext cx="1676160" cy="914400"/>
            <a:chOff x="1066680" y="2590920"/>
            <a:chExt cx="1676160" cy="914400"/>
          </a:xfrm>
        </p:grpSpPr>
        <p:sp>
          <p:nvSpPr>
            <p:cNvPr id="624" name="Rectangle 16389"/>
            <p:cNvSpPr/>
            <p:nvPr/>
          </p:nvSpPr>
          <p:spPr>
            <a:xfrm>
              <a:off x="1066680" y="2590920"/>
              <a:ext cx="1676160" cy="304920"/>
            </a:xfrm>
            <a:prstGeom prst="rect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fining the Recruit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16390"/>
            <p:cNvSpPr/>
            <p:nvPr/>
          </p:nvSpPr>
          <p:spPr>
            <a:xfrm>
              <a:off x="1066680" y="2895840"/>
              <a:ext cx="1676160" cy="609480"/>
            </a:xfrm>
            <a:prstGeom prst="rect">
              <a:avLst/>
            </a:prstGeom>
            <a:solidFill>
              <a:srgbClr val="bdb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quir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Group 9"/>
          <p:cNvGrpSpPr/>
          <p:nvPr/>
        </p:nvGrpSpPr>
        <p:grpSpPr>
          <a:xfrm>
            <a:off x="1066680" y="4114800"/>
            <a:ext cx="1676160" cy="914400"/>
            <a:chOff x="1066680" y="4114800"/>
            <a:chExt cx="1676160" cy="914400"/>
          </a:xfrm>
        </p:grpSpPr>
        <p:sp>
          <p:nvSpPr>
            <p:cNvPr id="627" name="Rectangle 16393"/>
            <p:cNvSpPr/>
            <p:nvPr/>
          </p:nvSpPr>
          <p:spPr>
            <a:xfrm>
              <a:off x="1066680" y="4114800"/>
              <a:ext cx="1676160" cy="304920"/>
            </a:xfrm>
            <a:prstGeom prst="rect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lan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16394"/>
            <p:cNvSpPr/>
            <p:nvPr/>
          </p:nvSpPr>
          <p:spPr>
            <a:xfrm>
              <a:off x="1066680" y="4419720"/>
              <a:ext cx="1676160" cy="609480"/>
            </a:xfrm>
            <a:prstGeom prst="rect">
              <a:avLst/>
            </a:prstGeom>
            <a:solidFill>
              <a:srgbClr val="bdb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fining the proce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tting the Time fra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Down Arrow 26629"/>
          <p:cNvSpPr/>
          <p:nvPr/>
        </p:nvSpPr>
        <p:spPr>
          <a:xfrm>
            <a:off x="1828800" y="358128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entagon 26630"/>
          <p:cNvSpPr/>
          <p:nvPr/>
        </p:nvSpPr>
        <p:spPr>
          <a:xfrm>
            <a:off x="3657600" y="1600200"/>
            <a:ext cx="2286000" cy="495288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4952880"/>
              <a:gd name="textAreaBottom" fmla="*/ 4952880 h 495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ee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6400"/>
          <p:cNvSpPr/>
          <p:nvPr/>
        </p:nvSpPr>
        <p:spPr>
          <a:xfrm>
            <a:off x="3733920" y="2057400"/>
            <a:ext cx="1676160" cy="30492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pping the Target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16401"/>
          <p:cNvSpPr/>
          <p:nvPr/>
        </p:nvSpPr>
        <p:spPr>
          <a:xfrm>
            <a:off x="3733920" y="2362320"/>
            <a:ext cx="1676160" cy="914400"/>
          </a:xfrm>
          <a:prstGeom prst="rect">
            <a:avLst/>
          </a:prstGeom>
          <a:solidFill>
            <a:srgbClr val="bdb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b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Reference EO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Recruitmen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p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16403"/>
          <p:cNvSpPr/>
          <p:nvPr/>
        </p:nvSpPr>
        <p:spPr>
          <a:xfrm>
            <a:off x="3733920" y="3733920"/>
            <a:ext cx="1676160" cy="38088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16404"/>
          <p:cNvSpPr/>
          <p:nvPr/>
        </p:nvSpPr>
        <p:spPr>
          <a:xfrm>
            <a:off x="3733920" y="4038480"/>
            <a:ext cx="1676160" cy="762120"/>
          </a:xfrm>
          <a:prstGeom prst="rect">
            <a:avLst/>
          </a:prstGeom>
          <a:solidFill>
            <a:srgbClr val="bdb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P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tive Inde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liminary Int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16405"/>
          <p:cNvSpPr/>
          <p:nvPr/>
        </p:nvSpPr>
        <p:spPr>
          <a:xfrm>
            <a:off x="3733920" y="5257800"/>
            <a:ext cx="1676160" cy="38088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6406"/>
          <p:cNvSpPr/>
          <p:nvPr/>
        </p:nvSpPr>
        <p:spPr>
          <a:xfrm>
            <a:off x="3733920" y="5562720"/>
            <a:ext cx="1676160" cy="761760"/>
          </a:xfrm>
          <a:prstGeom prst="rect">
            <a:avLst/>
          </a:prstGeom>
          <a:solidFill>
            <a:srgbClr val="bdb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Int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l Check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entagon 26637"/>
          <p:cNvSpPr/>
          <p:nvPr/>
        </p:nvSpPr>
        <p:spPr>
          <a:xfrm>
            <a:off x="6400800" y="1752480"/>
            <a:ext cx="2133720" cy="449604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4496040"/>
              <a:gd name="textAreaBottom" fmla="*/ 4496400 h 449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ee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16408"/>
          <p:cNvSpPr/>
          <p:nvPr/>
        </p:nvSpPr>
        <p:spPr>
          <a:xfrm>
            <a:off x="6477120" y="2666880"/>
            <a:ext cx="1600200" cy="609840"/>
          </a:xfrm>
          <a:prstGeom prst="rect">
            <a:avLst/>
          </a:prstGeom>
          <a:solidFill>
            <a:srgbClr val="bdb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ilitating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boarding Proc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Down Arrow 26639"/>
          <p:cNvSpPr/>
          <p:nvPr/>
        </p:nvSpPr>
        <p:spPr>
          <a:xfrm>
            <a:off x="4495680" y="3352680"/>
            <a:ext cx="152640" cy="30492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Down Arrow 26640"/>
          <p:cNvSpPr/>
          <p:nvPr/>
        </p:nvSpPr>
        <p:spPr>
          <a:xfrm>
            <a:off x="4495680" y="4876920"/>
            <a:ext cx="152640" cy="304560"/>
          </a:xfrm>
          <a:prstGeom prst="downArrow">
            <a:avLst>
              <a:gd name="adj1" fmla="val 50000"/>
              <a:gd name="adj2" fmla="val 49882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Down Arrow 26641"/>
          <p:cNvSpPr/>
          <p:nvPr/>
        </p:nvSpPr>
        <p:spPr>
          <a:xfrm>
            <a:off x="7162920" y="335268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16412"/>
          <p:cNvSpPr/>
          <p:nvPr/>
        </p:nvSpPr>
        <p:spPr>
          <a:xfrm>
            <a:off x="6553080" y="4267080"/>
            <a:ext cx="1295640" cy="30492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o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16415"/>
          <p:cNvSpPr/>
          <p:nvPr/>
        </p:nvSpPr>
        <p:spPr>
          <a:xfrm>
            <a:off x="3962520" y="1157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16416"/>
          <p:cNvSpPr/>
          <p:nvPr/>
        </p:nvSpPr>
        <p:spPr>
          <a:xfrm rot="5250600">
            <a:off x="8335440" y="38541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16417"/>
          <p:cNvSpPr/>
          <p:nvPr/>
        </p:nvSpPr>
        <p:spPr>
          <a:xfrm rot="16200000">
            <a:off x="-563400" y="3778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Times New Roman"/>
              </a:rPr>
              <a:t>TECHNOLOGY</a:t>
            </a: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Recruitment system to facilitate the recruitment process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 between the E recruitment system and SAP so as to further smoothen out the process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Times New Roman"/>
              </a:rPr>
              <a:t>TEAM</a:t>
            </a: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Times New Roman"/>
              </a:rPr>
              <a:t>CONTINUOUS IMPROVEMENT</a:t>
            </a: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Obtain feedback from the Users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Review the process.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Modify the processes to make them more user friendly and efficient.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StempelGaramond Roman"/>
              </a:rPr>
              <a:t>STRATEGY FOR TALENT ACQUISITION</a:t>
            </a: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tempelGaramond Roman"/>
              </a:rPr>
              <a:t>Build the best employer brand to attract the most suitable talent</a:t>
            </a:r>
            <a:endParaRPr b="0" lang="en-US" sz="1700" spc="-1" strike="noStrike">
              <a:solidFill>
                <a:srgbClr val="000000"/>
              </a:solidFill>
              <a:latin typeface="StempelGaramond Roman"/>
            </a:endParaRPr>
          </a:p>
          <a:p>
            <a:pPr marL="264600" indent="-264600" algn="just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tempelGaramond Roman"/>
              </a:rPr>
              <a:t>Clearly define the structure &amp; staffing, roles and responsibilities, reporting relationships and capabilities required for the job.</a:t>
            </a:r>
            <a:endParaRPr b="0" lang="en-US" sz="1700" spc="-1" strike="noStrike">
              <a:solidFill>
                <a:srgbClr val="000000"/>
              </a:solidFill>
              <a:latin typeface="StempelGaramond Roman"/>
            </a:endParaRPr>
          </a:p>
          <a:p>
            <a:pPr marL="264600" indent="-264600" algn="just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tempelGaramond Roman"/>
              </a:rPr>
              <a:t>Select the people based on </a:t>
            </a:r>
            <a:r>
              <a:rPr b="1" lang="en-US" sz="1700" spc="-1" strike="noStrike">
                <a:solidFill>
                  <a:srgbClr val="000000"/>
                </a:solidFill>
                <a:latin typeface="StempelGaramond Roman"/>
              </a:rPr>
              <a:t>Personal Qualities and Professional capabilities keeping in mind “Job-fit” and Culture fit</a:t>
            </a:r>
            <a:r>
              <a:rPr b="0" lang="en-US" sz="1700" spc="-1" strike="noStrike">
                <a:solidFill>
                  <a:srgbClr val="000000"/>
                </a:solidFill>
                <a:latin typeface="StempelGaramond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StempelGaramond Roman"/>
            </a:endParaRPr>
          </a:p>
          <a:p>
            <a:pPr marL="264600" indent="-264600" algn="just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tempelGaramond Roman"/>
              </a:rPr>
              <a:t>At top 2 levels just below the CEO recruit people with extraordinary entrepreneurial qualities and tolerance to ambiguity with “can-do and never- say-no attitude”.</a:t>
            </a:r>
            <a:endParaRPr b="0" lang="en-US" sz="1700" spc="-1" strike="noStrike">
              <a:solidFill>
                <a:srgbClr val="000000"/>
              </a:solidFill>
              <a:latin typeface="StempelGaramond Roman"/>
            </a:endParaRPr>
          </a:p>
          <a:p>
            <a:pPr marL="264600" indent="-264600" algn="just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StempelGaramond Roman"/>
              </a:rPr>
              <a:t>Excite people with opportunity of learning, growth and wealth creation through equity compensation</a:t>
            </a:r>
            <a:r>
              <a:rPr b="0" lang="en-US" sz="1700" spc="-1" strike="noStrike">
                <a:solidFill>
                  <a:srgbClr val="000000"/>
                </a:solidFill>
                <a:latin typeface="StempelGaramond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StempelGaramond Roman"/>
            </a:endParaRPr>
          </a:p>
          <a:p>
            <a:pPr marL="264600" indent="-264600" algn="just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tempelGaramond Roman"/>
              </a:rPr>
              <a:t>Tactics: Go for “Leg-down” strategy in compensation and designation i.e. to attract people pay them higher than the market and over 2- 3 years give moderate salary increases so that the average cost is better managed. </a:t>
            </a:r>
            <a:endParaRPr b="0" lang="en-US" sz="1700" spc="-1" strike="noStrike">
              <a:solidFill>
                <a:srgbClr val="000000"/>
              </a:solidFill>
              <a:latin typeface="StempelGaramond Roman"/>
            </a:endParaRPr>
          </a:p>
          <a:p>
            <a:pPr marL="264600" indent="-264600" algn="just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tempelGaramond Roman"/>
              </a:rPr>
              <a:t>Keep an eye on average employee cost – build the staffing pyramid  with the focus on creating the most cost efficient people organization in the world. </a:t>
            </a:r>
            <a:endParaRPr b="0" lang="en-US" sz="1700" spc="-1" strike="noStrike">
              <a:solidFill>
                <a:srgbClr val="000000"/>
              </a:solidFill>
              <a:latin typeface="StempelGaramond Roman"/>
            </a:endParaRPr>
          </a:p>
          <a:p>
            <a:pPr marL="26460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StempelGaramon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StempelGaramond Roman"/>
              </a:rPr>
              <a:t>TALENT SOURCE</a:t>
            </a: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334800" y="2011320"/>
            <a:ext cx="824256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StempelGaramond Roman"/>
              </a:rPr>
              <a:t>RECRUITMENT STRATEGY FOR JUNIOR LEVEL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334800" y="1932120"/>
            <a:ext cx="7712280" cy="17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Completely align the Recruitment Strategy with the business plan, so as to stay head of  the curve with the leaders in recruiting Top Talent from the industry.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title"/>
          </p:nvPr>
        </p:nvSpPr>
        <p:spPr>
          <a:xfrm>
            <a:off x="685440" y="5029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StempelGaramond Roman"/>
              </a:rPr>
              <a:t>MOTTO</a:t>
            </a: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61760" y="35100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StempelGaramond Roman"/>
              </a:rPr>
              <a:t>FLOW</a:t>
            </a: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3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tempelGaramond Roman"/>
              </a:rPr>
              <a:t>Recruitment Strategy</a:t>
            </a:r>
            <a:endParaRPr b="0" lang="en-US" sz="2600" spc="-1" strike="noStrike">
              <a:solidFill>
                <a:srgbClr val="000000"/>
              </a:solidFill>
              <a:latin typeface="StempelGaramond Roman"/>
            </a:endParaRPr>
          </a:p>
          <a:p>
            <a:pPr marL="270000" indent="-270000">
              <a:lnSpc>
                <a:spcPct val="13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tempelGaramond Roman"/>
              </a:rPr>
              <a:t>Process</a:t>
            </a:r>
            <a:endParaRPr b="0" lang="en-US" sz="2600" spc="-1" strike="noStrike">
              <a:solidFill>
                <a:srgbClr val="000000"/>
              </a:solidFill>
              <a:latin typeface="StempelGaramond Roman"/>
            </a:endParaRPr>
          </a:p>
          <a:p>
            <a:pPr marL="270000" indent="-270000">
              <a:lnSpc>
                <a:spcPct val="13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tempelGaramond Roman"/>
              </a:rPr>
              <a:t>Technology</a:t>
            </a:r>
            <a:endParaRPr b="0" lang="en-US" sz="2600" spc="-1" strike="noStrike">
              <a:solidFill>
                <a:srgbClr val="000000"/>
              </a:solidFill>
              <a:latin typeface="StempelGaramond Roman"/>
            </a:endParaRPr>
          </a:p>
          <a:p>
            <a:pPr marL="270000" indent="-270000">
              <a:lnSpc>
                <a:spcPct val="13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tempelGaramond Roman"/>
              </a:rPr>
              <a:t>Team</a:t>
            </a:r>
            <a:endParaRPr b="0" lang="en-US" sz="2600" spc="-1" strike="noStrike">
              <a:solidFill>
                <a:srgbClr val="000000"/>
              </a:solidFill>
              <a:latin typeface="StempelGaramond Roman"/>
            </a:endParaRPr>
          </a:p>
          <a:p>
            <a:pPr marL="270000" indent="-270000">
              <a:lnSpc>
                <a:spcPct val="13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tempelGaramond Roman"/>
              </a:rPr>
              <a:t>Approach to Continuous Improvement</a:t>
            </a:r>
            <a:r>
              <a:rPr b="0" lang="en-US" sz="2200" spc="-1" strike="noStrike">
                <a:solidFill>
                  <a:srgbClr val="000000"/>
                </a:solidFill>
                <a:latin typeface="StempelGaramond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StempelGaramon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StempelGaramond Roman"/>
              </a:rPr>
              <a:t>RECRUITMENT STRATEGY</a:t>
            </a:r>
            <a:r>
              <a:rPr b="1" lang="en-US" sz="3000" spc="-1" strike="noStrike">
                <a:solidFill>
                  <a:srgbClr val="575f6d"/>
                </a:solidFill>
                <a:latin typeface="StempelGaramond Roman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Recruitment Strategy for Top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Recruitment Strategy for Managerial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Recruitment Strategy for Stor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18433"/>
          <p:cNvSpPr/>
          <p:nvPr/>
        </p:nvSpPr>
        <p:spPr>
          <a:xfrm>
            <a:off x="1905120" y="2057400"/>
            <a:ext cx="6094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8434"/>
          <p:cNvSpPr/>
          <p:nvPr/>
        </p:nvSpPr>
        <p:spPr>
          <a:xfrm>
            <a:off x="6781680" y="2057400"/>
            <a:ext cx="7621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493560" y="1023840"/>
            <a:ext cx="7882200" cy="2841840"/>
          </a:xfrm>
          <a:prstGeom prst="rect">
            <a:avLst/>
          </a:prstGeom>
          <a:ln w="0">
            <a:noFill/>
          </a:ln>
        </p:spPr>
      </p:pic>
      <p:sp>
        <p:nvSpPr>
          <p:cNvPr id="608" name="TextBox 6"/>
          <p:cNvSpPr/>
          <p:nvPr/>
        </p:nvSpPr>
        <p:spPr>
          <a:xfrm>
            <a:off x="457200" y="274680"/>
            <a:ext cx="8001000" cy="7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StempelGaramond Roman"/>
                <a:ea typeface="StempelGaramond Roman"/>
              </a:rPr>
              <a:t>TALENT SOUR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2"/>
          <a:stretch/>
        </p:blipFill>
        <p:spPr>
          <a:xfrm>
            <a:off x="487440" y="3767040"/>
            <a:ext cx="7943760" cy="131148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3"/>
          <a:stretch/>
        </p:blipFill>
        <p:spPr>
          <a:xfrm>
            <a:off x="487440" y="4962600"/>
            <a:ext cx="79437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7956720" cy="4803840"/>
          </a:xfrm>
          <a:prstGeom prst="rect">
            <a:avLst/>
          </a:prstGeom>
          <a:ln w="0">
            <a:noFill/>
          </a:ln>
        </p:spPr>
      </p:pic>
      <p:sp>
        <p:nvSpPr>
          <p:cNvPr id="612" name="TextBox 2"/>
          <p:cNvSpPr/>
          <p:nvPr/>
        </p:nvSpPr>
        <p:spPr>
          <a:xfrm>
            <a:off x="838080" y="457200"/>
            <a:ext cx="74678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StempelGaramond Roman"/>
                <a:ea typeface="StempelGaramond Roman"/>
              </a:rPr>
              <a:t>RECRUITMENT ACTION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603360" y="835200"/>
            <a:ext cx="7785000" cy="4498920"/>
          </a:xfrm>
          <a:prstGeom prst="rect">
            <a:avLst/>
          </a:prstGeom>
          <a:ln w="0">
            <a:noFill/>
          </a:ln>
        </p:spPr>
      </p:pic>
      <p:sp>
        <p:nvSpPr>
          <p:cNvPr id="614" name="TextBox 2"/>
          <p:cNvSpPr/>
          <p:nvPr/>
        </p:nvSpPr>
        <p:spPr>
          <a:xfrm>
            <a:off x="457200" y="274680"/>
            <a:ext cx="746748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StempelGaramond Roman"/>
                <a:ea typeface="StempelGaramond Roman"/>
              </a:rPr>
              <a:t>EXPAT RECRUITMENT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603360" y="1219320"/>
            <a:ext cx="7785000" cy="4498920"/>
          </a:xfrm>
          <a:prstGeom prst="rect">
            <a:avLst/>
          </a:prstGeom>
          <a:ln w="0">
            <a:noFill/>
          </a:ln>
        </p:spPr>
      </p:pic>
      <p:sp>
        <p:nvSpPr>
          <p:cNvPr id="616" name="TextBox 2"/>
          <p:cNvSpPr/>
          <p:nvPr/>
        </p:nvSpPr>
        <p:spPr>
          <a:xfrm>
            <a:off x="380880" y="274680"/>
            <a:ext cx="8153640" cy="102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StempelGaramond Roman"/>
              </a:rPr>
              <a:t>CORPORATE /GROUP LEADERS , TOP &amp; SENIOR LEADERS </a:t>
            </a:r>
            <a:r>
              <a:rPr b="1" lang="en-US" sz="3000" spc="-1" strike="noStrike">
                <a:solidFill>
                  <a:srgbClr val="575f6d"/>
                </a:solidFill>
                <a:latin typeface="StempelGaramond Roman"/>
                <a:ea typeface="StempelGaramond Roman"/>
              </a:rPr>
              <a:t>RECRUITMENT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603360" y="1292400"/>
            <a:ext cx="7785000" cy="4498920"/>
          </a:xfrm>
          <a:prstGeom prst="rect">
            <a:avLst/>
          </a:prstGeom>
          <a:ln w="0">
            <a:noFill/>
          </a:ln>
        </p:spPr>
      </p:pic>
      <p:sp>
        <p:nvSpPr>
          <p:cNvPr id="618" name="TextBox 2"/>
          <p:cNvSpPr/>
          <p:nvPr/>
        </p:nvSpPr>
        <p:spPr>
          <a:xfrm>
            <a:off x="762120" y="274680"/>
            <a:ext cx="746748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StempelGaramond Roman"/>
                <a:ea typeface="StempelGaramond Roman"/>
              </a:rPr>
              <a:t>MIDDLE  &amp; NEW LEADERS RECRUITMENT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07:57:39Z</dcterms:created>
  <dc:creator>htl</dc:creator>
  <dc:description/>
  <dc:language>en-US</dc:language>
  <cp:lastModifiedBy>Huy</cp:lastModifiedBy>
  <dcterms:modified xsi:type="dcterms:W3CDTF">2008-09-13T05:11:06Z</dcterms:modified>
  <cp:revision>34</cp:revision>
  <dc:subject/>
  <dc:title>Slide 1</dc:title>
</cp:coreProperties>
</file>