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0B29-4AE0-4E2A-9954-900A14D23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D879-67A6-4442-857C-F0E2CD668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96E5-185D-4CB1-8150-259E4A2A2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08E2-D2E4-4624-BDD1-9B1ABEA7A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EFFC-BB5F-47FD-A6FD-3321C789B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8239-19E2-4D21-8391-2CE18CA19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0D6E-B185-42EE-A480-F5868130B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31A9-C456-4D44-92D5-CFA721D14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9F6D-68D7-415A-9DBE-3A802E7E5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7C91-7AC0-4164-B95C-C46ED98E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5E8B-8738-4202-924A-53FDC674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DA31-C805-4E61-B6C5-12F39A7A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E0CAC-3930-4793-B53E-CFF143FC4234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4.xml"/><Relationship Id="rId3" Type="http://schemas.openxmlformats.org/officeDocument/2006/relationships/image" Target="../media/image7.jpeg"/><Relationship Id="rId4" Type="http://schemas.openxmlformats.org/officeDocument/2006/relationships/slide" Target="slide6.xml"/><Relationship Id="rId5" Type="http://schemas.openxmlformats.org/officeDocument/2006/relationships/image" Target="../media/image7.jpeg"/><Relationship Id="rId6" Type="http://schemas.openxmlformats.org/officeDocument/2006/relationships/slide" Target="slide8.xml"/><Relationship Id="rId7" Type="http://schemas.openxmlformats.org/officeDocument/2006/relationships/image" Target="../media/image7.jpeg"/><Relationship Id="rId8" Type="http://schemas.openxmlformats.org/officeDocument/2006/relationships/slide" Target="slide9.xml"/><Relationship Id="rId9" Type="http://schemas.openxmlformats.org/officeDocument/2006/relationships/image" Target="../media/image8.jpeg"/><Relationship Id="rId10" Type="http://schemas.openxmlformats.org/officeDocument/2006/relationships/hyperlink" Target="file:///../&#1601;&#1607;&#1585;&#1587;%20&#1575;&#1604;&#1578;&#1585;&#1575;&#1606;&#1610;&#1605;.pps" TargetMode="External"/><Relationship Id="rId11" Type="http://schemas.openxmlformats.org/officeDocument/2006/relationships/image" Target="../media/image8.jpeg"/><Relationship Id="rId12" Type="http://schemas.openxmlformats.org/officeDocument/2006/relationships/slide" Target="slide2.xml"/><Relationship Id="rId13" Type="http://schemas.openxmlformats.org/officeDocument/2006/relationships/image" Target="../media/image7.jpeg"/><Relationship Id="rId1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838080" y="-387360"/>
            <a:ext cx="10820160" cy="745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828720" y="1200240"/>
            <a:ext cx="10658520" cy="70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000000"/>
                </a:solidFill>
                <a:latin typeface="Times New Roman"/>
              </a:rPr>
              <a:t>النعمة غنيـــة النعمــة عطيــة</a:t>
            </a:r>
            <a:r>
              <a:rPr b="1" lang="ar-EG" sz="7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ar-SA" sz="7000" spc="-1" strike="noStrike">
                <a:solidFill>
                  <a:srgbClr val="000000"/>
                </a:solidFill>
                <a:latin typeface="Times New Roman"/>
              </a:rPr>
              <a:t>النعمـة غنية عملها عظيم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000000"/>
                </a:solidFill>
                <a:latin typeface="Times New Roman"/>
              </a:rPr>
              <a:t>النعمة عطية منحها الكريم</a:t>
            </a:r>
            <a:r>
              <a:rPr b="1" lang="ar-EG" sz="7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lang="ar-SA" sz="7000" spc="-1" strike="noStrike">
                <a:solidFill>
                  <a:srgbClr val="000000"/>
                </a:solidFill>
                <a:latin typeface="Times New Roman"/>
              </a:rPr>
              <a:t>بالنعمة نحن مخلصين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564000" y="-17136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69" name="">
            <a:hlinkClick r:id="rId2" action="ppaction://hlinksldjump"/>
          </p:cNvPr>
          <p:cNvSpPr/>
          <p:nvPr/>
        </p:nvSpPr>
        <p:spPr>
          <a:xfrm>
            <a:off x="5292720" y="1413000"/>
            <a:ext cx="3816360" cy="707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ar-EG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من مزايا النعم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4" action="ppaction://hlinksldjump"/>
          </p:cNvPr>
          <p:cNvSpPr/>
          <p:nvPr/>
        </p:nvSpPr>
        <p:spPr>
          <a:xfrm>
            <a:off x="5292720" y="2433600"/>
            <a:ext cx="3816360" cy="7081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ar-EG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من عطاياه النعم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6" action="ppaction://hlinksldjump"/>
          </p:cNvPr>
          <p:cNvSpPr/>
          <p:nvPr/>
        </p:nvSpPr>
        <p:spPr>
          <a:xfrm>
            <a:off x="5292720" y="3441600"/>
            <a:ext cx="3816360" cy="7081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1" lang="ar-EG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من ينبوع النعم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8" action="ppaction://hlinksldjump"/>
          </p:cNvPr>
          <p:cNvSpPr/>
          <p:nvPr/>
        </p:nvSpPr>
        <p:spPr>
          <a:xfrm>
            <a:off x="108000" y="1281240"/>
            <a:ext cx="4176720" cy="7077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القرار : النعمة غنية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2">
            <a:hlinkClick r:id="rId10"/>
          </p:cNvPr>
          <p:cNvSpPr/>
          <p:nvPr/>
        </p:nvSpPr>
        <p:spPr>
          <a:xfrm>
            <a:off x="900000" y="260280"/>
            <a:ext cx="2519640" cy="119124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  <a:effectLst>
            <a:outerShdw dist="28496" dir="92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ff"/>
                </a:solidFill>
                <a:latin typeface="Arial"/>
                <a:cs typeface="Arial"/>
              </a:rPr>
              <a:t>فهرس التراني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12" action="ppaction://hlinksldjump"/>
          </p:cNvPr>
          <p:cNvSpPr/>
          <p:nvPr/>
        </p:nvSpPr>
        <p:spPr>
          <a:xfrm>
            <a:off x="5292720" y="417600"/>
            <a:ext cx="3816360" cy="7077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ar-EG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شبكة النعم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1328760"/>
            <a:ext cx="9144000" cy="665064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rial"/>
              </a:rPr>
              <a:t>شبكة النعمة صادتن</a:t>
            </a:r>
            <a:r>
              <a:rPr b="1" lang="ar-KW" sz="6600" spc="-1" strike="noStrike">
                <a:solidFill>
                  <a:srgbClr val="ffffff"/>
                </a:solidFill>
                <a:latin typeface="Arial"/>
                <a:cs typeface="Arial"/>
              </a:rPr>
              <a:t>ي </a:t>
            </a: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rial"/>
              </a:rPr>
              <a:t>ربطتنى رجعتنى وصلتنى للصليب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rial"/>
              </a:rPr>
              <a:t>مسكتنى ساعدتنى عرفتنى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            </a:t>
            </a: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rial"/>
              </a:rPr>
              <a:t>بالفادى العجيب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838080" y="-387360"/>
            <a:ext cx="10820160" cy="7456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-828720" y="1200240"/>
            <a:ext cx="10658520" cy="70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000000"/>
                </a:solidFill>
                <a:latin typeface="Times New Roman"/>
              </a:rPr>
              <a:t>النعمة غنيـــة النعمــة عطيــة</a:t>
            </a:r>
            <a:r>
              <a:rPr b="1" lang="ar-EG" sz="7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ar-SA" sz="7000" spc="-1" strike="noStrike">
                <a:solidFill>
                  <a:srgbClr val="000000"/>
                </a:solidFill>
                <a:latin typeface="Times New Roman"/>
              </a:rPr>
              <a:t>النعمـة غنية عملها عظيم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000000"/>
                </a:solidFill>
                <a:latin typeface="Times New Roman"/>
              </a:rPr>
              <a:t>النعمة عطية منحها الكريم</a:t>
            </a:r>
            <a:r>
              <a:rPr b="1" lang="ar-EG" sz="7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lang="ar-SA" sz="7000" spc="-1" strike="noStrike">
                <a:solidFill>
                  <a:srgbClr val="000000"/>
                </a:solidFill>
                <a:latin typeface="Times New Roman"/>
              </a:rPr>
              <a:t>بالنعمة نحن مخلصين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564000" y="-17136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-541440" y="1414440"/>
            <a:ext cx="10476000" cy="5645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rial"/>
              </a:rPr>
              <a:t>من مزايا النعمة نجتنى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ar-SA" sz="6600" spc="-1" strike="noStrike">
                <a:solidFill>
                  <a:srgbClr val="ffffff"/>
                </a:solidFill>
                <a:latin typeface="Arial"/>
                <a:ea typeface="Arial"/>
              </a:rPr>
              <a:t>    أنقذتنى أعتقتنى سلمتنى للحبيب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rial"/>
              </a:rPr>
              <a:t>ريحتنى أبهجتنى أسعدتنى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               </a:t>
            </a: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rial"/>
              </a:rPr>
              <a:t>بأعظم نصيب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838080" y="-387360"/>
            <a:ext cx="10820160" cy="7456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-828720" y="1200240"/>
            <a:ext cx="10658520" cy="70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000000"/>
                </a:solidFill>
                <a:latin typeface="Times New Roman"/>
              </a:rPr>
              <a:t>النعمة غنيـــة النعمــة عطيــة</a:t>
            </a:r>
            <a:r>
              <a:rPr b="1" lang="ar-EG" sz="7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ar-SA" sz="7000" spc="-1" strike="noStrike">
                <a:solidFill>
                  <a:srgbClr val="000000"/>
                </a:solidFill>
                <a:latin typeface="Times New Roman"/>
              </a:rPr>
              <a:t>النعمـة غنية عملها عظيم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000000"/>
                </a:solidFill>
                <a:latin typeface="Times New Roman"/>
              </a:rPr>
              <a:t>النعمة عطية منحها الكريم</a:t>
            </a:r>
            <a:r>
              <a:rPr b="1" lang="ar-EG" sz="7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lang="ar-SA" sz="7000" spc="-1" strike="noStrike">
                <a:solidFill>
                  <a:srgbClr val="000000"/>
                </a:solidFill>
                <a:latin typeface="Times New Roman"/>
              </a:rPr>
              <a:t>بالنعمة نحن مخلصين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64000" y="-17136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1598760"/>
            <a:ext cx="9144000" cy="697104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  <a:cs typeface="Arial"/>
              </a:rPr>
              <a:t>من عطايا النعمة فديتنى</a:t>
            </a:r>
            <a:r>
              <a:rPr b="1" lang="ar-EG" sz="6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</a:t>
            </a:r>
            <a:r>
              <a:rPr b="1" lang="ar-SA" sz="6000" spc="-1" strike="noStrike">
                <a:solidFill>
                  <a:srgbClr val="ffffff"/>
                </a:solidFill>
                <a:latin typeface="Arial"/>
                <a:cs typeface="Arial"/>
              </a:rPr>
              <a:t>حررتنى خلصتنى صالحتنى بالسماء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  <a:cs typeface="Arial"/>
              </a:rPr>
              <a:t>علمتنى حكمتنى فرحتنى</a:t>
            </a:r>
            <a:r>
              <a:rPr b="1" lang="ar-EG" sz="6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</a:t>
            </a:r>
            <a:r>
              <a:rPr b="1" lang="ar-SA" sz="6000" spc="-1" strike="noStrike">
                <a:solidFill>
                  <a:srgbClr val="ffffff"/>
                </a:solidFill>
                <a:latin typeface="Arial"/>
                <a:cs typeface="Arial"/>
              </a:rPr>
              <a:t>بأعظم رجاء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838080" y="-387360"/>
            <a:ext cx="10820160" cy="7456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-828720" y="1200240"/>
            <a:ext cx="10658520" cy="70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000000"/>
                </a:solidFill>
                <a:latin typeface="Times New Roman"/>
              </a:rPr>
              <a:t>النعمة غنيـــة النعمــة عطيــة</a:t>
            </a:r>
            <a:r>
              <a:rPr b="1" lang="ar-EG" sz="7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ar-SA" sz="7000" spc="-1" strike="noStrike">
                <a:solidFill>
                  <a:srgbClr val="000000"/>
                </a:solidFill>
                <a:latin typeface="Times New Roman"/>
              </a:rPr>
              <a:t>النعمـة غنية عملها عظيم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000000"/>
                </a:solidFill>
                <a:latin typeface="Times New Roman"/>
              </a:rPr>
              <a:t>النعمة عطية منحها الكريم</a:t>
            </a:r>
            <a:r>
              <a:rPr b="1" lang="ar-EG" sz="7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lang="ar-SA" sz="7000" spc="-1" strike="noStrike">
                <a:solidFill>
                  <a:srgbClr val="000000"/>
                </a:solidFill>
                <a:latin typeface="Times New Roman"/>
              </a:rPr>
              <a:t>بالنعمة نحن مخلصين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64000" y="-17136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1114560"/>
            <a:ext cx="9144000" cy="81799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rial"/>
              </a:rPr>
              <a:t>من ينبوع النعمة روتنى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rial"/>
              </a:rPr>
              <a:t>انعشتنى اخذتنى ادخلتنى للنجاة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rial"/>
              </a:rPr>
              <a:t>متعتنى اطعمتنى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              </a:t>
            </a: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rial"/>
              </a:rPr>
              <a:t>اشبعتنى بخبز الحياة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838080" y="-387360"/>
            <a:ext cx="10820160" cy="74563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-828720" y="1200240"/>
            <a:ext cx="10658520" cy="70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000000"/>
                </a:solidFill>
                <a:latin typeface="Times New Roman"/>
              </a:rPr>
              <a:t>النعمة غنيـــة النعمــة عطيــة</a:t>
            </a:r>
            <a:r>
              <a:rPr b="1" lang="ar-EG" sz="7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ar-SA" sz="7000" spc="-1" strike="noStrike">
                <a:solidFill>
                  <a:srgbClr val="000000"/>
                </a:solidFill>
                <a:latin typeface="Times New Roman"/>
              </a:rPr>
              <a:t>النعمـة غنية عملها عظيم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000000"/>
                </a:solidFill>
                <a:latin typeface="Times New Roman"/>
              </a:rPr>
              <a:t>النعمة عطية منحها الكريم</a:t>
            </a:r>
            <a:r>
              <a:rPr b="1" lang="ar-EG" sz="7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lang="ar-SA" sz="7000" spc="-1" strike="noStrike">
                <a:solidFill>
                  <a:srgbClr val="000000"/>
                </a:solidFill>
                <a:latin typeface="Times New Roman"/>
              </a:rPr>
              <a:t>بالنعمة نحن مخلصين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64000" y="-17136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0T18:51:45Z</dcterms:created>
  <dc:creator>albret</dc:creator>
  <dc:description/>
  <dc:language>en-US</dc:language>
  <cp:lastModifiedBy>Sp2</cp:lastModifiedBy>
  <dcterms:modified xsi:type="dcterms:W3CDTF">2008-09-02T13:49:00Z</dcterms:modified>
  <cp:revision>10</cp:revision>
  <dc:subject/>
  <dc:title>لا يوجد عنوان للشريحة</dc:title>
</cp:coreProperties>
</file>