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0EA-3920-4A97-B99F-B0F5A0DC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5DB-4B9D-412D-A1FC-649DF92C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3B6-FF1E-45B9-8EA0-36558FF3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F8D-10D9-44AB-A122-126F061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190-5987-4FCC-A834-6064CA4C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63A-9C4D-4F6B-9631-4C0C3D2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BD2-7704-4EC9-8E6C-EE949B05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B80-F8F4-4772-9C33-491A065A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251-B71C-4174-8C6A-6A04265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672-59E8-4197-9CBE-92DA3FB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297-F71C-40A0-9245-C656CA78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736-70B8-4F31-BB93-C2A7301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8707-B552-48F6-B0A3-ABC232BE9D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19:32Z</dcterms:created>
  <dc:creator>최봉수</dc:creator>
  <dc:description/>
  <dc:language>en-US</dc:language>
  <cp:lastModifiedBy>맛있다 군만두</cp:lastModifiedBy>
  <dcterms:modified xsi:type="dcterms:W3CDTF">2024-10-01T03:13:46Z</dcterms:modified>
  <cp:revision>3</cp:revision>
  <dc:subject/>
  <dc:title>슬라이드 1</dc:title>
</cp:coreProperties>
</file>