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D56-F501-4BD8-818B-640EE801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C75-731A-4CEE-8836-76393295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C5C-6523-4D36-B52B-DFB46EAB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6FF-540B-42B1-83A8-393A084D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A51-FA44-4C20-9E01-D0E323DF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8E3-82A1-4569-8F16-B415482B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B91-9A76-4D1F-B1A3-6724619E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201-4997-4EED-BCFA-BB13215D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A15-2BB0-4E41-B6AD-9BC00827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FB3-4BBF-4A2E-863D-386FE0BE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46F-0605-463E-AFB8-C30C95A7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FD6-8347-45FD-9141-F288C800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87736-AB28-4633-B5DA-02A3954578F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8:19:32Z</dcterms:created>
  <dc:creator>최봉수</dc:creator>
  <dc:description/>
  <dc:language>en-US</dc:language>
  <cp:lastModifiedBy>맛있다 군만두</cp:lastModifiedBy>
  <dcterms:modified xsi:type="dcterms:W3CDTF">2024-10-01T03:13:46Z</dcterms:modified>
  <cp:revision>3</cp:revision>
  <dc:subject/>
  <dc:title>슬라이드 1</dc:title>
</cp:coreProperties>
</file>