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4F8-DF47-4E26-8ACB-3213361A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2D26-F84A-4615-86F6-C74F01A3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04C-EE0C-48A7-8E25-3CF1C7C0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139-773A-4727-8DD7-8430909F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2C4-5C0C-4C7E-B8CB-134E3637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CE0-F2BF-44D1-A886-F784AFC2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A33-D05D-4942-B938-43400DB7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FB6-EFF1-4F6E-B103-2B8C9DFE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A04-708E-41AB-A152-7C8CAF68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072-7257-4BBE-812B-9F831883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310-29B5-43B2-8C47-EB511EBA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EFF-B7D0-45E7-B323-02783CBD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60B09-33E3-4C1A-A737-A205A992F71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F8228-B045-4088-914A-7B0B9A3BA47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3:40:14Z</dcterms:created>
  <dc:creator>최봉수</dc:creator>
  <dc:description/>
  <dc:language>en-US</dc:language>
  <cp:lastModifiedBy>맛있다 군만두</cp:lastModifiedBy>
  <dcterms:modified xsi:type="dcterms:W3CDTF">2024-10-01T02:59:27Z</dcterms:modified>
  <cp:revision>4</cp:revision>
  <dc:subject/>
  <dc:title>슬라이드 1</dc:title>
</cp:coreProperties>
</file>