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0B8-6189-44EE-92BC-8FE33523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490-9CC1-43FF-8718-5C7034ED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0BC-CD76-4590-8DD8-3160918E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9B82-4733-43DA-BC65-52B77E3E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3FF9-F337-40D8-938C-48A12BF5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259-9D60-431E-8714-B9E607E4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974-DD9C-4CC7-9898-61474377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F76-1849-4FAD-B9F1-55005145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427-0F6A-41FF-AEFF-73D52FF1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ECF-2995-44D9-AF46-933EC3E2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9A4-6A4D-4597-8D6F-72B2A6BB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26D-5813-46AB-A213-175088CA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B03F7-B6F3-497E-94ED-86D9A5360C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59D52-683A-4521-935E-B363851A207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3:40:14Z</dcterms:created>
  <dc:creator>최봉수</dc:creator>
  <dc:description/>
  <dc:language>en-US</dc:language>
  <cp:lastModifiedBy>맛있다 군만두</cp:lastModifiedBy>
  <dcterms:modified xsi:type="dcterms:W3CDTF">2024-10-01T02:59:27Z</dcterms:modified>
  <cp:revision>4</cp:revision>
  <dc:subject/>
  <dc:title>슬라이드 1</dc:title>
</cp:coreProperties>
</file>